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C76D-C878-4D75-8E98-78BCC779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A922-A4DE-4DDB-BABC-4BFA8643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02B3-767C-4BBE-B067-5FB45F4FE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23F7-C51E-489D-91D9-CD2A9074F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9FB9-8EDB-4380-8772-4680FFBE7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E182-1746-445F-BA73-AD26C0805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D860-5717-47DE-8743-C9BFD5178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56793-DAAB-4206-9C57-ECB5D845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37268-0114-4FEF-980B-86E43D005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52F4-3FF2-4A12-AC1B-A62950935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2590-72F2-44CC-9F48-807079308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FDF7-328C-44C4-8952-FB80CFE6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B520-15CF-4804-A1F6-C472EA1E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B13E-3500-4923-BEA1-6542D108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9993E-F589-4D54-B107-4532E7F9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B440-FF82-4FB8-A284-B56E6DCA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52B25-AC57-44BF-8AF0-AEB1BC505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6D06-9AA9-47ED-9C25-25370767F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8726-4CDE-4C3B-967D-BE2E0411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2CF5-41DB-429F-A1E7-CCF90EB6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4A1A-31F8-4AD3-BAC9-2296381B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C62D-D84E-4AD6-9331-D13B9FCD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3847-3AFE-433B-9063-C354B2E4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70AC-2256-482A-BC96-3F3FACF2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CE70B-5B54-4A79-92C0-663E75C6705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57D21-6BC7-46C6-ABD0-5D27D6D68A3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law.umkc.edu/faculty/projects/ftrials/salem/SALEM.HTM" TargetMode="External"/><Relationship Id="rId2" Type="http://schemas.openxmlformats.org/officeDocument/2006/relationships/hyperlink" Target="http://school.discoveryeducation.com/schooladventures/salemwitchtrials/" TargetMode="External"/><Relationship Id="rId3" Type="http://schemas.openxmlformats.org/officeDocument/2006/relationships/hyperlink" Target="http://www.salemweb.com/guide/witches2.shtml?f=3&amp;i=2" TargetMode="External"/><Relationship Id="rId4" Type="http://schemas.openxmlformats.org/officeDocument/2006/relationships/hyperlink" Target="http://www.nationalgeographic.com/salem/index.html?fs=plasma.nationalgeographic.com" TargetMode="External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alemweb.com/memorial/chronology.shtml" TargetMode="External"/><Relationship Id="rId2" Type="http://schemas.openxmlformats.org/officeDocument/2006/relationships/hyperlink" Target="http://www.salemwitchtrials.com/salemwitchcraft.html" TargetMode="External"/><Relationship Id="rId3" Type="http://schemas.openxmlformats.org/officeDocument/2006/relationships/hyperlink" Target="http://www.eyewitnesstohistory.com/salem.htm" TargetMode="Externa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.J &amp; N.J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The Sacrific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.J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75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324480" y="4343400"/>
            <a:ext cx="2590920" cy="1990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581280" y="1600200"/>
            <a:ext cx="4191120" cy="2308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04920" y="2590920"/>
            <a:ext cx="2857320" cy="2957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3276720" y="4419720"/>
            <a:ext cx="2962080" cy="1990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457200" y="1522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1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the witch trials more than 200 people were accused of witchcraf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the witch trails more than 100 people d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Histo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295280" y="20574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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he witch trails happened in 196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Quiz Tim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itch trials went on for how long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1 ye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2 yea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5 yea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10 yea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rrect answer is A. 1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Quiz Tim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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people where accused of witch craft 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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 people where acc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tions by: N.J and C.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ides by: Chance, D.J, Nate, Ja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dits by: Ch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ation by: Chance, D.J, Nate, Ja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5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5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5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5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law.umkc.edu/faculty/projects/ftrials/salem/SALEM.HTM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school.discoveryeducation.com/schooladventures/salemwitchtrials/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http://www.salemweb.com/guide/witches2.shtml?f=3&amp;i=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http://www.nationalgeographic.com/salem/index.html?fs=plasma.nationalgeographic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429000" y="60948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Sour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salemweb.com/memorial/chronology.s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www.salemwitchtrials.com/salemwitchcraft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http://www.eyewitnesstohistory.com/salem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smithsonianmag.com/history-archaeology/brief-salem.htm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819520" y="609480"/>
            <a:ext cx="3504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urces (cont.)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77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8" dur="77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0" dur="77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2" dur="77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77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77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1" dur="77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77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6" dur="770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8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0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77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5" dur="770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7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9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en.wikipedia.org/wiki/Salem_witch_t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jefferson.village.virginia.edu:8090/saxon/servlet/SaxonServlet?source=salem/texts/names.xml&amp;style=salem/xsl/dynaxml.xsl&amp;group.num=all&amp;clear-stylesheet-cache=y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057400" y="685800"/>
            <a:ext cx="4495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ources (cont. cont.)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lig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Puritan religion They thought the Devil was as powerful as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uritan religion had a very big role in the society because everybody followed that reli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chcraft was considered a very big crime in Puritan reli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ligion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urch was the corner stone of the centu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Puritan religion they were all expected to live by a rigid moral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group of woman to be convicted of witchcraft was Sarah Good a homeless beggar and Sarah Osborne a sickly old woman who married her serv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Did You Lea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were the First group of woman to be accused of witchcraft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rah Osborne &amp; Sarah G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Did the Puritan Religion think was as powerful as G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the corner stone of the Cen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urch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Did You Lea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Puritan Religion what were they expected to live b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igid Moral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Puritans settled w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Engl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Church Congregation was individually responsible to w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Famili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mily’s had made there own clothes, food, and shel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also took everyone to help because it was a lot of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always did there chores on a specific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6.2963E-006 C -0.0309 0.00117 -0.03541 0.00348 -0.06284 6.2963E-006 C -0.06753 -0.00161 -0.07135 -0.00624 -0.07569 -0.00786 C -0.08211 -0.01041 -0.08889 -0.00995 -0.09548 -0.01087 C -0.10486 -0.01527 -0.11701 -0.01527 -0.12673 -0.01712 C -0.13455 -0.02059 -0.13802 -0.02777 -0.14548 -0.03263 C -0.1493 -0.03518 -0.15711 -0.04027 -0.15711 -0.04027 C -0.1585 -0.04837 -0.16198 -0.05346 -0.1651 -0.06041 C -0.16979 -0.08425 -0.16146 -0.04421 -0.16979 -0.07453 C -0.17066 -0.07754 -0.17031 -0.08078 -0.171 -0.08379 C -0.17309 -0.09421 -0.17708 -0.10485 -0.18038 -0.11481 C -0.18142 -0.12661 -0.18246 -0.13865 -0.18385 -0.15046 C -0.18298 -0.18124 -0.18281 -0.20763 -0.17673 -0.23726 C -0.17361 -0.25277 -0.16666 -0.26643 -0.16163 -0.28078 C -0.15104 -0.31041 -0.16493 -0.28124 -0.15347 -0.30393 C -0.15139 -0.32268 -0.14843 -0.34606 -0.16059 -0.35809 C -0.16441 -0.36874 -0.17135 -0.37522 -0.17673 -0.38448 C -0.18246 -0.39421 -0.18715 -0.40462 -0.19305 -0.41411 C -0.19826 -0.42221 -0.20521 -0.42777 -0.21059 -0.43564 C -0.21892 -0.44791 -0.22725 -0.45671 -0.23958 -0.46041 C -0.26771 -0.45671 -0.2743 -0.45439 -0.29774 -0.44513 C -0.3184 -0.42823 -0.3059 -0.43934 -0.33385 -0.40925 C -0.33767 -0.40532 -0.34253 -0.4037 -0.34652 -0.39999 C -0.35972 -0.38772 -0.37291 -0.37383 -0.38489 -0.35971 C -0.39566 -0.3243 -0.38073 -0.36666 -0.41059 -0.31944 C -0.41684 -0.30971 -0.42916 -0.29004 -0.42916 -0.29004 C -0.43368 -0.27221 -0.43593 -0.25485 -0.4408 -0.23726 C -0.4434 -0.19444 -0.43975 -0.23819 -0.44548 -0.19999 C -0.44843 -0.18008 -0.44878 -0.16087 -0.45243 -0.1412 C -0.45764 -0.06666 -0.4559 -0.09675 -0.45798 -0.05115 C -0.45694 -0.03147 -0.45659 -0.0118 -0.45468 0.00765 C -0.45156 0.03774 -0.44149 0.06667 -0.43264 0.09445 C -0.43107 0.09954 -0.43021 0.10533 -0.42795 0.10996 C -0.42517 0.11575 -0.42048 0.11968 -0.41753 0.12547 C -0.40989 0.14005 -0.40833 0.15348 -0.39774 0.16436 C -0.39409 0.16806 -0.37621 0.17501 -0.37326 0.17663 C -0.35225 0.18728 -0.3342 0.1889 -0.31163 0.19075 C -0.27048 0.18797 -0.24826 0.18542 -0.21284 0.17825 C -0.18767 0.16459 -0.16527 0.15417 -0.14652 0.12709 C -0.1342 0.10927 -0.13402 0.08265 -0.12673 0.06204 C -0.11666 0.03334 -0.11128 0.03265 -0.09201 0.01089 C -0.08698 -0.01157 -0.08663 -0.0361 -0.07916 -0.0574 C -0.07413 -0.07152 -0.0651 -0.08217 -0.05816 -0.09467 C -0.05173 -0.16411 -0.02448 -0.22314 -0.01163 -0.29004 C -0.00816 -0.30809 -0.00538 -0.32638 -0.00121 -0.34421 C 0.00278 -0.36157 0.0092 -0.37777 0.01268 -0.39536 C 0.01875 -0.42546 0.02778 -0.4868 0.02778 -0.4868 C 0.03056 -0.53425 0.03264 -0.56157 0.03368 -0.60462 C 0.03473 -0.64629 0.03264 -0.67198 0.04184 -0.70694 C 0.06042 -0.703 0.05868 -0.70138 0.07674 -0.6868 C 0.08004 -0.68425 0.08386 -0.68333 0.08716 -0.68078 C 0.09948 -0.67129 0.11146 -0.66157 0.12327 -0.65115 C 0.13559 -0.64027 0.15556 -0.60092 0.15799 -0.59698 C 0.2007 -0.52546 0.15712 -0.61596 0.20348 -0.51018 C 0.21233 -0.48981 0.21111 -0.46388 0.21736 -0.44189 C 0.22066 -0.43008 0.22657 -0.42013 0.23125 -0.40925 C 0.23716 -0.35277 0.25365 -0.30069 0.27205 -0.24976 C 0.27466 -0.20624 0.2849 -0.20647 0.30695 -0.17059 C 0.31164 -0.16296 0.31563 -0.15439 0.31962 -0.14583 C 0.32188 -0.14096 0.32292 -0.13495 0.32552 -0.13032 C 0.33073 -0.12129 0.33716 -0.11388 0.34289 -0.10555 C 0.35504 -0.06897 0.37917 -0.04652 0.39532 -0.01411 C 0.39809 -0.00254 0.39879 0.00718 0.40452 0.01691 C 0.40539 0.03751 0.40539 0.04052 0.40799 0.05579 C 0.40539 0.10973 0.40782 0.17964 0.36042 0.19677 C 0.33993 0.21714 0.36945 0.18635 0.35348 0.20765 C 0.34566 0.21806 0.33646 0.22154 0.32778 0.22941 C 0.31771 0.23867 0.32674 0.23681 0.31389 0.24492 C 0.28594 0.26251 0.25677 0.27779 0.229 0.29607 C 0.21042 0.30811 0.19254 0.322 0.17431 0.33473 C 0.16545 0.34098 0.15504 0.34191 0.14532 0.34561 C 0.10799 0.37686 0.1408 0.3514 0.07431 0.38913 C 0.01789 0.42107 0.04427 0.41066 -0.00347 0.42478 C -0.01493 0.44445 -0.0243 0.44538 -0.04305 0.45417 C -0.05086 0.46297 -0.05711 0.47501 -0.06632 0.48056 C -0.08923 0.49445 -0.121 0.49422 -0.14548 0.49607 C -0.17326 0.50788 -0.18229 0.50857 -0.21163 0.50695 C -0.25659 0.4882 -0.21458 0.50533 -0.28836 0.47755 C -0.29496 0.47501 -0.30816 0.46968 -0.30816 0.46968 C -0.33402 0.44584 -0.35538 0.43473 -0.37673 0.40302 C -0.38524 0.3764 -0.39062 0.34954 -0.39774 0.32246 C -0.39687 0.25348 -0.40208 0.21112 -0.38142 0.15487 C -0.37864 0.1264 -0.36232 0.10024 -0.35 0.07755 C -0.34722 0.07246 -0.34444 0.06737 -0.34201 0.06204 C -0.33906 0.05556 -0.33715 0.04816 -0.33385 0.04191 C -0.33125 0.03681 -0.32725 0.03288 -0.32448 0.02779 C -0.30781 -0.003 -0.29357 -0.03194 -0.26875 -0.05277 C -0.23142 -0.08425 -0.24652 -0.07962 -0.21753 -0.08217 C -0.20225 -0.0905 -0.19027 -0.08032 -0.17673 -0.07291 C -0.17118 -0.0699 -0.15937 -0.06527 -0.15937 -0.06527 C -0.15677 -0.06064 -0.1526 -0.0574 -0.15 -0.05277 C -0.14861 -0.05022 -0.14705 -0.03819 -0.14548 -0.03425 C -0.14357 -0.02106 -0.14201 -0.00138 -0.13958 0.01228 C -0.13663 0.02871 -0.12777 0.04538 -0.12222 0.06042 C -0.11875 0.06968 -0.11736 0.07802 -0.11284 0.08681 C -0.1125 0.09098 -0.11267 0.09515 -0.11163 0.09908 C -0.11059 0.10302 -0.10746 0.10579 -0.10711 0.10996 C -0.10677 0.11413 -0.10868 0.11829 -0.10937 0.12246 C -0.10277 0.13982 -0.09757 0.1463 -0.10121 0.16575 C -0.08923 0.18867 -0.08177 0.21367 -0.06753 0.23404 C -0.06545 0.23704 -0.06423 0.24098 -0.06163 0.24329 C -0.05156 0.25232 -0.03854 0.25904 -0.02673 0.26343 C -0.00885 0.27871 0.01789 0.27894 0.03837 0.28218 C 0.04479 0.28473 0.05139 0.2801 0.05799 0.27894 C 0.06268 0.27825 0.06736 0.27802 0.07205 0.27755 C 0.08195 0.27292 0.07657 0.27501 0.08837 0.2713 C 0.09167 0.26667 0.09497 0.26737 0.09879 0.26343 C 0.10139 0.26066 0.10348 0.25718 0.10573 0.25417 C 0.10851 0.25047 0.11389 0.24329 0.11389 0.24329 C 0.11563 0.2345 0.11823 0.22917 0.12205 0.22154 C 0.1224 0.21853 0.12257 0.21529 0.12327 0.21228 C 0.12379 0.21019 0.12518 0.20857 0.12552 0.20626 C 0.12969 0.17848 0.12327 0.19862 0.13021 0.17987 C 0.13195 0.16089 0.13837 0.14329 0.14063 0.12408 C 0.14028 0.08473 0.14011 0.04561 0.13941 0.00626 C 0.13941 0.00579 0.13733 -0.00578 0.13716 -0.00624 C 0.13455 -0.01133 0.1257 -0.01157 0.12205 -0.01249 C 0.11111 -0.01944 0.10243 -0.01782 0.08941 -0.01874 C 0.08438 -0.01758 0.079 -0.01805 0.07431 -0.0155 C 0.07066 -0.01365 0.06511 -0.00624 0.06511 -0.00624 C 0.06164 0.00742 0.05782 0.02362 0.05 0.03404 C 0.04775 0.04121 0.04618 0.04792 0.04289 0.05417 C 0.04132 0.06621 0.03403 0.07385 0.029 0.08357 C 0.02674 0.08797 0.02518 0.09306 0.02327 0.09769 C 0.02448 0.12084 0.02309 0.14468 0.02674 0.16737 C 0.02778 0.17408 0.03351 0.17802 0.03716 0.18288 C 0.04323 0.19098 0.05 0.19792 0.05573 0.20626 C 0.06736 0.22316 0.05521 0.21459 0.06962 0.22941 C 0.07552 0.23542 0.08229 0.23936 0.08837 0.24492 C 0.08993 0.2463 0.09098 0.24908 0.09289 0.24954 C 0.09896 0.25117 0.10539 0.2507 0.11164 0.25117 C 0.13108 0.24978 0.15677 0.25996 0.16962 0.24029 C 0.1724 0.23612 0.17118 0.22848 0.17431 0.22478 C 0.23316 0.15718 0.19931 0.2132 0.21615 0.1845 C 0.21424 0.15047 0.21493 0.11575 0.21042 0.08218 C 0.20973 0.07709 0.20365 0.07686 0.20104 0.07292 C 0.18733 0.05279 0.2125 0.07478 0.18941 0.05117 C 0.17205 0.03334 0.1507 0.01297 0.13021 0.0014 C 0.11841 -0.00532 0.10313 -0.00786 0.09063 -0.01249 C 0.07292 -0.01018 0.08177 -0.01504 0.06962 6.2963E-006 C 0.06632 0.00417 0.0592 0.01228 0.0592 0.01228 C 0.05729 0.01853 0.05591 0.02501 0.05348 0.03103 C 0.05035 0.03867 0.04549 0.04468 0.04289 0.05255 C 0.03802 0.0676 0.03507 0.08357 0.03125 0.09908 C 0.029 0.12501 0.02917 0.14538 0.02084 0.16899 C 0.00903 0.20209 -0.01753 0.26667 -0.01753 0.26667 C -0.02066 0.31922 -0.02152 0.31089 -0.01632 0.37663 C -0.0158 0.38242 -0.01597 0.38959 -0.01284 0.39376 C -0.00764 0.40047 0.00052 0.40163 0.00695 0.40626 C 0.01719 0.41367 0.02691 0.422 0.03716 0.42941 C 0.04549 0.43566 0.06493 0.43681 0.07431 0.44029 C 0.08525 0.43728 0.0967 0.43681 0.10695 0.43103 C 0.11354 0.42732 0.11736 0.41783 0.12327 0.41228 C 0.1349 0.40163 0.15348 0.38774 0.16736 0.38288 C 0.15365 0.31505 0.13941 0.22871 0.09879 0.17987 C 0.07535 0.15163 0.05226 0.1088 0.01962 0.10232 C -0.00781 0.10464 0.00556 0.10626 -0.00711 0.1426 C -0.01666 0.16992 -0.02916 0.19098 -0.03489 0.22015 C -0.04288 0.26112 -0.04652 0.30279 -0.05243 0.34422 C -0.05312 0.35718 -0.05451 0.36992 -0.05468 0.38288 C -0.05486 0.39584 -0.05468 0.4088 -0.05347 0.42154 C -0.04878 0.46922 -0.01736 0.47362 0.0092 0.49144 C 0.02379 0.472 0.01441 0.46876 0.02674 0.43404 C 0.02865 0.42871 0.03368 0.42686 0.03716 0.42316 C 0.03611 0.39978 0.03889 0.37524 0.03247 0.35348 C 0.03004 0.34515 0.02518 0.3382 0.02205 0.3301 C 0.01893 0.322 0.01754 0.31297 0.01389 0.30533 C 0.00955 0.2963 -0.00034 0.2845 -0.0059 0.27593 C -0.01666 0.30788 -0.00503 0.26899 -0.01284 0.32871 C -0.02014 0.38427 -0.0335 0.43982 -0.04427 0.49445 C -0.04531 0.53982 -0.04878 0.61482 -0.04427 0.66343 C -0.03923 0.71621 0.01684 0.7338 0.04757 0.73959 C 0.06927 0.73542 0.0915 0.73496 0.11268 0.72709 C 0.1257 0.72223 0.14879 0.70232 0.14879 0.70232 C 0.15799 0.64515 0.19549 0.60973 0.22431 0.57038 C 0.27934 0.49515 0.31806 0.40186 0.36268 0.31621 C 0.36771 0.29654 0.37431 0.27755 0.37778 0.25742 C 0.38212 0.23149 0.37986 0.20348 0.38594 0.17825 C 0.39202 0.15325 0.40608 0.13288 0.41389 0.10857 C 0.42049 0.0882 0.42448 0.06644 0.429 0.04492 C 0.43611 0.01042 0.44289 -0.02407 0.44879 -0.05902 C 0.45313 -0.08425 0.45434 -0.08911 0.45695 -0.11481 C 0.45747 -0.1199 0.45851 -0.13541 0.45799 -0.13032 C 0.45591 -0.11133 0.45556 -0.09953 0.45452 -0.08078 C 0.45261 0.0139 0.4474 0.1139 0.46164 0.20765 C 0.46441 0.22617 0.47084 0.24376 0.47431 0.26204 C 0.47778 0.27987 0.47813 0.29885 0.48247 0.31621 C 0.5375 0.53427 0.49584 0.34376 0.53594 0.4882 C 0.54601 0.52431 0.55608 0.56066 0.56615 0.59677 C 0.59827 0.71251 0.54462 0.58149 0.58941 0.7132 C 0.59775 0.73774 0.60955 0.75973 0.61962 0.78288 C 0.69983 1.39237 0.9125 0.84885 -0.62916 0.84329 C -0.64392 0.84029 -0.67205 0.85371 -0.67326 0.83404 C -0.68472 0.65325 -0.67014 0.47107 -0.66406 0.28982 C -0.66354 0.27617 -0.65746 0.2639 -0.65347 0.25117 C -0.6335 0.18658 -0.6026 0.13473 -0.57222 0.07894 C -0.54809 0.03473 -0.53698 -0.00416 -0.49548 -0.02638 C -0.48715 -0.0412 -0.48385 -0.0368 -0.46857 -0.03425 C -0.45486 -0.0236 -0.43889 -0.02708 -0.42326 -0.02638 C -0.40885 -0.02476 -0.39479 -0.02291 -0.38038 -0.02175 C -0.30972 -0.00069 -0.24288 0.02316 -0.18732 0.08982 C -0.17222 0.10788 -0.15798 0.12732 -0.14427 0.14723 C -0.13489 0.16066 -0.12639 0.17501 -0.11632 0.18751 C -0.10104 0.20649 -0.08264 0.2213 -0.06875 0.24191 C -0.02934 0.30024 -0.06979 0.24191 -0.03264 0.29144 C -0.01284 0.31783 0.02327 0.36621 0.05 0.38126 C 0.11042 0.37084 0.13941 0.3257 0.18368 0.27292 C 0.20139 0.25186 0.22153 0.23473 0.23837 0.21228 C 0.26702 0.17408 0.28959 0.12802 0.31962 0.09144 C 0.43664 -0.05092 0.39479 0.00186 0.47552 -0.10092 C 0.49289 -0.12314 0.51198 -0.14328 0.52778 -0.16758 C 0.56094 -0.21874 0.58854 -0.27638 0.62327 -0.32569 C 0.65243 -0.36735 0.69566 -0.40277 0.71511 -0.45439 C 0.70191 -0.47083 0.65243 -0.42407 0.6441 -0.4155 C 0.61285 -0.38402 0.59202 -0.34791 0.56858 -0.30694 C 0.5592 -0.2905 0.54757 -0.27638 0.53941 -0.25902 C 0.53247 -0.24421 0.52986 -0.22615 0.52327 -0.21087 C 0.5092 -0.178 0.49289 -0.14675 0.47778 -0.11481 C 0.47066 -0.09999 0.46545 -0.08356 0.46164 -0.06666 C 0.45521 -0.03819 0.44757 0.02015 0.44757 0.02015 C 0.4441 0.08218 0.43316 0.17061 0.49289 0.17825 C 0.50417 0.17408 0.51615 0.17223 0.52674 0.16575 C 0.54045 0.15718 0.54236 0.14029 0.55226 0.12709 C 0.56164 0.11459 0.57361 0.10603 0.58247 0.09306 C 0.61007 0.05232 0.62448 0.000699999999999999 0.63837 -0.04976 C 0.6408 -0.10833 0.6441 -0.1412 0.63368 -0.20462 C 0.62379 -0.26481 0.58403 -0.29421 0.55226 -0.33333 C 0.53959 -0.34907 0.52188 -0.35601 0.50573 -0.36434 C 0.47066 -0.3824 0.43438 -0.39652 0.39879 -0.41249 C 0.38577 -0.41828 0.26754 -0.42152 0.26164 -0.42175 C 0.24688 -0.42129 0.23212 -0.42175 0.21736 -0.42013 C 0.17153 -0.41527 0.09271 -0.39559 0.06615 -0.33333 C 0.054 -0.30485 0.04601 -0.27823 0.03941 -0.24652 C 0.04028 -0.20925 0.03889 -0.17198 0.04184 -0.13495 C 0.04636 -0.07823 0.09427 -0.01064 0.1349 0.00626 C 0.14219 0.00464 0.14983 0.00441 0.15695 0.0014 C 0.15868 0.0007 0.15903 -0.00277 0.16042 -0.00462 C 0.16684 -0.01319 0.16927 -0.01226 0.17431 -0.02337 C 0.17795 -0.03124 0.18368 -0.04814 0.18368 -0.04814 C 0.18403 -0.07499 0.18629 -0.10184 0.1849 -0.1287 C 0.18438 -0.1405 0.15747 -0.17916 0.15695 -0.17985 C 0.13907 -0.20879 0.11598 -0.21596 0.08837 -0.22337 C 0.06927 -0.22221 0.05018 -0.22268 0.03125 -0.22013 C 0.02934 -0.2199 0.03021 -0.20879 0.03247 -0.1986 C 0.03785 -0.17476 0.05261 -0.1611 0.06389 -0.14258 C 0.09306 -0.0949 0.13368 -0.06087 0.18021 -0.0574 C 0.18177 -0.05786 0.18455 -0.05694 0.1849 -0.05902 C 0.18525 -0.0611 0.18299 -0.06342 0.18125 -0.06365 C 0.17917 -0.06388 0.17743 -0.06157 0.17552 -0.06041 C 0.17813 -0.05346 0.18108 -0.04698 0.18368 -0.04027 C 0.18507 -0.03124 0.18611 -0.02453 0.1849 -0.0155 C 0.18455 -0.00786 0.18559 0.00024 0.18368 0.00765 C 0.18334 0.0088 0.17101 0.01691 0.17084 0.01691 C 0.15868 0.0257 0.14653 0.02941 0.13368 0.03566 C 0.10608 0.04908 0.12153 0.04399 0.10226 0.04954 C 0.08716 0.06228 0.07761 0.06251 0.0592 0.06505 C 0.04792 0.06876 0.03698 0.072 0.02552 0.07431 C 0.01875 0.07894 0.00799 0.08751 0.00104 0.08982 C -0.01215 0.10047 -0.01614 0.09908 -0.03385 0.10232 C -0.04097 0.10371 -0.05468 0.10996 -0.05468 0.10996 C -0.07725 0.13542 -0.09062 0.17084 -0.10937 0.2014 C -0.11059 0.20649 -0.11319 0.21158 -0.11284 0.21691 C -0.11198 0.22964 -0.10711 0.22964 -0.09896 0.23103 C -0.07517 0.23542 -0.08871 0.23218 -0.06979 0.23704 C -0.05729 0.24445 -0.04444 0.24445 -0.03142 0.24954 C 0.01997 0.26922 0.07049 0.28126 0.12327 0.29306 C 0.16945 0.29052 0.21563 0.28936 0.26164 0.28519 C 0.27066 0.28427 0.27934 0.27848 0.28837 0.27755 C 0.29827 0.27316 0.30729 0.26829 0.31736 0.26505 C 0.33212 0.25417 0.33664 0.24214 0.34532 0.22478 C 0.35782 0.19978 0.36059 0.1926 0.36858 0.16436 C 0.37014 0.14654 0.36893 0.1257 0.36511 0.10857 C 0.3625 0.097 0.3533 0.08936 0.34532 0.08357 C 0.32691 0.06992 0.30799 0.07084 0.28716 0.06806 C 0.26667 0.0713 0.24601 0.07431 0.22552 0.07755 C 0.20434 0.08079 0.18716 0.09283 0.16736 0.10232 C 0.15243 0.1095 0.13681 0.11343 0.12205 0.12084 C 0.11094 0.1264 0.09879 0.12987 0.08941 0.13959 C 0.08594 0.14306 0.08299 0.14769 0.079 0.15024 C 0.06511 0.15904 0.04948 0.16204 0.0349 0.16899 C 0.01354 0.17917 -0.0085 0.19584 -0.03038 0.20302 C -0.03628 0.21945 -0.03159 0.2139 -0.04427 0.22015 C -0.046 0.22385 -0.04913 0.23311 -0.05468 0.22316 C -0.05625 0.22015 -0.05399 0.21598 -0.05347 0.21228 C -0.05312 0.21019 -0.05156 0.19191 -0.04896 0.18751 C -0.03975 0.17154 -0.02517 0.15973 -0.01163 0.15186 C -0.00798 0.14978 -0.00277 0.14515 0.00104 0.14422 C 0.00521 0.14306 0.00955 0.14306 0.01389 0.1426 C 0.02257 0.13473 0.0283 0.12385 0.03716 0.11621 C 0.0408 0.10973 0.04375 0.10325 0.04653 0.09607 C 0.04948 0.06968 0.05 0.05047 0.05 0.02154 E">
                                      <p:cBhvr>
                                        <p:cTn id="196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mily lif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ing a child in that period of time wasn’t very fun kids couldn’t even p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xpectations were very high for girls because they were girls and could not do anything that the boys could 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got accused of Being Witches, when random things happened to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body could have accused people of being a wit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y were accused and guilty at trial , IF THEY EVEN WENT, then it would be likely they would be kill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09680" y="457200"/>
            <a:ext cx="44960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rial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93 -0.00648 C -0.01181 -0.00255 0.0151 0.00324 0.0434 0.0081 C 0.06406 0.02292 0.06128 0.0206 0.08715 0.02408 C 0.08993 0.02593 0.09288 0.02755 0.09549 0.03033 C 0.09844 0.0331 0.10087 0.03704 0.10382 0.03982 C 0.11076 0.04514 0.1184 0.04954 0.12517 0.05579 C 0.12726 0.06759 0.13073 0.06759 0.13837 0.07408 C 0.14497 0.08773 0.16372 0.09607 0.17292 0.10301 C 0.17813 0.10741 0.18854 0.11597 0.18854 0.1162 C 0.19149 0.12755 0.18733 0.11551 0.20174 0.12685 C 0.20799 0.13218 0.21319 0.13935 0.21944 0.14468 C 0.22344 0.14792 0.22743 0.1507 0.23125 0.15394 C 0.23385 0.15833 0.23559 0.1632 0.23837 0.1669 C 0.24167 0.17107 0.24653 0.17338 0.24931 0.17778 C 0.25122 0.18148 0.25104 0.18681 0.2526 0.19074 C 0.25556 0.19838 0.25816 0.20648 0.26111 0.21412 C 0.26406 0.24769 0.26806 0.2794 0.28385 0.30648 C 0.28594 0.31991 0.28698 0.3331 0.28976 0.34607 C 0.29167 0.37338 0.29653 0.40579 0.28385 0.42847 C 0.28212 0.45764 0.28021 0.45648 0.26597 0.4794 C 0.26354 0.4875 0.26042 0.49514 0.25885 0.50324 C 0.25642 0.51505 0.25781 0.52801 0.25399 0.53982 C 0.25226 0.54491 0.24688 0.54607 0.2434 0.54931 C 0.23941 0.55718 0.23472 0.56458 0.23125 0.57315 C 0.22917 0.57894 0.22934 0.58634 0.22674 0.5919 C 0.21944 0.60787 0.20573 0.61875 0.19549 0.63033 C 0.18819 0.63843 0.17431 0.6632 0.1658 0.66644 C 0.15955 0.66875 0.14149 0.67176 0.13247 0.67292 C 0.08507 0.70185 0.10486 0.69213 0.02396 0.69352 C -0.02257 0.7 -0.07118 0.69028 -0.11632 0.67292 C -0.13194 0.66065 -0.14288 0.65139 -0.16024 0.64607 C -0.17274 0.63727 -0.1849 0.62824 -0.19722 0.61898 C -0.20347 0.61458 -0.21076 0.61435 -0.21736 0.61134 C -0.22222 0.60903 -0.22708 0.60671 -0.23177 0.60324 C -0.24722 0.59167 -0.2441 0.58866 -0.2592 0.57454 C -0.2684 0.56597 -0.27882 0.56019 -0.28767 0.5507 C -0.32257 0.51389 -0.325 0.49074 -0.36285 0.48426 C -0.36597 0.47894 -0.37066 0.47477 -0.37222 0.46852 C -0.37431 0.46158 -0.37326 0.45347 -0.37326 0.4463 C -0.37292 0.41759 -0.37257 0.38889 -0.37118 0.36042 C -0.37031 0.34769 -0.37031 0.33403 -0.36615 0.32222 C -0.36111 0.30764 -0.34705 0.30208 -0.33993 0.28912 C -0.31285 0.24005 -0.35434 0.29792 -0.30903 0.25255 C -0.30382 0.24745 -0.30174 0.23773 -0.29601 0.23357 C -0.29132 0.22963 -0.2849 0.23171 -0.27951 0.23033 C -0.25069 0.22361 -0.22274 0.21667 -0.19358 0.21412 C -0.14948 0.21458 -0.10556 0.21181 -0.06146 0.21574 C -0.02917 0.21875 0.000350000000000003 0.23773 0.03247 0.24144 C 0.04392 0.24468 0.05608 0.24537 0.06701 0.25093 C 0.09653 0.26482 0.13507 0.30718 0.15521 0.33634 C 0.16563 0.37083 0.18194 0.43171 0.15052 0.45232 C 0.14427 0.47014 0.14097 0.49097 0.12778 0.50185 C 0.12361 0.50533 0.11806 0.50602 0.11354 0.5081 C 0.08264 0.54097 0.05521 0.55301 0.01701 0.56366 C -0.00243 0.56158 -0.02205 0.56366 -0.04115 0.55833 C -0.09271 0.54421 -0.12118 0.49676 -0.16632 0.4669 C -0.17639 0.45995 -0.18698 0.45509 -0.19722 0.44908 C -0.24271 0.39699 -0.20625 0.44306 -0.25208 0.36991 C -0.28038 0.32431 -0.29497 0.30695 -0.30312 0.24769 C -0.30174 0.19884 -0.30503 0.22269 -0.29236 0.17616 C -0.29132 0.17176 -0.28524 0.17408 -0.2816 0.17292 C -0.24149 0.14306 -0.23003 0.16204 -0.16389 0.16528 C -0.13056 0.17662 -0.09653 0.1831 -0.06267 0.1919 C -0.00122 0.22523 -0.03854 0.2037 0.04792 0.2588 C 0.07448 0.27523 0.10104 0.29722 0.11823 0.3287 C 0.12969 0.34931 0.13663 0.37431 0.14809 0.39537 C 0.14705 0.40046 0.14809 0.40695 0.14549 0.41111 C 0.14236 0.41644 0.13628 0.4162 0.13247 0.42083 C 0.12934 0.425 0.12795 0.43125 0.12517 0.43658 C 0.12413 0.44236 0.12413 0.44908 0.12188 0.45417 C 0.11076 0.47616 0.06684 0.47176 0.0467 0.47477 C 0.02969 0.47292 0.0125 0.47361 -0.00451 0.46968 C -0.01615 0.46736 -0.02708 0.45926 -0.03889 0.45556 C -0.05208 0.45185 -0.06615 0.45208 -0.07934 0.44908 C -0.08125 0.44792 -0.10122 0.43681 -0.10434 0.43171 C -0.12118 0.40556 -0.11406 0.40139 -0.12569 0.36852 C -0.13142 0.35185 -0.13924 0.33681 -0.14601 0.3206 C -0.15226 0.28542 -0.15521 0.26528 -0.15781 0.23195 C -0.15486 0.22546 -0.15139 0.21898 -0.14844 0.21296 C -0.14722 0.21088 -0.14774 0.20764 -0.14601 0.20648 C -0.13559 0.19931 -0.12344 0.19607 -0.11267 0.18912 C -0.10434 0.19005 -0.09618 0.19306 -0.08767 0.1919 C -0.08542 0.1919 -0.08507 0.18588 -0.08281 0.18588 C -0.07118 0.18495 -0.05903 0.18796 -0.04722 0.18912 C 0.04479 0.24445 0.13247 0.28982 0.20174 0.39213 C 0.20469 0.40324 0.21233 0.41343 0.21111 0.42523 C 0.21007 0.43495 0.20434 0.44329 0.20174 0.45232 C 0.19931 0.46088 0.19896 0.4713 0.19549 0.4794 C 0.1849 0.50695 0.17535 0.50625 0.15521 0.52245 C 0.14288 0.53218 0.13229 0.54514 0.11944 0.55255 C 0.10486 0.56042 0.03507 0.57847 0.02396 0.58102 C 0.00747 0.58495 -0.00903 0.5875 -0.02569 0.59074 C -0.04531 0.58958 -0.10226 0.5875 -0.12448 0.58102 C -0.18559 0.56158 -0.22847 0.51597 -0.2816 0.47616 C -0.33316 0.43796 -0.33351 0.45556 -0.38299 0.40648 C -0.43837 0.35093 -0.49566 0.26806 -0.52222 0.18102 C -0.52135 0.16736 -0.525 0.15185 -0.51979 0.13982 C -0.50938 0.11528 -0.49427 0.11759 -0.47812 0.11597 C -0.44965 0.10764 -0.42153 0.09931 -0.39479 0.08218 C -0.38333 0.07546 -0.37396 0.06134 -0.36163 0.05741 C -0.32639 0.04607 -0.22483 0.03519 -0.1842 0.03033 C -0.13264 0.03148 -0.08108 0.03171 -0.02934 0.03357 C -0.00885 0.03403 0.0125 0.03171 0.03247 0.0382 C 0.05365 0.04514 0.07309 0.05926 0.09219 0.07245 C 0.19323 0.14699 0.19097 0.14908 0.25642 0.25579 C 0.26215 0.28333 0.27361 0.33079 0.27188 0.35741 C 0.26979 0.38727 0.26111 0.41551 0.25521 0.44468 C 0.24983 0.47014 0.23681 0.53519 0.22309 0.56158 C 0.21753 0.57292 0.20816 0.5794 0.20174 0.58866 C 0.18785 0.60926 0.14931 0.67292 0.13125 0.69213 C 0.07795 0.74769 0.01406 0.77338 -0.05191 0.77801 C -0.17014 0.74977 -0.23715 0.65023 -0.31736 0.53658 C -0.34253 0.50093 -0.37118 0.46204 -0.38906 0.41921 C -0.39358 0.36945 -0.4 0.32801 -0.38646 0.27616 C -0.38403 0.26644 -0.33003 0.20301 -0.32691 0.2 C -0.29826 0.17408 -0.23628 0.13472 -0.20434 0.12408 C -0.17257 0.11343 -0.09288 0.1125 -0.06146 0.11088 C 0.07257 0.11829 0.20382 0.12847 0.33715 0.13982 C 0.36302 0.1507 0.38976 0.15926 0.41458 0.17292 C 0.45 0.19283 0.4783 0.22315 0.50868 0.25255 C 0.51719 0.26921 0.5276 0.28472 0.53385 0.30324 C 0.54722 0.34445 0.54826 0.38658 0.55156 0.43033 C 0.54323 0.45995 0.52448 0.52917 0.5158 0.54931 C 0.50122 0.5838 0.45972 0.6382 0.43854 0.65995 C 0.4 0.70116 0.32378 0.78333 0.26597 0.8081 C 0.2191 0.82778 0.15955 0.82083 0.11076 0.82222 C 0.05642 0.79421 0.0026 0.75857 -0.04358 0.70972 C -0.0776 0.67361 -0.11806 0.64352 -0.13993 0.59375 C -0.17639 0.51065 -0.15434 0.5419 -0.19948 0.49352 C -0.21163 0.44769 -0.21667 0.40255 -0.22118 0.35417 C -0.21667 0.29745 -0.2 0.25023 -0.16736 0.21134 C -0.1566 0.19838 -0.14583 0.18218 -0.1316 0.17778 C -0.09826 0.16806 -0.06337 0.17338 -0.02934 0.1713 C -0.00694 0.17384 0.09271 0.17986 0.12899 0.19514 C 0.1526 0.20533 0.2217 0.24977 0.24549 0.26968 C 0.31892 0.33079 0.33958 0.33727 0.37674 0.41435 C 0.38698 0.48264 0.38872 0.51574 0.37674 0.58866 C 0.37066 0.62546 0.35035 0.65857 0.33385 0.68588 C 0.30208 0.73866 0.25677 0.79745 0.20764 0.82083 C 0.17535 0.83611 0.13993 0.83519 0.10642 0.84306 C -0.02031 0.81898 -0.08906 0.74005 -0.19722 0.64259 C -0.24427 0.60046 -0.27882 0.5331 -0.33073 0.50185 C -0.35434 0.4875 -0.40191 0.4588 -0.40191 0.4588 C -0.40625 0.44375 -0.41319 0.43009 -0.41493 0.41435 C -0.42101 0.35833 -0.36007 0.29514 -0.32934 0.29074 C -0.30503 0.28704 -0.28073 0.2838 -0.2566 0.2794 C -0.21788 0.27245 -0.17934 0.25671 -0.13993 0.25579 C -0.09705 0.25463 -0.05434 0.25347 -0.01163 0.25255 C 0.03212 0.25625 0.07569 0.25556 0.11944 0.26042 C 0.1658 0.26551 0.25885 0.28102 0.25885 0.28102 C 0.26319 0.28218 0.29653 0.29028 0.3026 0.30162 C 0.30764 0.31042 0.29653 0.32222 0.29097 0.33033 C 0.27934 0.34699 0.26701 0.3632 0.25521 0.37963 C 0.24705 0.39074 0.23438 0.39283 0.22413 0.40023 C 0.20903 0.41111 0.19323 0.42199 0.17899 0.43495 C 0.16285 0.45 0.15052 0.4706 0.13385 0.48426 C 0.11528 0.49884 0.03125 0.53079 0.01927 0.53658 C -0.00191 0.54699 -0.02187 0.5632 -0.04358 0.5713 C -0.11649 0.59954 -0.19479 0.60486 -0.26979 0.6081 C -0.32118 0.60278 -0.37535 0.59931 -0.4224 0.5669 C -0.45486 0.54421 -0.46771 0.5125 -0.49497 0.48426 C -0.51163 0.42384 -0.50174 0.34491 -0.47222 0.29352 C -0.46302 0.27778 -0.44826 0.26875 -0.43767 0.25417 C -0.42795 0.24051 -0.42187 0.22269 -0.41146 0.20972 C -0.38524 0.17546 -0.34635 0.1338 -0.31285 0.11088 C -0.28785 0.07083 -0.29062 0.05648 -0.26163 0.04769 C -0.25208 0.04468 -0.24236 0.04352 -0.23281 0.04144 C -0.22292 0.04306 -0.21285 0.04213 -0.2033 0.0463 C -0.19809 0.04838 -0.19479 0.05486 -0.18993 0.0588 C -0.18507 0.06227 -0.17986 0.06412 -0.17465 0.0669 C -0.16146 0.09259 -0.15087 0.11991 -0.14358 0.14908 C -0.13872 0.20648 -0.12882 0.26227 -0.13646 0.3206 C -0.13802 0.33241 -0.14427 0.34283 -0.14844 0.35417 C -0.15278 0.38588 -0.15747 0.43033 -0.16736 0.4588 C -0.17274 0.47361 -0.18229 0.48472 -0.18906 0.49861 C -0.20833 0.53889 -0.21806 0.57315 -0.24149 0.60972 C -0.24861 0.62107 -0.25816 0.6287 -0.26632 0.63935 C -0.28646 0.66644 -0.29826 0.68773 -0.32569 0.7 C -0.33681 0.69792 -0.34861 0.69792 -0.3592 0.69352 C -0.36354 0.69144 -0.36649 0.68495 -0.36997 0.68056 C -0.40503 0.63403 -0.41337 0.60556 -0.4283 0.54421 C -0.4309 0.44259 -0.41111 0.32315 -0.33889 0.2669 C -0.31788 0.25023 -0.29219 0.24583 -0.26979 0.23195 C -0.22153 0.20208 -0.20677 0.17245 -0.15312 0.15232 C -0.1276 0.14306 -0.10052 0.14375 -0.07465 0.1382 C 0.03299 0.11458 -0.08142 0.13079 0.03247 0.11759 C 0.05017 0.11921 0.06788 0.11783 0.08507 0.12245 C 0.14236 0.1382 0.18819 0.17662 0.22413 0.23519 C 0.22899 0.26111 0.24462 0.2875 0.23837 0.31296 C 0.22517 0.36875 0.22969 0.34283 0.22188 0.41111 C 0.2184 0.44051 0.2191 0.4706 0.21233 0.49861 C 0.20642 0.52269 0.1625 0.57454 0.15521 0.58866 C 0.14253 0.61227 0.13663 0.64051 0.12413 0.6632 C 0.10087 0.70556 0.04132 0.75509 0.0026 0.7669 C -0.00885 0.77037 -0.02101 0.76806 -0.03281 0.76829 C -0.05677 0.76366 -0.08125 0.76366 -0.10434 0.75417 C -0.16059 0.73125 -0.17483 0.67616 -0.20208 0.61759 C -0.21354 0.5919 -0.22726 0.56898 -0.23993 0.54421 C -0.24531 0.52153 -0.25156 0.49954 -0.2559 0.47616 C -0.26667 0.4132 -0.25799 0.29838 -0.23177 0.24468 C -0.21736 0.21458 -0.19705 0.19028 -0.17934 0.16366 C -0.16215 0.13727 -0.14635 0.11019 -0.11979 0.09653 C -0.10972 0.09167 0.00104 0.08287 0.0026 0.08218 C 0.06806 0.08472 0.12934 0.08935 0.19219 0.11435 C 0.21875 0.14259 0.23438 0.16736 0.25642 0.20324 C 0.26736 0.25255 0.27517 0.30162 0.28125 0.35255 C 0.26788 0.37315 0.26319 0.37801 0.25642 0.41435 C 0.25486 0.42245 0.25208 0.51945 0.23507 0.54306 C 0.23021 0.54977 0.22101 0.54653 0.21476 0.5507 C 0.17708 0.57639 0.13958 0.60162 0.10382 0.63195 C 0.07986 0.65208 0.06128 0.68333 0.03611 0.7 C 0.00972 0.71736 -0.02066 0.72014 -0.04826 0.73357 C -0.07274 0.74537 -0.09479 0.7669 -0.11979 0.77639 C -0.16354 0.79283 -0.2401 0.7963 -0.28646 0.80023 C -0.30903 0.79838 -0.33247 0.80509 -0.35434 0.79699 C -0.39271 0.78287 -0.46389 0.73472 -0.46389 0.73472 C -0.47396 0.72384 -0.4849 0.71412 -0.49375 0.70185 C -0.49687 0.69676 -0.51458 0.64491 -0.51493 0.64468 C -0.51545 0.63033 -0.51806 0.58519 -0.51493 0.57315 C -0.49965 0.51181 -0.46354 0.4919 -0.4342 0.44769 C -0.32292 0.28056 -0.47101 0.45949 -0.33524 0.31898 C -0.31493 0.29838 -0.29948 0.26852 -0.27708 0.25255 C -0.23003 0.21898 -0.17847 0.2 -0.12934 0.17292 C -0.10625 0.16042 -0.08507 0.13843 -0.06042 0.13357 C 0.0467 0.1125 -0.00556 0.12222 0.0967 0.1044 C 0.14497 0.11019 0.19306 0.11482 0.24097 0.12083 C 0.25642 0.12269 0.27257 0.12107 0.28715 0.12847 C 0.30313 0.13681 0.34184 0.17778 0.35868 0.19514 C 0.38646 0.25255 0.39306 0.28264 0.39427 0.34931 C 0.38212 0.44236 0.39653 0.54514 0.36944 0.63519 C 0.3434 0.72176 0.27899 0.73565 0.22413 0.77963 C 0.1776 0.8169 0.125 0.87176 0.07188 0.89537 C 0.00799 0.92361 -0.0283 0.91968 -0.09253 0.92222 C -0.17569 0.90116 -0.21476 0.8912 -0.2842 0.82222 C -0.29566 0.81111 -0.30816 0.8007 -0.31736 0.78542 C -0.33264 0.76065 -0.34358 0.73148 -0.35677 0.7044 C -0.37865 0.60116 -0.39062 0.50857 -0.39601 0.40139 C -0.34653 0.18472 -0.23021 0.05625 -0.07326 -0.02037 C 0.15399 -0.01042 0.06875 -0.02569 0.1849 -0.00139 C 0.20608 0.01134 0.22795 0.0213 0.24809 0.03658 C 0.34931 0.1125 0.26979 0.07245 0.32899 0.09977 C 0.34149 0.11829 0.35295 0.1382 0.36701 0.15394 C 0.42361 0.21829 0.40069 0.15995 0.42066 0.2287 C 0.43299 0.31667 0.4401 0.38935 0.42778 0.48102 C 0.41267 0.59074 0.34635 0.65023 0.27674 0.69676 C 0.17014 0.76829 0.16545 0.78426 0.06597 0.79514 C 0.03594 0.79838 0.00556 0.79745 -0.02465 0.79838 C -0.30712 0.7757 -0.2 0.80602 -0.35069 0.75533 C -0.37969 0.73542 -0.41719 0.71852 -0.4316 0.67292 C -0.43819 0.65255 -0.4342 0.6287 -0.43524 0.60648 C -0.4349 0.58634 -0.43698 0.56597 -0.4342 0.5463 C -0.4224 0.46852 -0.38212 0.39699 -0.33889 0.34445 C -0.32153 0.32338 -0.30069 0.30764 -0.28281 0.2875 C -0.26163 0.2632 -0.24479 0.23171 -0.22118 0.21134 C -0.09635 0.10417 -0.01389 0.07245 0.13003 0.06528 C 0.18594 0.06921 0.24618 0.07083 0.29931 0.09653 C 0.37188 0.13241 0.44549 0.1919 0.50035 0.26528 C 0.50642 0.29745 0.52396 0.32963 0.5184 0.36204 C 0.50434 0.44352 0.49167 0.53519 0.44566 0.59838 C 0.42708 0.62384 0.35868 0.67361 0.33976 0.69213 C 0.31997 0.71088 0.30469 0.73773 0.28385 0.75417 C 0.23542 0.7919 0.16285 0.80046 0.10868 0.80278 C 0.0691 0.79514 0.02865 0.79421 -0.01042 0.78102 C -0.03108 0.77361 -0.04861 0.75625 -0.06753 0.74306 C -0.16215 0.67523 -0.19288 0.60046 -0.24236 0.47477 C -0.2559 0.4044 -0.25851 0.37153 -0.26024 0.30162 C -0.25208 0.27083 -0.24358 0.24051 -0.23524 0.20972 C -0.22934 0.18796 -0.21128 0.17616 -0.19948 0.1588 C -0.18802 0.14167 -0.17934 0.12107 -0.16632 0.10602 C -0.12014 0.05602 -0.1191 0.0757 -0.06493 0.05579 C 0.03194 0.01898 -0.07326 0.03796 0.03958 0.02546 C 0.20955 0.03565 0.12274 0.01158 0.24809 0.07408 C 0.27743 0.08958 0.30069 0.09329 0.32778 0.11921 C 0.36753 0.15671 0.44219 0.23982 0.44219 0.24005 C 0.45868 0.27454 0.47309 0.30926 0.48264 0.34931 C 0.46458 0.37917 0.46997 0.43588 0.45278 0.47292 C 0.42153 0.54097 0.35521 0.58264 0.30174 0.60648 C 0.28194 0.60486 0.20885 0.60278 0.17899 0.5919 C 0.05017 0.54607 -0.08646 0.40648 -0.16267 0.26042 C -0.16198 0.25139 -0.1625 0.24213 -0.16024 0.23357 C -0.13906 0.15625 -0.14479 0.19167 -0.08281 0.15556 C 0.06424 0.0706 -0.0276 0.08935 0.10764 0.08357 C 0.15955 0.08958 0.21215 0.08843 0.26354 0.09977 C 0.30608 0.10926 0.38854 0.14468 0.38854 0.14491 C 0.40868 0.15949 0.42865 0.175 0.44931 0.18912 C 0.48472 0.21343 0.49149 0.20972 0.51007 0.24931 C 0.51076 0.26389 0.51458 0.27894 0.51233 0.29352 C 0.50278 0.35116 0.45573 0.40556 0.4217 0.43357 C 0.39635 0.4544 0.2934 0.53241 0.24931 0.5463 C 0.15382 0.5757 0.12708 0.57338 0.04549 0.57778 C 0.02066 0.57523 -0.00469 0.5757 -0.02934 0.56991 C -0.11337 0.5507 -0.15556 0.50741 -0.23906 0.45232 C -0.31319 0.40347 -0.39705 0.32917 -0.44931 0.24144 C -0.44236 0.2206 -0.43854 0.19769 -0.4283 0.1794 C -0.39045 0.11366 -0.28819 0.10741 -0.23281 0.10139 C -0.14705 0.1044 -0.06545 0.1206 0.01927 0.1382 C 0.09757 0.1794 0.17135 0.21875 0.25399 0.24144 C 0.3684 0.35347 0.32031 0.32315 0.38594 0.36042 C 0.38819 0.37847 0.39688 0.39722 0.39219 0.41435 C 0.37778 0.46644 0.33368 0.52037 0.29931 0.54745 C 0.25851 0.5794 0.21493 0.60324 0.17292 0.63195 C 0.14757 0.64931 0.12517 0.6794 0.0967 0.68588 C 0.02101 0.70301 -0.05434 0.71736 -0.13056 0.72824 C -0.22413 0.72269 -0.31076 0.70625 -0.38299 0.62408 C -0.38715 0.6037 -0.39358 0.58426 -0.39601 0.56366 C -0.4066 0.47917 -0.37795 0.40463 -0.33281 0.34769 C -0.31858 0.32917 -0.30434 0.30926 -0.28646 0.29838 C -0.26927 0.2882 -0.21354 0.2882 -0.19358 0.2875 C -0.17014 0.28102 -0.14705 0.27199 -0.12344 0.26852 C -0.07483 0.26111 -0.02552 0.26227 0.02309 0.25579 C 0.04549 0.25741 0.0684 0.25556 0.0908 0.26042 C 0.14844 0.27245 0.19896 0.30602 0.25521 0.32222 C 0.32431 0.3912 0.3092 0.35463 0.32674 0.40463 C 0.32118 0.41945 0.32118 0.44051 0.31476 0.45417 C 0.30469 0.475 0.27378 0.48773 0.26233 0.49676 C 0.25069 0.50625 0.2408 0.51945 0.22899 0.5287 C 0.19184 0.55718 0.18194 0.55463 0.13837 0.5669 C 0.07118 0.60903 0.04618 0.62107 -0.0283 0.62546 C -0.08125 0.63727 -0.12986 0.64005 -0.18281 0.62083 C -0.20278 0.59398 -0.19948 0.58218 -0.20069 0.54421 C -0.2 0.52477 -0.19861 0.43472 -0.18559 0.40787 C -0.1776 0.39236 -0.16198 0.38658 -0.15208 0.37315 C -0.14201 0.35972 -0.13594 0.34167 -0.12569 0.3287 C -0.09618 0.29144 -0.08837 0.30162 -0.0533 0.27616 C 0.00677 0.23287 -0.04497 0.26042 0.01337 0.2 C 0.03038 0.18264 0.05833 0.16968 0.07899 0.1588 C 0.09167 0.16158 0.10486 0.16204 0.11701 0.1669 C 0.12691 0.17083 0.13993 0.20162 0.1434 0.20648 C 0.15069 0.21736 0.1592 0.22639 0.16701 0.23658 C 0.18333 0.29144 0.19184 0.34051 0.19931 0.39861 C 0.17292 0.4831 0.09688 0.52639 0.03125 0.53333 C -0.000350000000000003 0.53658 -0.03212 0.53449 -0.06406 0.53519 C -0.12934 0.52801 -0.13003 0.55162 -0.12344 0.4875 C -0.12292 0.47616 -0.12344 0.46528 -0.12222 0.45417 C -0.11667 0.39676 -0.10347 0.41505 -0.07118 0.3412 C -0.04635 0.28542 -0.0625 0.30394 -0.0283 0.27778 C -0.02569 0.27014 -0.02274 0.26227 -0.02101 0.25417 C -0.01753 0.23727 -0.01892 0.21829 -0.01267 0.20324 C -0.00712 0.18912 0.00451 0.18171 0.01233 0.16968 C 0.01719 0.16204 0.02014 0.15185 0.02535 0.14468 C 0.0401 0.12523 0.06024 0.11343 0.08021 0.11088 C 0.08941 0.11597 0.09965 0.11759 0.10764 0.12523 C 0.11128 0.12917 0.11007 0.1375 0.11233 0.14306 C 0.11615 0.15347 0.12135 0.16273 0.12517 0.17292 C 0.13368 0.1956 0.14809 0.24144 0.14809 0.24167 C 0.14913 0.25903 0.15503 0.30278 0.14931 0.32708 C 0.1467 0.33796 0.14115 0.34769 0.13837 0.3588 C 0.1349 0.37384 0.13351 0.38982 0.13003 0.40463 C 0.12899 0.40949 0.1283 0.41505 0.12517 0.41759 C 0.11979 0.42199 0.11267 0.42199 0.10642 0.42408 C 0.08819 0.44699 0.06615 0.48148 0.0408 0.49352 C 0.00608 0.51042 -0.02899 0.50857 -0.06493 0.51134 C -0.12361 0.5081 -0.17778 0.50972 -0.2342 0.48264 C -0.27483 0.46273 -0.29253 0.4412 -0.32691 0.40787 C -0.33229 0.39537 -0.35139 0.35833 -0.34965 0.33796 C -0.34358 0.26597 -0.31858 0.19398 -0.28646 0.13658 C -0.26528 0.09815 -0.16319 0.00232 -0.15434 -0.00648 C -0.08281 -0.07824 -0.14792 -0.01528 -0.07326 -0.08079 C -0.03194 -0.11759 -0.05573 -0.10995 -0.01753 -0.1125 C 0.01927 -0.10949 0.02899 -0.12361 0.02309 -0.08241 C 0.02222 -0.07662 0.02153 -0.07708 0.01823 -0.07315 C 0.01632 -0.05995 0.01389 -0.0618 0.00399 -0.06018 C -0.00469 -0.05532 -0.01354 -0.05208 -0.0224 -0.04745 C -0.02622 -0.0368 -0.03316 -0.03472 -0.04115 -0.03148 C -0.04931 -0.02106 -0.05868 -0.01759 -0.06979 -0.01597 C -0.07274 -0.01528 -0.08368 -0.01366 -0.07465 -0.00972 C -0.07274 -0.01597 -0.07135 -0.01852 -0.06615 -0.01597 C -0.0658 -0.01759 -0.06615 -0.02014 -0.06493 -0.02037 C -0.06406 -0.02106 -0.06267 -0.01944 -0.06146 -0.01921 C -0.05903 -0.01852 -0.05677 -0.0169 -0.05434 -0.01597 C -0.04826 -0.01296 -0.04253 -0.01042 -0.03646 -0.0081 C -0.03472 -0.01528 -0.03455 -0.01366 -0.03993 -0.00648 Z">
                                      <p:cBhvr>
                                        <p:cTn id="226" dur="5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2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77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1" dur="77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3" dur="77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 way to escape, if you were able to run away and have enough money to surv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ould be killed in many way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209680" y="533520"/>
            <a:ext cx="49532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rials (cont.)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33333E-006 C -0.01268 0.01158 -0.00191 0.00348 -0.03177 0.00672 C -0.04532 0.00811 -0.05816 0.01343 -0.0717 0.01574 C -0.09757 0.0301 -0.06736 0.01505 -0.11337 0.02686 C -0.11528 0.02732 -0.1165 0.03079 -0.11841 0.03125 C -0.12605 0.03311 -0.13386 0.03264 -0.14167 0.03334 C -0.154 0.05787 -0.14115 0.03936 -0.16007 0.04908 C -0.17518 0.05672 -0.18768 0.07431 -0.1967 0.09121 C -0.19723 0.09561 -0.19653 0.10093 -0.19844 0.10463 C -0.20018 0.10811 -0.20452 0.10811 -0.20677 0.11111 C -0.20955 0.11482 -0.21164 0.11968 -0.21337 0.12454 C -0.21962 0.14144 -0.22153 0.15348 -0.22344 0.1713 C -0.22691 0.23565 -0.22396 0.16389 -0.2217 0.27778 C -0.21997 0.36227 -0.22205 0.44699 -0.21841 0.53125 C -0.21806 0.5382 -0.19549 0.56621 -0.19514 0.56667 C -0.17396 0.58982 -0.15087 0.60973 -0.12344 0.61343 C -0.1033 0.63287 -0.09236 0.6375 -0.06841 0.64445 C -0.054 0.64074 -0.03907 0.63889 -0.025 0.63334 C -0.02205 0.63218 -0.02084 0.62709 -0.01841 0.62454 C -0.01164 0.61736 -0.00608 0.61412 0.00156 0.60903 C 0.00208 0.60232 0.00173 0.59537 0.0033 0.58889 C 0.00833 0.56852 0.01666 0.57477 0.03159 0.56898 C 0.03611 0.56713 0.04045 0.56459 0.04496 0.56227 C 0.0552 0.53496 0.06927 0.51528 0.09166 0.50463 C 0.10312 0.49931 0.12656 0.49121 0.12656 0.49144 C 0.13107 0.46065 0.14132 0.43843 0.15468 0.41343 C 0.15885 0.37014 0.15746 0.39653 0.15 0.31574 C 0.1493 0.30996 0.14739 0.30116 0.14323 0.29792 C 0.13854 0.29445 0.13316 0.29352 0.1283 0.29121 C 0.12552 0.28195 0.12395 0.26991 0.11649 0.26459 C 0.11215 0.26135 0.08264 0.24861 0.0783 0.24676 C 0.07361 0.24468 0.06961 0.24028 0.06493 0.23797 C 0.05729 0.23426 0.04948 0.23195 0.04166 0.22894 C 0.03802 0.225 0.02517 0.20949 0.01996 0.20903 C 0.01614 0.2088 -0.02605 0.21412 -0.03837 0.21574 C -0.04323 0.21875 -0.05938 0.22871 -0.06181 0.23334 C -0.06476 0.23889 -0.06285 0.24723 -0.06511 0.25348 C -0.06632 0.25695 -0.08959 0.27593 -0.09167 0.27778 C -0.09341 0.28449 -0.09289 0.29283 -0.0967 0.29792 C -0.10417 0.30787 -0.12344 0.32014 -0.12344 0.32037 C -0.12396 0.32246 -0.12431 0.32477 -0.125 0.32686 C -0.12639 0.33079 -0.129 0.3338 -0.13004 0.33797 C -0.13855 0.37361 -0.12483 0.34028 -0.13681 0.36667 C -0.1349 0.3882 -0.13646 0.41135 -0.13004 0.43125 C -0.12275 0.45417 -0.11632 0.47755 -0.10834 0.5 C -0.104 0.5125 -0.09323 0.52778 -0.08681 0.53797 C -0.08559 0.54167 -0.08542 0.54607 -0.08334 0.54908 C -0.07396 0.5632 -0.04792 0.56922 -0.03507 0.5713 C -0.01736 0.56968 0.00069 0.57061 0.01823 0.56667 C 0.021 0.56598 0.02083 0.55949 0.02326 0.55787 C 0.02812 0.55463 0.046 0.55209 0.05156 0.55116 C 0.06823 0.53658 0.07517 0.5044 0.09323 0.49121 C 0.09757 0.48797 0.1033 0.48959 0.10833 0.48889 C 0.12812 0.47408 0.12934 0.47292 0.13645 0.44445 C 0.13715 0.40648 0.14218 0.35186 0.13316 0.31111 C 0.13211 0.30648 0.12968 0.30232 0.12656 0.3 C 0.11805 0.29398 0.10764 0.29422 0.09826 0.29121 C 0.02968 0.29329 -0.01042 0.29098 -0.07014 0.33125 C -0.07292 0.33866 -0.07448 0.34699 -0.07848 0.35348 C -0.08681 0.3669 -0.10052 0.37269 -0.11181 0.3801 C -0.11563 0.38681 -0.12101 0.39213 -0.12344 0.4 C -0.12622 0.40903 -0.12535 0.41945 -0.12674 0.42894 C -0.12778 0.43681 -0.13108 0.44375 -0.13334 0.45116 C -0.13438 0.47547 -0.1375 0.50903 -0.13177 0.53334 C -0.11962 0.58519 -0.07934 0.62431 -0.04844 0.65556 C -0.02605 0.67824 -0.03351 0.67917 -0.00677 0.68889 C 0.00659 0.69375 0.021 0.69236 0.03489 0.69352 C 0.03767 0.6919 0.04027 0.68936 0.04323 0.68889 C 0.05382 0.68704 0.0651 0.6919 0.075 0.68681 C 0.07864 0.68496 0.07621 0.67639 0.07656 0.6713 C 0.07725 0.66158 0.07777 0.65209 0.0783 0.64236 C 0.07257 0.59121 0.06701 0.54236 0.05486 0.49352 C 0.05955 0.44537 0.02031 0.41297 -0.00348 0.38241 C -0.01233 0.37107 -0.01823 0.35556 -0.02848 0.34676 C -0.03785 0.33889 -0.07969 0.33843 -0.08681 0.33797 C -0.11615 0.34144 -0.13768 0.34746 -0.16511 0.35787 C -0.16893 0.36227 -0.17466 0.36505 -0.17674 0.3713 C -0.1849 0.39537 -0.19514 0.44676 -0.19514 0.44699 C -0.19289 0.49422 -0.19063 0.54144 -0.18837 0.58889 C -0.18733 0.61088 -0.18768 0.62824 -0.18004 0.64908 C -0.15764 0.71042 -0.16875 0.70232 -0.14341 0.71343 C -0.12674 0.7294 -0.12518 0.72986 -0.10677 0.75556 C -0.10243 0.76158 -0.10035 0.77084 -0.09514 0.7757 C -0.07396 0.79514 -0.06858 0.7963 -0.05174 0.80232 C -0.04132 0.79885 -0.03021 0.80023 -0.02014 0.79561 C 0.00764 0.78287 0.02552 0.76482 0.05 0.74676 C 0.05902 0.72871 0.06562 0.7088 0.075 0.69121 C 0.07812 0.68519 0.0835 0.68172 0.08663 0.6757 C 0.09201 0.66528 0.09496 0.65301 0.1 0.64236 C 0.10538 0.63102 0.11649 0.61482 0.12326 0.60463 C 0.12656 0.59352 0.12795 0.58079 0.13316 0.5713 C 0.13715 0.56436 0.14895 0.56644 0.15 0.55787 C 0.16111 0.46713 0.15503 0.43959 0.11319 0.38889 C 0.10972 0.38473 0.10625 0.37917 0.10156 0.37778 C 0.08472 0.37246 0.06718 0.37523 0.05 0.37338 C 0.00468 0.37801 -0.03785 0.38473 -0.08177 0.4 C -0.1073 0.43403 -0.12743 0.47431 -0.15504 0.50463 C -0.15782 0.51273 -0.16146 0.52037 -0.16337 0.52894 C -0.16945 0.55718 -0.15834 0.54653 -0.1717 0.55556 C -0.18993 0.60556 -0.16164 0.7 -0.13004 0.73565 C -0.12622 0.74005 -0.11997 0.7382 -0.11511 0.74005 C -0.10782 0.74283 -0.10052 0.74561 -0.09341 0.74908 C -0.00677 0.79213 -0.08108 0.76343 0.01319 0.79121 C 0.02708 0.79537 0.04062 0.80301 0.05486 0.80463 C 0.08645 0.80811 0.11823 0.80602 0.15 0.80672 C 0.19392 0.80301 0.2493 0.80741 0.29323 0.78241 C 0.31823 0.76806 0.3118 0.73611 0.33993 0.72686 C 0.35729 0.68542 0.33455 0.74491 0.34826 0.68241 C 0.35468 0.65301 0.36267 0.64306 0.37152 0.61783 C 0.38177 0.58889 0.37118 0.6088 0.38333 0.5713 C 0.3875 0.55857 0.39496 0.54838 0.40156 0.53797 C 0.41823 0.42593 0.3875 0.32176 0.32656 0.24676 C 0.32187 0.24098 0.3151 0.23843 0.30989 0.23334 C 0.28975 0.21366 0.27725 0.19561 0.25312 0.18449 C 0.23889 0.18635 0.22847 0.1882 0.21493 0.19352 C 0.20816 0.19954 0.20208 0.20417 0.19635 0.21343 C 0.18993 0.22385 0.18715 0.23797 0.17968 0.24676 C 0.17291 0.25486 0.16319 0.25718 0.15468 0.26227 C 0.13507 0.29561 0.12899 0.31019 0.10486 0.33565 C 0.09045 0.3507 0.07343 0.36135 0.05989 0.37778 C -0.0073 0.45949 0.07257 0.40232 -0.01667 0.45348 C -0.05139 0.50648 -0.0783 0.54908 -0.12344 0.58449 C -0.1349 0.59352 -0.14549 0.60648 -0.15834 0.61111 C -0.16598 0.61389 -0.17396 0.61273 -0.18177 0.61343 C -0.20799 0.59051 -0.18872 0.60996 -0.18507 0.50672 C -0.18368 0.46574 -0.17882 0.42315 -0.17674 0.38241 C -0.1757 0.32639 -0.17605 0.23195 -0.16667 0.17778 C -0.16424 0.16366 -0.15799 0.15 -0.15 0.14005 C -0.13959 0.12732 -0.12275 0.12778 -0.11181 0.11574 C -0.08664 0.08797 -0.0849 0.06528 -0.05174 0.06019 C -0.04375 0.04885 -0.03108 0.04931 -0.02014 0.04676 C -0.01302 0.03449 -0.01389 0.0338 -0.00174 0.03125 C -0.00087 0.02315 0.00277 0.00834 3.61111E-006 -3.33333E-006 Z">
                                      <p:cBhvr>
                                        <p:cTn id="260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14:34:51Z</dcterms:created>
  <dc:creator>BEN</dc:creator>
  <dc:description/>
  <dc:language>en-US</dc:language>
  <cp:lastModifiedBy>lmclabb</cp:lastModifiedBy>
  <dcterms:modified xsi:type="dcterms:W3CDTF">2008-11-24T16:12:31Z</dcterms:modified>
  <cp:revision>7</cp:revision>
  <dc:subject/>
  <dc:title>Slide 1</dc:title>
</cp:coreProperties>
</file>