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3.png" ContentType="image/png"/>
  <Override PartName="/ppt/media/image12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6.gif" ContentType="image/gif"/>
  <Override PartName="/ppt/media/image17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6.wmf" ContentType="image/x-wmf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4BB1-24DC-40A4-90DA-1D08064B1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4D9-A2AA-47F5-85EF-AE376F17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AF7BD-1A81-4EBC-A060-FA73676A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F6E7F-E6E6-4B49-84C0-6C6824E07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EDF800-8FD3-4C64-9A5D-B34C7C7D8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A42EF-7F4F-409D-B49E-72845B32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87E967-A0D4-4162-92ED-BA89D892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57983-5FDD-443D-82C1-9AD316AC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088177-F068-42AE-A3E7-CBCEB9A9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2F9F5F-5CCE-4DB8-BE52-0B910E34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B9FDA-EF80-4FAA-A295-AADE0C893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1056E3-8C99-4310-855D-53ACF9F1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5664-E327-4CD0-A518-7A9F17DA4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7B95E-D943-4D18-A3AE-4FAA0D47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E8EE0-C507-4B8D-8DAA-9E8A3632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D34B15-F1EA-4887-8451-740AC6ED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9FE086-B546-483D-9980-B8000E11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159894-4D0D-48DA-B83C-BA23F4EF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612C48-5CAE-46C6-853C-F990C998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27D1C-2F10-45E3-9621-B0B1CDCF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5AB16-F5D3-4F85-9903-096E5EB0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9521E0-07A7-4FDB-B3B1-5DDB1FAB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E5F340-8924-42B4-AFE9-A76F134F1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8324-8683-40EB-82C0-B8AD822BC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CDF07-CA75-4135-92C3-1E2E489B8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7CA7E-060E-4CD1-A450-29E6B83E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873E3B-A261-44A7-97FE-9A78066A9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5D0DAC-18F6-4B44-A2E0-95F929E3A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20F71F-94DF-406A-AECC-5C388EB4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7DD752-8982-4C01-A326-D92514CA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093617-FAE0-4754-BE14-1FA2593A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F358CD-72B0-4E67-9B8B-E8C631F9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DEF935-B9DF-4E85-8B8C-0AAE460B2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ABC1A6-F77B-4015-B19D-D8897422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237DE-A375-4585-8A07-D23AF4177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9B3A7-05A4-4A52-89CD-279D7D37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9CF35B-C1F6-4735-B09C-7C7A03E02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87E286-6E2B-4023-9AA7-A23DD327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E9D7B4-FD7F-43AA-BF4D-7EB0AFA4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7876ED-3D83-4C5D-8DD1-E118A5A0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D5F829-A336-49B7-89E6-CECE1C3B4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BE38B-EB4C-445A-AA54-1A7F52BC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32B807-B39E-4B6E-BDAA-7B0A081F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8D2D1-094A-44A8-89B7-279FC9DCC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1B0CE5-1B96-4AE3-8F8C-BF51045A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EA05-1232-4233-A42F-B1EA8146D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8CA6EB-E633-4FB5-A836-FE335FCBE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88D44-D4F7-4B8D-BF3E-988EFC95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7781AB-57AB-4DAB-A585-1C9FD948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1FDD17-5279-4C33-B380-5C6842951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862FD6-B2FE-4EC9-871D-99D416A3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0464-FE44-49C8-B54B-3680A174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7F143-B019-446F-ABEA-CE6313026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ECDB-EB33-4A29-81C9-3ADB2635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EE3F8-F3D7-4577-8487-38FBA8A31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B37EF-2BEA-44D2-973D-7AF45661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3F3-F894-4AB0-A04C-46C27C097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22DF-AA42-4E41-821B-EDF95D9C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8F58-C838-4200-B660-AE8C151C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4677F-F3F3-4E63-A67E-B26B092C5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8B0F2-092B-4632-B6D6-3653BD1DA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F586-2914-4AF9-9608-21943F996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04145-9C65-4568-99A7-63D301DA4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ED547-D417-4630-BB36-6DDBABE0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731E7-423B-46E6-B258-77CE74CF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7444C-06BF-4141-A542-EF1D0B028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E46BF-A9BF-4688-817D-4F9E96B3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464-2D59-45B8-AFA9-460EE63DC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B8076-A831-43AF-8132-B339BCB7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47FB36-BEEC-43FA-B4BF-CADCCBB6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B7473-C21E-480D-8BC0-362E6A4A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B7ACA-80E6-4C13-B7E3-3E34060E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DB5F1-6CDF-414A-BF35-E5CBE32F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64F55-23FF-4887-A3EE-5F9D3DFF0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6079B3-89F4-488B-A18B-DB0302C63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E9CED-DD32-4722-B44B-2C48CF9B3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39788C-AB93-4D7A-A87C-C7F3F2CB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7606B-31BF-4D5C-8CA4-5DB4C0FE2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171-773D-440E-A817-947CAC7BF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8B8FB-4816-4213-BF69-C2D1FEEC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8BF4E-586F-4411-AC79-C087EA1D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1AE9C-2B2A-4CCC-A5FF-F4AF07BF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DC9646-CB6F-4318-AA02-707ACD69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F4DB3-0798-4E4C-97D6-9B3AD7E5A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F0A15-4017-42B1-A325-A193B9311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BEE80-5DF7-4322-B170-412DB85C5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C9061-61CE-43CB-A61E-737DCA3DB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C4707-503D-4D6C-AB43-BDD2E2149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B63DD-CBC9-4F0A-824A-96C441251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8518-9654-4898-B3E7-639BC9539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758A5D-BA18-45F8-AAF5-2CC21AABA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C24A43-0730-4C9C-A56B-95151EF1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D8811-41DB-46C4-AE9A-76880E99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64B915-56D1-46A1-82A1-C873045B1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5B8D4-C8BD-4906-863A-B6568A130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704D7-8A12-4FD3-ABB1-2F3B1CD3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B070B-BD16-4210-A7E5-3484EB325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886EC-0B73-4B1B-8995-F47CD29E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1308FF-3D33-4EFD-A707-33360C83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2A38B-120D-409D-91FA-B7CE9C2CF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7690-FDE8-4D04-8CCF-0C7BDC12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30A5E-FE23-41EE-8417-425209D51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4F8A97-CAC0-44AE-B424-6EFF5CB32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1EBFD-78DE-4CAA-8B9E-36BD41ECE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B2783-B4CF-4EDF-950A-D89B8616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D726D-2CB1-4F56-A6C1-5104A7B2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3C9AE-D096-413C-86E9-DF8261E8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9F9DB-2DF6-4773-B20B-D6888C66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604B80-44E7-4D16-84A4-DADF7D1CF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D4F25-0F47-452B-8FFE-5635966F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7FDB4-F249-4365-BFD7-29403DF1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AA22-3026-4293-B239-DAB4DFEA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F7E5B-2DC2-4354-90DB-F0C03C4AB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5EC25-9D37-4CA2-B7C2-0B33F6FED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DEB6A-CC9E-4C5C-9A91-C9C450B7A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4EF56-D2FD-497A-8DEF-8CFC901C7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24710-E63A-477F-ACE4-667A4523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74FA5-9A51-4850-989E-C230F40E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CE32E-C68A-4450-9AB4-89A69D942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E8846-38A1-40DD-81E7-A5287DC8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0574F-4BFC-4642-A997-8EB33EFC4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6D19F-3311-4C8C-94CE-3279F35CF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983-A223-403E-82A1-31F459C4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D06EBA-C6D1-4BB8-90A8-A98155A4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56017-85E6-490E-9EA8-427DC64C0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A70B1-4DC3-487B-9EC2-5FC44BF4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81AA83-7A79-4D00-BBE1-9527F97C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65E1F-1C0A-4D0F-831E-7DC2FFB8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380D2-6686-45C3-A17B-5A6C1425D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58548-6B8D-432E-A63D-42A1A629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8280A-0244-49D5-BD83-F2B92E073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67000-EBE4-4806-BF34-4E4F76E8B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50CB5-BC76-47DD-B172-CE88415C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59E56-61B9-4EB8-A0B7-446EB3FB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F6C6D-F8AC-4125-9C08-4E96B6605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24A93A-507C-4689-8A0B-908122C3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16FC7-8EA4-4C47-BC11-973E6B87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CECE64-F838-4F21-B7E5-76EC747CE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183E9-8740-493C-B9AE-2782BA3A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E49B0-4F70-4616-A4DB-AE1ECFAA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6B44FA-F0F3-40D7-AD64-0213C7A6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0D8FB-0007-4B29-9D93-D05A03719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34730D-B199-4371-A866-1DDEFFC29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A0A8A-EAEF-4AC1-ABE1-BA7410F79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5117D-58DC-4A33-9A5F-87F8C237C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5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6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8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F4E4-0A9E-44FB-866E-BB47F5B550B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3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4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69B3-B038-4F93-A394-70848A1E286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1B80-F708-49FD-8907-AA69F00D4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DB5F-E617-4450-9658-06C3229769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A65D-5DF3-4B39-9E19-EF2A919021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9D72-301F-4610-9FDD-B4DAB935D02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B1CE-5C8A-42B5-ADBC-56F0583846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2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6326-75FC-4132-B4DF-723B147F961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6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2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2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24C6-8F14-490C-833E-BD701C3ED74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1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1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1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2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158A-616F-4F10-9C3A-59ABA9834C65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8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842B7-8DB0-4926-B346-ECB7453D90FA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lemweb.com/" TargetMode="External"/><Relationship Id="rId2" Type="http://schemas.openxmlformats.org/officeDocument/2006/relationships/hyperlink" Target="http://www.law.umkc.edu/faculty/projects/ftrials/salem/SALEM.HTM" TargetMode="External"/><Relationship Id="rId3" Type="http://schemas.openxmlformats.org/officeDocument/2006/relationships/hyperlink" Target="http://www.smithsonianmag.com/history-archaeology/brief-salem.html" TargetMode="External"/><Relationship Id="rId4" Type="http://schemas.openxmlformats.org/officeDocument/2006/relationships/hyperlink" Target="http://www.greateratlantachristian.org/NetCommunity/Page.aspx?pid=221&amp;frsid=4" TargetMode="External"/><Relationship Id="rId5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4.wmf"/><Relationship Id="rId6" Type="http://schemas.openxmlformats.org/officeDocument/2006/relationships/image" Target="../media/image2.wmf"/><Relationship Id="rId7" Type="http://schemas.openxmlformats.org/officeDocument/2006/relationships/image" Target="../media/image6.gif"/><Relationship Id="rId8" Type="http://schemas.openxmlformats.org/officeDocument/2006/relationships/image" Target="../media/image15.wmf"/><Relationship Id="rId9" Type="http://schemas.openxmlformats.org/officeDocument/2006/relationships/image" Target="../media/image12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MSSN00568A0000%5B1%5D.wav" TargetMode="External"/><Relationship Id="rId3" Type="http://schemas.microsoft.com/office/2007/relationships/media" Target="file:///tmp/home/.config/libreoffice/4/user/gallery/MSSN00568A0000%5B1%5D.wav" TargetMode="External"/><Relationship Id="rId4" Type="http://schemas.openxmlformats.org/officeDocument/2006/relationships/image" Target="../media/image8.png"/><Relationship Id="rId5" Type="http://schemas.openxmlformats.org/officeDocument/2006/relationships/audio" Target="file:///tmp/home/.config/libreoffice/4/user/gallery/MSj03884840000%5B1%5D.wav" TargetMode="External"/><Relationship Id="rId6" Type="http://schemas.microsoft.com/office/2007/relationships/media" Target="file:///tmp/home/.config/libreoffice/4/user/gallery/MSj03884840000%5B1%5D.wav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wm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1.wmf"/><Relationship Id="rId6" Type="http://schemas.openxmlformats.org/officeDocument/2006/relationships/image" Target="../media/image2.wmf"/><Relationship Id="rId7" Type="http://schemas.openxmlformats.org/officeDocument/2006/relationships/audio" Target="file:///tmp/home/.config/libreoffice/4/user/gallery/MSj03885740000%5B1%5D.wav" TargetMode="External"/><Relationship Id="rId8" Type="http://schemas.microsoft.com/office/2007/relationships/media" Target="file:///tmp/home/.config/libreoffice/4/user/gallery/MSj03885740000%5B1%5D.wav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Salem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Witch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ri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886200" y="1523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228600" y="198108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Dam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h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Fo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W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2057400" cy="17874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48006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85 -0.00555 C 0.02795 -0.00463 0.00277 -0.00138 -0.02709 0.0007 C -0.03056 0.00186 -0.03403 0.00324 -0.03768 0.00394 C -0.04705 0.00556 -0.06598 0.00718 -0.06598 0.00741 C -0.08386 0.0169 -0.06598 0.00857 -0.09757 0.01343 C -0.10313 0.01436 -0.10903 0.01737 -0.11511 0.01829 C -0.14792 0.01737 -0.18004 0.01574 -0.2125 0.01343 C -0.25816 0.00463 -0.30243 -0.01273 -0.34254 -0.04213 C -0.36285 -0.05717 -0.35782 -0.04004 -0.38889 -0.07222 C -0.39966 -0.08287 -0.40938 -0.09513 -0.41962 -0.10555 C -0.43351 -0.11921 -0.45712 -0.14213 -0.46598 -0.16111 C -0.48056 -0.19051 -0.4974 -0.21597 -0.51285 -0.24351 C -0.51702 -0.25162 -0.51893 -0.26157 -0.52344 -0.26875 C -0.53733 -0.29305 -0.55486 -0.31481 -0.56979 -0.33912 C -0.57223 -0.34236 -0.57257 -0.34745 -0.57448 -0.35138 C -0.57882 -0.35972 -0.59306 -0.38287 -0.59844 -0.39467 C -0.61181 -0.42453 -0.59757 -0.39583 -0.60938 -0.42615 C -0.61615 -0.44398 -0.61927 -0.45185 -0.62344 -0.47222 C -0.62448 -0.48819 -0.62761 -0.5037 -0.62934 -0.51944 C -0.62813 -0.54676 -0.63091 -0.58449 -0.61736 -0.60833 C -0.60348 -0.67199 -0.55868 -0.69166 -0.51285 -0.70046 C -0.50191 -0.70254 -0.49028 -0.70393 -0.47952 -0.70509 C -0.46979 -0.70648 -0.45087 -0.70833 -0.45087 -0.7081 C -0.43299 -0.71666 -0.41875 -0.72708 -0.39966 -0.72939 C -0.3908 -0.73842 -0.38889 -0.7412 -0.37691 -0.74328 C -0.37049 -0.75532 -0.37014 -0.75439 -0.35816 -0.75601 C -0.34688 -0.76689 -0.33837 -0.7662 -0.32344 -0.7706 C -0.31754 -0.77176 -0.30591 -0.775 -0.30591 -0.77476 C -0.29011 -0.77338 -0.27431 -0.77245 -0.25903 -0.76851 C -0.25226 -0.76666 -0.23889 -0.76226 -0.23889 -0.76203 C -0.2283 -0.75532 -0.24063 -0.76296 -0.2224 -0.75787 C -0.20295 -0.75185 -0.18525 -0.74583 -0.16493 -0.74328 C -0.16077 -0.74236 -0.15729 -0.74097 -0.15313 -0.74004 C -0.14323 -0.73773 -0.12309 -0.73379 -0.12309 -0.73356 C -0.11025 -0.72708 -0.09792 -0.72291 -0.08438 -0.71944 C -0.06927 -0.71088 -0.05695 -0.69953 -0.04115 -0.69722 C -0.01893 -0.68078 -0.02882 -0.6868 -0.01164 -0.67662 C -0.00052 -0.66018 0.00503 -0.64629 0.01319 -0.62569 C 0.01649 -0.61759 0.01909 -0.60926 0.0217 -0.60046 C 0.02291 -0.59676 0.02517 -0.58935 0.02517 -0.58912 C 0.02795 -0.57222 0.02795 -0.55231 0.03368 -0.5368 C 0.03836 -0.50787 0.0408 -0.47291 0.03021 -0.44513 C 0.02882 -0.43449 0.02847 -0.43009 0.02291 -0.42291 C 0.01996 -0.41273 0.01597 -0.4074 0.01093 -0.39907 C 0.0033 -0.38518 0.00399 -0.38263 -0.0092 -0.37523 C -0.01129 -0.37268 -0.01337 -0.37037 -0.01511 -0.36736 C -0.01684 -0.36458 -0.01684 -0.36041 -0.01858 -0.35763 C -0.02014 -0.35578 -0.02188 -0.35601 -0.02327 -0.35463 C -0.03473 -0.34467 -0.0441 -0.3375 -0.0566 -0.3324 C -0.06927 -0.32152 -0.08056 -0.31782 -0.09497 -0.31342 C -0.11389 -0.29537 -0.09879 -0.30578 -0.12223 -0.29907 C -0.17223 -0.28472 -0.13802 -0.28912 -0.1816 -0.28634 C -0.26407 -0.26388 -0.34896 -0.2831 -0.4316 -0.28796 C -0.46181 -0.2949 -0.49184 -0.2949 -0.5224 -0.29791 C -0.57604 -0.30926 -0.63212 -0.31342 -0.68646 -0.31967 C -0.70539 -0.32176 -0.72309 -0.33125 -0.74115 -0.33402 C -0.75 -0.33888 -0.75955 -0.34143 -0.76841 -0.34398 C -0.77848 -0.33912 -0.78143 -0.33541 -0.78629 -0.32338 C -0.79132 -0.28935 -0.79098 -0.29537 -0.78872 -0.24027 C -0.78802 -0.22199 -0.78733 -0.21666 -0.77934 -0.20578 C -0.7724 -0.17893 -0.75539 -0.15092 -0.7342 -0.14421 C -0.72587 -0.13657 -0.72205 -0.13333 -0.71285 -0.13101 C -0.68316 -0.11342 -0.65469 -0.09444 -0.6224 -0.08819 C -0.59393 -0.07384 -0.58125 -0.07963 -0.54636 -0.08171 C -0.52882 -0.08726 -0.53542 -0.08402 -0.52466 -0.08981 C -0.52396 -0.09143 -0.52344 -0.09351 -0.5224 -0.09444 C -0.51997 -0.09583 -0.51719 -0.09537 -0.51493 -0.09606 C -0.50486 -0.09953 -0.49914 -0.10115 -0.48802 -0.10231 C -0.47795 -0.10694 -0.4757 -0.1074 -0.46407 -0.10879 C -0.45834 -0.11134 -0.45365 -0.1125 -0.4474 -0.11342 C -0.43351 -0.11851 -0.42743 -0.1199 -0.41389 -0.12152 C -0.38334 -0.12037 -0.37431 -0.1206 -0.34948 -0.11504 C -0.33959 -0.11041 -0.32813 -0.10856 -0.31754 -0.10717 C -0.30643 -0.10208 -0.29445 -0.10185 -0.28282 -0.0993 C -0.27691 -0.09143 -0.25348 -0.08518 -0.24358 -0.08333 C -0.23594 -0.07986 -0.22778 -0.07963 -0.21962 -0.0787 C -0.21111 -0.07083 -0.22188 -0.07916 -0.20209 -0.07384 C -0.20052 -0.07338 -0.19966 -0.07106 -0.19844 -0.0706 C -0.19584 -0.06944 -0.19271 -0.06944 -0.19028 -0.06898 C -0.18351 -0.0662 -0.175 -0.06064 -0.16841 -0.05949 C -0.1441 -0.05555 -0.13212 -0.05601 -0.10573 -0.05486 C -0.06719 -0.04791 -0.06372 -0.04676 -0.02101 -0.04676 L 0.28472 -0.55277 L -0.22795 -0.48796 L -0.99584 -1.06365 L -0.94809 -1.05578 E">
                                      <p:cBhvr>
                                        <p:cTn id="6" dur="5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996" fill="hold"/>
                                        <p:tgtEl>
                                          <p:spTgt spid="8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0"/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en a neighbor suffered misfortune, they would not help because they believed it was God’s will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uritans believed that Satan would choose the weakest individuals to carry out his wor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tches were considered as followers  of Sata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utter, Tim. "Salem Witch Trails Causes and Effects." (2003): URL: http://www.salemwitchtrials.com/salemwitchcraft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salemweb.com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nder , Douglas . " Famous American Trials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alem Witch Trail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(3/2007): URL: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law.umkc.edu/faculty/projects/ftrials/salem/SALEM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lumberg , Jess. "History &amp; Archaeology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A Brief History of the Salem Witch Tria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October 24, 2007 ):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URL:http://www.smithsonianmag.com/history-archaeology/brief-salem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so Thanks to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Julia Osteen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d her citation machine @ http://docs.google.com/View?docid=ddq7h62_14dt9cp4g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fe in Salem 1692 Religion and Witchcraft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http://school.discoveryeducation.com/schooladventures/salemwitchtrials/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Discovery Education. &lt;http://school.discoveryeducation.com/schooladventures/salemwitchtrials/life/religion.html&gt;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eyewitnesstohistory.com/salem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school.discoveryeducation.com/schooladventures/salemwitchtrials/life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228600" y="1676520"/>
            <a:ext cx="86868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e1f08"/>
                </a:solidFill>
                <a:latin typeface="Goudy Stout"/>
              </a:rPr>
              <a:t>THE</a:t>
            </a:r>
            <a:r>
              <a:rPr b="1" i="1" lang="en-US" sz="9600" spc="-1" strike="noStrike">
                <a:solidFill>
                  <a:srgbClr val="ffffff"/>
                </a:solidFill>
                <a:latin typeface="Goudy Stout"/>
              </a:rPr>
              <a:t> </a:t>
            </a:r>
            <a:r>
              <a:rPr b="1" i="1" lang="en-US" sz="9600" spc="-1" strike="noStrike">
                <a:solidFill>
                  <a:srgbClr val="ffffff"/>
                </a:solidFill>
                <a:latin typeface="Goudy Stout"/>
              </a:rPr>
              <a:t>EN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380880" y="8001000"/>
            <a:ext cx="1605240" cy="182088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3"/>
          <a:stretch/>
        </p:blipFill>
        <p:spPr>
          <a:xfrm>
            <a:off x="2286000" y="8305920"/>
            <a:ext cx="1812960" cy="1684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4"/>
          <a:stretch/>
        </p:blipFill>
        <p:spPr>
          <a:xfrm>
            <a:off x="4343400" y="8305920"/>
            <a:ext cx="2587680" cy="156672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5"/>
          <a:stretch/>
        </p:blipFill>
        <p:spPr>
          <a:xfrm>
            <a:off x="7261200" y="8153280"/>
            <a:ext cx="1882800" cy="146052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6"/>
          <a:stretch/>
        </p:blipFill>
        <p:spPr>
          <a:xfrm>
            <a:off x="-762120" y="7086600"/>
            <a:ext cx="1982880" cy="172260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7"/>
          <a:stretch/>
        </p:blipFill>
        <p:spPr>
          <a:xfrm>
            <a:off x="1828800" y="7162920"/>
            <a:ext cx="2552760" cy="96192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8"/>
          <a:stretch/>
        </p:blipFill>
        <p:spPr>
          <a:xfrm>
            <a:off x="4952880" y="7162920"/>
            <a:ext cx="1816200" cy="126972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9"/>
          <a:stretch/>
        </p:blipFill>
        <p:spPr>
          <a:xfrm>
            <a:off x="6856560" y="7086600"/>
            <a:ext cx="2287440" cy="160812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10"/>
          <a:stretch/>
        </p:blipFill>
        <p:spPr>
          <a:xfrm>
            <a:off x="-2057400" y="6477120"/>
            <a:ext cx="1711440" cy="1763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11"/>
          <a:stretch/>
        </p:blipFill>
        <p:spPr>
          <a:xfrm>
            <a:off x="9144000" y="2286000"/>
            <a:ext cx="47242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405" fill="hold"/>
                                        <p:tgtEl>
                                          <p:spTgt spid="9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7.40741E-007 L 0.475 -1.41112 E">
                                      <p:cBhvr>
                                        <p:cTn id="468" dur="50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8.88889E-006 L 0.35833 -1.51112 E">
                                      <p:cBhvr>
                                        <p:cTn id="470" dur="50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7.03704E-006 L 0.16667 -1.65556 E">
                                      <p:cBhvr>
                                        <p:cTn id="472" dur="5000" fill="hold"/>
                                        <p:tgtEl>
                                          <p:spTgt spid="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46945E-018 L 0.10834 -1.51111 E">
                                      <p:cBhvr>
                                        <p:cTn id="474" dur="5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5.92593E-006 L -0.1 -1.72222 E">
                                      <p:cBhvr>
                                        <p:cTn id="476" dur="5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2963E-006 L -0.13333 -1.52223 E">
                                      <p:cBhvr>
                                        <p:cTn id="478" dur="5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5.18519E-006 L -0.40834 -1.59999 E">
                                      <p:cBhvr>
                                        <p:cTn id="480" dur="50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-0.43333 -1.75555 E">
                                      <p:cBhvr>
                                        <p:cTn id="482" dur="5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0"/>
                            </p:stCondLst>
                            <p:childTnLst>
                              <p:par>
                                <p:cTn id="4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1.7 -0.00463 E">
                                      <p:cBhvr>
                                        <p:cTn id="485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 Life Exp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hildren were expected to do the same work as adults. They weren’t aloud to talk unless they are talked to. Happiness, sadness, and other emotions were discourag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0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0" y="-304920"/>
            <a:ext cx="10058400" cy="1470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6600"/>
                </a:solidFill>
                <a:uFillTx/>
                <a:latin typeface="comic"/>
              </a:rPr>
              <a:t>Historical event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52280" y="1407960"/>
            <a:ext cx="98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pperplate Gothic Bold"/>
              </a:rPr>
              <a:t>There were divisions among the people in the Society. Farmers, City people, Religion, Economics, Class, Character, Salem town, Salem village. The imagination and fears of the people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04920" y="293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Copperplate Gothic Bold"/>
              </a:rPr>
              <a:t>The leader of Salem in 1692 was Governor Phip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09480" y="3886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pperplate Gothic Bold"/>
              </a:rPr>
              <a:t>The economy was really b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4761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pperplate Gothic Bold"/>
              </a:rPr>
              <a:t>Other reasons the Witch Trials happened was because of frontier war, congregational strife, teenage boredom, and personal jealous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79280" y="152280"/>
            <a:ext cx="484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72560" y="1650960"/>
            <a:ext cx="76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"/>
              </a:rPr>
              <a:t>People were usually accused of witchcraft by the ‘afflicted’ gir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"/>
              </a:rPr>
              <a:t>Then put on trial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whether they liked it or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7160" y="5843520"/>
            <a:ext cx="772740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"/>
              </a:rPr>
              <a:t>In this picture the ‘afflicted’ girls are screaming and yelling because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"/>
              </a:rPr>
              <a:t>two women supposedly torturing them</a:t>
            </a:r>
            <a:r>
              <a:rPr b="0" lang="en-US" sz="1800" spc="-1" strike="noStrike">
                <a:solidFill>
                  <a:srgbClr val="77842c"/>
                </a:solidFill>
                <a:latin typeface="comic"/>
              </a:rPr>
              <a:t>.</a:t>
            </a:r>
            <a:r>
              <a:rPr b="0" lang="en-US" sz="1800" spc="-1" strike="noStrike">
                <a:solidFill>
                  <a:srgbClr val="77842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-7543800" y="2666880"/>
            <a:ext cx="5943600" cy="223992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3"/>
          <a:stretch/>
        </p:blipFill>
        <p:spPr>
          <a:xfrm>
            <a:off x="609480" y="7543800"/>
            <a:ext cx="6248520" cy="23544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1603800" y="3124080"/>
            <a:ext cx="6785640" cy="6426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The trials had trouble getting ‘Fact from Fiction' from the ‘afflicted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girl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39640" y="4038480"/>
            <a:ext cx="550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The people that were in court did not h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good chance of winning, or going back to the out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world because of the unfair cou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167 0.00348 L 1.79167 0.00348 E">
                                      <p:cBhvr>
                                        <p:cTn id="15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00209 -0.84259 E">
                                      <p:cBhvr>
                                        <p:cTn id="192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8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517840" y="0"/>
            <a:ext cx="441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lem Witch Tri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unish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26000" y="6400800"/>
            <a:ext cx="13800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you denied being a witch you were most likely hanged or bur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8"/>
          <a:stretch/>
        </p:blipFill>
        <p:spPr>
          <a:xfrm>
            <a:off x="-7162920" y="0"/>
            <a:ext cx="5907240" cy="67024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80520" y="3048120"/>
            <a:ext cx="8954280" cy="1373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trials most of the time the trails were unfair and i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‘afflicted girls’ said you were a witch to the people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de you one because of the hysteri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605960" y="4800600"/>
            <a:ext cx="6471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 person afflicted was considered to be tormented by the dev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224000" y="1600200"/>
            <a:ext cx="5749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 the arrest you were taken to jail to await your t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4491" fill="hold"/>
                                        <p:tgtEl>
                                          <p:spTgt spid="8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4338" fill="hold"/>
                                        <p:tgtEl>
                                          <p:spTgt spid="8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20518E-006 L 1.92118 -0.03863 E">
                                      <p:cBhvr>
                                        <p:cTn id="216" dur="50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0"/>
                </p:tgtEl>
              </p:cMediaNode>
            </p:audio>
            <p:audio isNarration="0">
              <p:cMediaNode showWhenStopped="1">
                <p:cTn/>
                <p:tgtEl>
                  <p:spTgt spid="881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229240" y="1873440"/>
            <a:ext cx="174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763120" y="7695720"/>
            <a:ext cx="79200" cy="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2760" bIns="32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-8305920" y="2133720"/>
            <a:ext cx="6643800" cy="340020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311400" y="6216480"/>
            <a:ext cx="67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people denied being  witches…. They were then most lik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lled because of the ‘afflicted’ girls ly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984680" y="152280"/>
            <a:ext cx="464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rials had priests from other coun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elp calm the girls from their tormentor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comic"/>
              </a:rPr>
              <a:t>The Devi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14300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24000" y="1219320"/>
            <a:ext cx="76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of the time the girls just lied about the witches, probably for atten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38298E-007 L 2.21997 -0.00347 E">
                                      <p:cBhvr>
                                        <p:cTn id="280" dur="5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7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als Effec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ials had a devastating blow to the people of Salem and other places in Massachuset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used horror beyond belief among the people, because of the death to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ere in a trial then you would not get an attorney even though by law you are supposed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ggested death toll is twenty. (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mmary of Tri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mmary of the trials is that they w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ing justice, the accused didn’t even get an attorney…. The judges believed they were making justice but really causing more harm then they intended t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-6172200" y="2017800"/>
            <a:ext cx="4952880" cy="299880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12420720" y="2286000"/>
            <a:ext cx="3965400" cy="344484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-22097880" y="152280"/>
            <a:ext cx="18135360" cy="683424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-228600" y="9144000"/>
            <a:ext cx="8305920" cy="153504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5"/>
          <a:stretch/>
        </p:blipFill>
        <p:spPr>
          <a:xfrm>
            <a:off x="1676520" y="9067680"/>
            <a:ext cx="3047760" cy="184464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6"/>
          <a:stretch/>
        </p:blipFill>
        <p:spPr>
          <a:xfrm>
            <a:off x="6934320" y="9067680"/>
            <a:ext cx="2666880" cy="23162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2.35 -1.85185E-006 E">
                                      <p:cBhvr>
                                        <p:cTn id="363" dur="5000" fill="hold"/>
                                        <p:tgtEl>
                                          <p:spTgt spid="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6.94444E-006 -2.59259E-006 L -2.84999 -2.59259E-006 E">
                                      <p:cBhvr>
                                        <p:cTn id="365" dur="50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.55112E-017 -1.11111E-006 L 2.91667 0.01112 E">
                                      <p:cBhvr>
                                        <p:cTn id="367" dur="5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5422" fill="hold"/>
                                        <p:tgtEl>
                                          <p:spTgt spid="9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96296E-006 L 5.55112E-017 -1.01227 E">
                                      <p:cBhvr>
                                        <p:cTn id="373" dur="20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0416 -0.98958 E">
                                      <p:cBhvr>
                                        <p:cTn id="375" dur="2000" fill="hold"/>
                                        <p:tgtEl>
                                          <p:spTgt spid="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42084 -1.0243 E">
                                      <p:cBhvr>
                                        <p:cTn id="377" dur="20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42083 -1.0243 C -0.41944 -1.02546 -0.41788 -1.02685 -0.41615 -1.02754 C -0.41389 -1.02847 -0.40955 -1.02592 -0.40885 -1.02916 C -0.40521 -1.05069 -0.41094 -1.07801 -0.42465 -1.09097 C -0.4342 -1.11736 -0.42205 -1.08888 -0.43281 -1.1037 C -0.43403 -1.10532 -0.43403 -1.10833 -0.43507 -1.11018 C -0.43958 -1.11851 -0.4474 -1.11851 -0.45417 -1.11967 C -0.4717 -1.12731 -0.46111 -1.12453 -0.48628 -1.12268 C -0.49184 -1.11828 -0.49427 -1.11296 -0.49948 -1.10856 C -0.50156 -1.09861 -0.49896 -1.1074 -0.50781 -1.09583 C -0.51285 -1.08935 -0.51354 -1.08171 -0.5184 -1.07523 C -0.52083 -1.06713 -0.52361 -1.05972 -0.52552 -1.05138 C -0.52517 -1.03981 -0.52552 -1.02801 -0.52448 -1.01643 C -0.52431 -1.01458 -0.52257 -1.01342 -0.52205 -1.01157 C -0.51806 -0.99953 -0.51319 -0.99745 -0.50538 -0.99097 C -0.50174 -0.9831 -0.50035 -0.97569 -0.49826 -0.96713 C -0.49861 -0.95763 -0.49844 -0.94814 -0.49948 -0.93865 C -0.50191 -0.91851 -0.52552 -0.90115 -0.53872 -0.89745 C -0.56806 -0.9 -0.59653 -0.9 -0.62448 -0.91157 C -0.63576 -0.9162 -0.64722 -0.9206 -0.65781 -0.92754 C -0.66736 -0.93379 -0.68628 -0.94652 -0.68628 -0.94652 C -0.70434 -0.97592 -0.6967 -0.96551 -0.70781 -0.97986 C -0.71024 -1.00208 -0.7066 -1.00277 -0.69948 -1.01967 C -0.69705 -1.02523 -0.69618 -1.03171 -0.6934 -1.03703 C -0.68194 -1.05926 -0.68611 -1.04097 -0.67326 -1.06088 C -0.66858 -1.06805 -0.66632 -1.07777 -0.66128 -1.08472 C -0.61962 -1.14189 -0.65191 -1.0912 -0.62205 -1.12268 C -0.61875 -1.12615 -0.61719 -1.13217 -0.61372 -1.13541 C -0.60816 -1.14074 -0.5967 -1.14513 -0.5901 -1.14814 C -0.57847 -1.15902 -0.56806 -1.1618 -0.55417 -1.16412 C -0.54618 -1.16296 -0.53802 -1.16365 -0.53038 -1.16088 C -0.52014 -1.15717 -0.51458 -1.14467 -0.5066 -1.13703 C -0.5026 -1.1331 -0.49757 -1.13125 -0.4934 -1.12754 C -0.48038 -1.11574 -0.47951 -1.10532 -0.46615 -1.08935 C -0.46181 -1.08402 -0.45677 -1.07963 -0.45295 -1.07361 C -0.42656 -1.03055 -0.4467 -1.04629 -0.42552 -1.0324 C -0.42309 -1.025 -0.4217 -1.01689 -0.41858 -1.01018 C -0.41615 -1.00509 -0.41128 -1.00254 -0.40885 -0.99745 C -0.40312 -0.98541 -0.40139 -0.97083 -0.39705 -0.95763 C -0.39288 -0.91898 -0.38854 -0.84699 -0.35052 -0.83865 C -0.33177 -0.82592 -0.31493 -0.80694 -0.29358 -0.80208 C -0.28576 -0.79768 -0.27708 -0.79814 -0.27101 -0.79259 C -0.2658 -0.78796 -0.26267 -0.78101 -0.25677 -0.77824 C -0.26667 -0.76064 -0.26927 -0.76713 -0.2875 -0.75463 C -0.30955 -0.73958 -0.33351 -0.73287 -0.35781 -0.72916 C -0.40191 -0.71527 -0.37465 -0.725 -0.43872 -0.69583 C -0.4658 -0.68356 -0.49965 -0.68287 -0.52795 -0.68148 C -0.57708 -0.68657 -0.61233 -0.68703 -0.6566 -0.69907 C -0.68212 -0.71504 -0.7033 -0.73773 -0.7316 -0.7449 C -0.74497 -0.76388 -0.75764 -0.78194 -0.76962 -0.80208 C -0.77448 -0.83078 -0.77743 -0.86018 -0.78038 -0.88935 C -0.78003 -0.90902 -0.77969 -0.92847 -0.77917 -0.94814 C -0.77812 -0.98634 -0.77465 -1.02314 -0.77083 -1.06088 C -0.76545 -1.11365 -0.75486 -1.16412 -0.71128 -1.17824 C -0.6849 -1.19629 -0.65729 -1.20254 -0.62795 -1.20532 C -0.62517 -1.20509 -0.57865 -1.20347 -0.56372 -1.19583 C -0.55538 -1.19143 -0.54792 -1.18472 -0.53993 -1.17986 C -0.52465 -1.1706 -0.50625 -1.16551 -0.49219 -1.15301 C -0.46024 -1.12453 -0.50017 -1.15046 -0.46719 -1.13078 C -0.4401 -1.09398 -0.47014 -1.13796 -0.45417 -1.10694 C -0.4474 -1.09398 -0.43767 -1.08588 -0.43038 -1.07361 C -0.42083 -1.03888 -0.41997 -1.04768 -0.41858 -1.00856 C -0.42083 -0.98588 -0.42222 -0.96273 -0.42552 -0.94027 C -0.42882 -0.91736 -0.43403 -0.9162 -0.44219 -0.89583 C -0.44514 -0.88865 -0.44566 -0.87986 -0.44948 -0.87361 C -0.46181 -0.85347 -0.47535 -0.83981 -0.48993 -0.8243 C -0.49236 -0.81689 -0.49427 -0.80926 -0.49705 -0.80208 C -0.49861 -0.79814 -0.50295 -0.79097 -0.50295 -0.79097 C -0.50451 -0.76064 -0.50781 -0.75301 -0.48628 -0.74351 C -0.48299 -0.74213 -0.48003 -0.73935 -0.47674 -0.73865 C -0.4625 -0.73564 -0.43385 -0.7324 -0.43385 -0.7324 C -0.37812 -0.73773 -0.40226 -0.73611 -0.36128 -0.73865 C -0.33872 -0.74259 -0.32066 -0.74606 -0.29826 -0.75301 C -0.27743 -0.76643 -0.25816 -0.78449 -0.23646 -0.79583 C -0.22083 -0.80393 -0.2033 -0.80578 -0.1875 -0.81319 C -0.17951 -0.82222 -0.17257 -0.83287 -0.16372 -0.84027 C -0.14045 -0.85949 -0.14722 -0.83773 -0.1316 -0.86412 C -0.12448 -0.87615 -0.1125 -0.90208 -0.1125 -0.90208 C -0.11128 -0.90902 -0.11042 -0.91597 -0.10885 -0.92268 C -0.10712 -0.93032 -0.10434 -0.93726 -0.10295 -0.9449 C -0.09913 -0.96551 -0.09722 -0.98773 -0.0934 -1.00856 C -0.09062 -1.04166 -0.09288 -1.01388 -0.08872 -1.07685 C -0.08837 -1.08263 -0.0875 -1.09421 -0.0875 -1.09421 C -0.08993 -1.12777 -0.08698 -1.2081 -0.12448 -1.21805 C -0.15035 -1.23333 -0.16875 -1.22407 -0.20052 -1.22129 C -0.21562 -1.21736 -0.22951 -1.21296 -0.24479 -1.21157 C -0.26615 -1.20231 -0.28993 -1.19953 -0.31024 -1.18634 C -0.31858 -1.175 -0.32969 -1.16666 -0.33889 -1.15601 C -0.34479 -1.14213 -0.34774 -1.13773 -0.35781 -1.12916 C -0.36163 -1.12199 -0.36458 -1.11713 -0.36632 -1.10856 C -0.37083 -1.08726 -0.36302 -1.10648 -0.37083 -1.08935 C -0.37205 -1.08125 -0.37292 -1.07685 -0.37812 -1.07199 C -0.38108 -1.06435 -0.3842 -1.04953 -0.39115 -1.04652 C -0.39479 -1.0449 -0.39844 -1.04513 -0.40191 -1.04351 C -0.40312 -1.04305 -0.40434 -1.04236 -0.40538 -1.04189 C -0.4092 -1.03842 -0.41337 -1.03611 -0.41736 -1.03379 C -0.41858 -1.0331 -0.42031 -1.03379 -0.42083 -1.0324 C -0.4217 -1.03009 -0.42083 -1.02708 -0.42083 -1.0243 Z">
                                      <p:cBhvr>
                                        <p:cTn id="379" dur="20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0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urch was the cornerstone of the 17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entur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was illegal to not go to churc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believed that God punished sinful behavio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st people in Massachusetts were Puritans seeking religious toleranc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1981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3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8.67916E-006 C -0.01684 -0.00277 -0.03385 -0.00485 -0.05069 -0.00647 C -0.0677 -0.01225 -0.08836 -0.00994 -0.10607 -0.01133 C -0.13802 -0.01619 -0.17031 -0.01225 -0.20243 -0.00971 C -0.22413 -0.00254 -0.24704 -0.0104 -0.26875 -0.00323 C -0.3085 0.02429 -0.43489 -0.03099 -0.43489 0.00787 E">
                                      <p:cBhvr>
                                        <p:cTn id="390" dur="20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5:02:47Z</dcterms:created>
  <dc:creator>lmclabb</dc:creator>
  <dc:description/>
  <dc:language>en-US</dc:language>
  <cp:lastModifiedBy>lmclabb</cp:lastModifiedBy>
  <dcterms:modified xsi:type="dcterms:W3CDTF">2008-11-24T16:09:11Z</dcterms:modified>
  <cp:revision>16</cp:revision>
  <dc:subject/>
  <dc:title>Salem Witch Trials</dc:title>
</cp:coreProperties>
</file>