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11.wmf" ContentType="image/x-wmf"/>
  <Override PartName="/ppt/media/image3.png" ContentType="image/png"/>
  <Override PartName="/ppt/media/image12.wmf" ContentType="image/x-wmf"/>
  <Override PartName="/ppt/media/image14.wmf" ContentType="image/x-wmf"/>
  <Override PartName="/ppt/media/image5.jpeg" ContentType="image/jpeg"/>
  <Override PartName="/ppt/media/image9.wmf" ContentType="image/x-wmf"/>
  <Override PartName="/ppt/media/image15.wmf" ContentType="image/x-wmf"/>
  <Override PartName="/ppt/media/image1.jpeg" ContentType="image/jpeg"/>
  <Override PartName="/ppt/media/image2.wmf" ContentType="image/x-wmf"/>
  <Override PartName="/ppt/media/image6.gif" ContentType="image/gif"/>
  <Override PartName="/ppt/media/image17.wmf" ContentType="image/x-wmf"/>
  <Override PartName="/ppt/media/image7.jpeg" ContentType="image/jpeg"/>
  <Override PartName="/ppt/media/image10.wmf" ContentType="image/x-wmf"/>
  <Override PartName="/ppt/media/image4.jpeg" ContentType="image/jpeg"/>
  <Override PartName="/ppt/media/image16.wmf" ContentType="image/x-wmf"/>
  <Override PartName="/ppt/media/image8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79E90-52C0-4984-89D6-FDE82FA0B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29E05-157B-43A1-9117-F5DC1ED3D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EC213B-4D95-45C5-9692-CEC2E2D17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8AF16C-91F2-4ABF-BBB6-900DA5818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5A082B-15ED-448A-B286-AEE15E3ED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DA0458-3D8A-4CBE-A8BC-F4E9F913F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737EF4-1FFB-4113-958D-BBC592D1B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8BDD3A-252A-421B-9542-97BC53802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25605E-38EB-4952-9750-CC2BEF06C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4D56FA-F06D-4184-A926-DE9184EC7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5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5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B93517-3F36-4F80-8104-F4087AE76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E110D9-0F23-481A-B5E7-D386A8B19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E6AFF-9E80-4761-9577-1CE7599B6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EB178F-F2BB-4567-8AB1-DE9D841DB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9E6F70-37EB-41D9-BE4E-8058330B3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D7827E-42EE-48FA-A066-09D5BCC07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D6E9EE-9F3E-4453-9C1F-0041F7D4C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2AB706-E8D7-48EA-B8C3-4B47E6AE3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C263B9-8E5C-4779-9737-79FDBB9F6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B4E4A0-64A8-4FA9-BC61-771551EA5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F448B3-59EC-4A4C-A99B-241B6EE91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3BE615-9775-4A53-A19C-168BCD339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D1A548-468D-4CC7-9CDC-152E8C760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50FF0-29D5-4514-9EE5-73EFD6CE0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AE6CBF-7228-4461-8F4E-2A0D513ED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B2DB77-21CB-4A4D-816E-4F3931864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3BF4FF-81AD-4E50-ABDD-0D8625309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F5E597-EF9D-4D84-B697-76DDB2EDC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3B94DD-CAA0-49C0-89A7-D71AFA5C2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10A332-C4B0-478E-91B7-29C789433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C6588C-775D-47E7-8ADC-EB1CD8947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080D90-542E-485C-8883-7DCDC108F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17D5AE-D0A9-4A35-994A-2B92C2817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367979-65FF-40B9-BC74-FBA398A8A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1736D-FB0D-4D15-A869-551BAA582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D9A723-710C-49BC-9E1F-11BA2D387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0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B9C54A-5293-49BF-9C32-8FD6E3EE1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1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1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1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183BF6-09CF-4CD6-B710-9E8C038B3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809C3F-1839-40BC-8D35-05396D3FF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842F33-D21D-4A05-95FD-F607906CE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0344D0-017E-4BEC-B4CC-38585B355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C43AD3-DE7E-4898-8F3D-B11538F27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D35099-8EAB-4E81-A16C-0AEA488BF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4A0AB1-3825-4737-BE87-86B4F40D2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1F2370-5ABA-49BA-AE97-C0690C6C8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0EC2C-F992-488F-8C9A-826B6B50E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3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2DD945-557D-4155-863D-EECCBAB18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21F1B5-4DF3-49B3-9446-ABA3E49C6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04CFF0-2868-48D2-89F8-E20A6228E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4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9E6017-C4FD-45CE-80A8-2932776CD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5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5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5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ED01B0-3A6E-4FF4-9430-C5D921D05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9C2CD-F02E-46F8-AC5A-E60635025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6FBEF-83D2-4C36-855E-3AE8B8526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7A672-0D3D-4C0B-B4C5-F4236BD8E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68C29-BD7A-4E9C-BE2F-9A1EC1A58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D30A1-0793-4607-A208-3F0B02799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295D5-753C-46D7-8B68-A75D6D9FB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788BA-D65C-406F-BABB-0AE90D612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8999E-54CA-4F23-9E6D-8F90F8BB9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DB186-79CE-4284-A485-967C8E698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C5752-41D1-4C84-AACC-0772E9A84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40FBF-58F9-475B-A6EA-FA2D230D9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B7A9C4-2E73-4FE5-8F20-DF6195584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3C94AF-C1C6-4A43-BAEA-40C87B0C8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85CC61-1729-4ED5-BD65-1BE1F1F91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325B2E-BCFC-4F4B-9ABA-75446A336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D4044F-97E5-4E85-A39C-8D809747A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19588-3434-40C9-895D-DA380D588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34B7A5-71D8-4640-A7FE-04B2C2022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3FB9A8-E939-455E-8356-B70870761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35F2E0-27D1-479B-A9AB-CF252DB12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85C525-9B39-4E70-9AA2-F9EB88B54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88B647-696A-4F48-8A1A-DFF89226D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F4565A-679C-48E5-98A3-0B2A54903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DF3A15-FD8E-4314-99AE-63C92D10F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C85C78-6B80-47A0-AC21-6F791076C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729272-77A4-4DF7-BA20-A2CA30243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E95362-C9BE-4246-9FB6-9E91C466B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906EE-9CAC-4921-A3EA-7BA76CD79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662F0A-5C31-433F-8A42-F7F61A602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47CBE8-13B4-4D20-AB5E-F698209D1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F70897-70F4-4064-83BD-2F31024FE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E9F1D0-5919-4D3E-B7CE-EDF051C5B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AD53E4-BAD9-434F-8215-264432BD9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BEC4F8-BB9F-422B-8824-6215A0E3C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93A34E-B6D1-4E58-B202-298C3B007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41C216-5F5E-4105-B8E5-D08DDF07B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AE2B6E-B2CC-4BE7-A1A4-F830E1A47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88908B-80C8-4CC3-82BC-0C2D2DE74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8002B-AEB4-4514-9103-CCBD385BE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409D50-25F5-4AA0-93F4-53EE73553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1FB106-C378-447F-807C-BCB984954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C5A06D-3985-4720-B43F-E74F99983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5ED761-28AC-4645-A84F-A9E7CD630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8D3E42-E38D-4105-8DBF-C7176C982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72300C-81FC-44DE-A833-0D399EBB6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E2FFCF-BDBF-495A-855D-7645DEBEB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056CBE-BEEF-43F4-976C-4C4ADD7F0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F6B443-99CB-495B-BDDF-715E5A89A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122059-C962-47B7-99AE-082E594A8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D8C8A-B3B7-4DB6-882E-F3DF8AD74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0E013D-B026-4AB2-AA62-2874373D8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E1A6FB-DC47-4DCA-94DC-FD907F6DB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07912E-C73B-40E9-8C32-AD4F35C92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ABC7FB-A170-482A-9676-9C510EC11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A58074-0ACE-455D-B1F7-42F563F59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311F25-6DE5-477A-8EB1-3C6F93CC3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614921-D957-40B1-A4F5-EBA645BD9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5C3838-5BBB-4BF2-B024-B515C1979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CEAAC7-CAE6-4D8B-BB36-0DB1F3CCF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E97324-C109-4BF3-B05B-8856931AF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195E7-8375-409C-902C-19D797732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97A6A3-7E62-4598-8786-567A4E482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AB31B4-5B93-4C53-927B-044F7A4F7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A0CEE2-0A42-424C-BA06-3205FAB84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0559CA-0774-4B76-8302-DB5287674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E8E793-2DBD-40E0-89B9-52E498F99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C4FD96-1CA9-4140-ACEC-41D6CAAF8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CC6CAF-D88E-47A6-9CAF-34E0E2286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EA0557-1CDC-4920-A08C-620CEBB45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B15A53-FB2A-4C83-B976-EC9CFFB22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D0F172-F68A-46E2-AA42-512E11A3F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80AB1-725A-4E9C-8E8D-194E062B7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F4AED1-2ABF-4D93-B568-C86E693AC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59E92D-BECE-441B-A59A-1519CC930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448B86-518B-402D-B8CA-F01A4C28B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702BED-9116-42C4-85A3-40C2417D3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AE9854-F656-4B3D-A6AD-90A1EBFE3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B8F2DA-35EF-40A4-8149-6A823DF1E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9F38AB-8E02-4AC4-A777-E0D8E66D8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FEC74A-E79B-4410-B07F-300989EAD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C2081C-5587-43C9-A059-3CA9A9B46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67088C-3355-47F1-9D1E-409740429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1976A-A10C-4B29-932F-403E1C7FE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1C7166-4C76-487C-A7FE-58B5D4FCC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45FCB2-2F47-4069-A188-B90613586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E276DE-B718-4E38-AAB1-311466E9C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9DB58D-91E6-4842-A139-0E6BB04A3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62C5FE-673E-4142-8766-654087534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5B254A-75AE-4F32-9664-FD6D6535C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818C23-1C14-462B-9511-21B5CF96D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F23006-ACEF-4D35-9C86-74A22DAE6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B562CA-EBD1-440D-AC56-1AB5C44E7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F5FF5E-6611-4CE1-BE41-FA4248072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18C87-E6B6-4DFF-B535-B2398C2517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8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659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62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663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76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87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688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93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dt" idx="2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 type="sldNum" idx="3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FD8AD-14B6-42AF-B7F2-46AF95B7B984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6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37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40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741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54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65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766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71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707AF-C018-4A6A-83BA-1362F01E57B6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A83FA-ECDC-4617-94B6-0BC05CA385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4DB8B-8AF5-41B4-8706-741AB02E1A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82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7E215-7246-404D-A7D7-D8E12F18BC5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3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9198D-3518-4613-87E6-0DC3FA13D78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5D35A-952D-402D-AF64-D2E03C8397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221" name="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dt" idx="16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ftr" idx="17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sldNum" idx="18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ED517-5812-4AF3-96BE-302F5A9CFF4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5" name="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266" name="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dt" idx="19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 type="ftr" idx="20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 type="sldNum" idx="21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636BA-1324-419D-AC9D-38530C64969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9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310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311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13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314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16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317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19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320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321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3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324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325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6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7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328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9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0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331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3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334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5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6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9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40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1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2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3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4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5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46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7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8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349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0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1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352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3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4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355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6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7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358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9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0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361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2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3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364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5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6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367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8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9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370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1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2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373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4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5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376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7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8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379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0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1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382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4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385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6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7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389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390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1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2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393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4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5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396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7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8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399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0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1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402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3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4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405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6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7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408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9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0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411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2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3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414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5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6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417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8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9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420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1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22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B136C-A2A9-49F1-878F-F2389253B734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5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486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487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89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490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491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492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3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4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495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496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7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98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499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0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01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502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3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04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505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6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07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508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9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10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511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2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13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514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5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16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517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8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19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520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1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22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523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4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25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526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7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28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529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0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31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532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3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34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535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6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37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538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9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40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541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2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43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544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5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46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547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8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49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550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1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52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553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4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55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556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7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58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9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560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561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2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63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564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5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66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567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8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69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570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1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72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573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4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75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576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7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78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579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0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81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582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3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84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585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6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87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588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9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90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591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92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593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594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595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6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7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8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9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0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1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02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03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604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11B6E-F21B-48E0-B156-969403659AF9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salemweb.com/" TargetMode="External"/><Relationship Id="rId2" Type="http://schemas.openxmlformats.org/officeDocument/2006/relationships/hyperlink" Target="http://www.law.umkc.edu/faculty/projects/ftrials/salem/SALEM.HTM" TargetMode="External"/><Relationship Id="rId3" Type="http://schemas.openxmlformats.org/officeDocument/2006/relationships/hyperlink" Target="http://www.smithsonianmag.com/history-archaeology/brief-salem.html" TargetMode="External"/><Relationship Id="rId4" Type="http://schemas.openxmlformats.org/officeDocument/2006/relationships/hyperlink" Target="http://www.greateratlantachristian.org/NetCommunity/Page.aspx?pid=221&amp;frsid=4" TargetMode="External"/><Relationship Id="rId5" Type="http://schemas.openxmlformats.org/officeDocument/2006/relationships/slideLayout" Target="../slideLayouts/slideLayout1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wmf"/><Relationship Id="rId3" Type="http://schemas.openxmlformats.org/officeDocument/2006/relationships/image" Target="../media/image13.wmf"/><Relationship Id="rId4" Type="http://schemas.openxmlformats.org/officeDocument/2006/relationships/image" Target="../media/image11.wmf"/><Relationship Id="rId5" Type="http://schemas.openxmlformats.org/officeDocument/2006/relationships/image" Target="../media/image14.wmf"/><Relationship Id="rId6" Type="http://schemas.openxmlformats.org/officeDocument/2006/relationships/image" Target="../media/image2.wmf"/><Relationship Id="rId7" Type="http://schemas.openxmlformats.org/officeDocument/2006/relationships/image" Target="../media/image6.gif"/><Relationship Id="rId8" Type="http://schemas.openxmlformats.org/officeDocument/2006/relationships/image" Target="../media/image15.wmf"/><Relationship Id="rId9" Type="http://schemas.openxmlformats.org/officeDocument/2006/relationships/image" Target="../media/image12.wmf"/><Relationship Id="rId10" Type="http://schemas.openxmlformats.org/officeDocument/2006/relationships/image" Target="../media/image16.wmf"/><Relationship Id="rId11" Type="http://schemas.openxmlformats.org/officeDocument/2006/relationships/image" Target="../media/image17.wmf"/><Relationship Id="rId12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file:///tmp/home/.config/libreoffice/4/user/gallery/MSSN00568A0000%5B1%5D.wav" TargetMode="External"/><Relationship Id="rId3" Type="http://schemas.microsoft.com/office/2007/relationships/media" Target="file:///tmp/home/.config/libreoffice/4/user/gallery/MSSN00568A0000%5B1%5D.wav" TargetMode="External"/><Relationship Id="rId4" Type="http://schemas.openxmlformats.org/officeDocument/2006/relationships/image" Target="../media/image8.png"/><Relationship Id="rId5" Type="http://schemas.openxmlformats.org/officeDocument/2006/relationships/audio" Target="file:///tmp/home/.config/libreoffice/4/user/gallery/MSj03884840000%5B1%5D.wav" TargetMode="External"/><Relationship Id="rId6" Type="http://schemas.microsoft.com/office/2007/relationships/media" Target="file:///tmp/home/.config/libreoffice/4/user/gallery/MSj03884840000%5B1%5D.wav" TargetMode="External"/><Relationship Id="rId7" Type="http://schemas.openxmlformats.org/officeDocument/2006/relationships/image" Target="../media/image8.png"/><Relationship Id="rId8" Type="http://schemas.openxmlformats.org/officeDocument/2006/relationships/image" Target="../media/image9.wmf"/><Relationship Id="rId9" Type="http://schemas.openxmlformats.org/officeDocument/2006/relationships/slideLayout" Target="../slideLayouts/slideLayout13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2.wmf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image" Target="../media/image11.wmf"/><Relationship Id="rId6" Type="http://schemas.openxmlformats.org/officeDocument/2006/relationships/image" Target="../media/image2.wmf"/><Relationship Id="rId7" Type="http://schemas.openxmlformats.org/officeDocument/2006/relationships/audio" Target="file:///tmp/home/.config/libreoffice/4/user/gallery/MSj03885740000%5B1%5D.wav" TargetMode="External"/><Relationship Id="rId8" Type="http://schemas.microsoft.com/office/2007/relationships/media" Target="file:///tmp/home/.config/libreoffice/4/user/gallery/MSj03885740000%5B1%5D.wav" TargetMode="External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6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Arial"/>
              </a:rPr>
              <a:t>Salem</a:t>
            </a: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33cc33"/>
                </a:solidFill>
                <a:latin typeface="Arial"/>
              </a:rPr>
              <a:t>Witch</a:t>
            </a: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Trial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3886200" y="15238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B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-228600" y="1981080"/>
            <a:ext cx="91440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99"/>
                </a:solidFill>
                <a:latin typeface="Arial"/>
              </a:rPr>
              <a:t>Daman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cha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cc"/>
                </a:solidFill>
                <a:latin typeface="Arial"/>
              </a:rPr>
              <a:t>Fos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Arial"/>
              </a:rPr>
              <a:t>Wi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57" name="" descr=""/>
          <p:cNvPicPr/>
          <p:nvPr/>
        </p:nvPicPr>
        <p:blipFill>
          <a:blip r:embed="rId1"/>
          <a:stretch/>
        </p:blipFill>
        <p:spPr>
          <a:xfrm>
            <a:off x="6553080" y="4800600"/>
            <a:ext cx="2057400" cy="1787400"/>
          </a:xfrm>
          <a:prstGeom prst="rect">
            <a:avLst/>
          </a:prstGeom>
          <a:ln w="0">
            <a:noFill/>
          </a:ln>
        </p:spPr>
      </p:pic>
      <p:pic>
        <p:nvPicPr>
          <p:cNvPr id="858" name="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859" name=""/>
          <p:cNvSpPr/>
          <p:nvPr/>
        </p:nvSpPr>
        <p:spPr>
          <a:xfrm>
            <a:off x="457200" y="4800600"/>
            <a:ext cx="426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885 -0.00555 C 0.02795 -0.00463 0.00277 -0.00138 -0.02709 0.0007 C -0.03056 0.00186 -0.03403 0.00324 -0.03768 0.00394 C -0.04705 0.00556 -0.06598 0.00718 -0.06598 0.00741 C -0.08386 0.0169 -0.06598 0.00857 -0.09757 0.01343 C -0.10313 0.01436 -0.10903 0.01737 -0.11511 0.01829 C -0.14792 0.01737 -0.18004 0.01574 -0.2125 0.01343 C -0.25816 0.00463 -0.30243 -0.01273 -0.34254 -0.04213 C -0.36285 -0.05717 -0.35782 -0.04004 -0.38889 -0.07222 C -0.39966 -0.08287 -0.40938 -0.09513 -0.41962 -0.10555 C -0.43351 -0.11921 -0.45712 -0.14213 -0.46598 -0.16111 C -0.48056 -0.19051 -0.4974 -0.21597 -0.51285 -0.24351 C -0.51702 -0.25162 -0.51893 -0.26157 -0.52344 -0.26875 C -0.53733 -0.29305 -0.55486 -0.31481 -0.56979 -0.33912 C -0.57223 -0.34236 -0.57257 -0.34745 -0.57448 -0.35138 C -0.57882 -0.35972 -0.59306 -0.38287 -0.59844 -0.39467 C -0.61181 -0.42453 -0.59757 -0.39583 -0.60938 -0.42615 C -0.61615 -0.44398 -0.61927 -0.45185 -0.62344 -0.47222 C -0.62448 -0.48819 -0.62761 -0.5037 -0.62934 -0.51944 C -0.62813 -0.54676 -0.63091 -0.58449 -0.61736 -0.60833 C -0.60348 -0.67199 -0.55868 -0.69166 -0.51285 -0.70046 C -0.50191 -0.70254 -0.49028 -0.70393 -0.47952 -0.70509 C -0.46979 -0.70648 -0.45087 -0.70833 -0.45087 -0.7081 C -0.43299 -0.71666 -0.41875 -0.72708 -0.39966 -0.72939 C -0.3908 -0.73842 -0.38889 -0.7412 -0.37691 -0.74328 C -0.37049 -0.75532 -0.37014 -0.75439 -0.35816 -0.75601 C -0.34688 -0.76689 -0.33837 -0.7662 -0.32344 -0.7706 C -0.31754 -0.77176 -0.30591 -0.775 -0.30591 -0.77476 C -0.29011 -0.77338 -0.27431 -0.77245 -0.25903 -0.76851 C -0.25226 -0.76666 -0.23889 -0.76226 -0.23889 -0.76203 C -0.2283 -0.75532 -0.24063 -0.76296 -0.2224 -0.75787 C -0.20295 -0.75185 -0.18525 -0.74583 -0.16493 -0.74328 C -0.16077 -0.74236 -0.15729 -0.74097 -0.15313 -0.74004 C -0.14323 -0.73773 -0.12309 -0.73379 -0.12309 -0.73356 C -0.11025 -0.72708 -0.09792 -0.72291 -0.08438 -0.71944 C -0.06927 -0.71088 -0.05695 -0.69953 -0.04115 -0.69722 C -0.01893 -0.68078 -0.02882 -0.6868 -0.01164 -0.67662 C -0.00052 -0.66018 0.00503 -0.64629 0.01319 -0.62569 C 0.01649 -0.61759 0.01909 -0.60926 0.0217 -0.60046 C 0.02291 -0.59676 0.02517 -0.58935 0.02517 -0.58912 C 0.02795 -0.57222 0.02795 -0.55231 0.03368 -0.5368 C 0.03836 -0.50787 0.0408 -0.47291 0.03021 -0.44513 C 0.02882 -0.43449 0.02847 -0.43009 0.02291 -0.42291 C 0.01996 -0.41273 0.01597 -0.4074 0.01093 -0.39907 C 0.0033 -0.38518 0.00399 -0.38263 -0.0092 -0.37523 C -0.01129 -0.37268 -0.01337 -0.37037 -0.01511 -0.36736 C -0.01684 -0.36458 -0.01684 -0.36041 -0.01858 -0.35763 C -0.02014 -0.35578 -0.02188 -0.35601 -0.02327 -0.35463 C -0.03473 -0.34467 -0.0441 -0.3375 -0.0566 -0.3324 C -0.06927 -0.32152 -0.08056 -0.31782 -0.09497 -0.31342 C -0.11389 -0.29537 -0.09879 -0.30578 -0.12223 -0.29907 C -0.17223 -0.28472 -0.13802 -0.28912 -0.1816 -0.28634 C -0.26407 -0.26388 -0.34896 -0.2831 -0.4316 -0.28796 C -0.46181 -0.2949 -0.49184 -0.2949 -0.5224 -0.29791 C -0.57604 -0.30926 -0.63212 -0.31342 -0.68646 -0.31967 C -0.70539 -0.32176 -0.72309 -0.33125 -0.74115 -0.33402 C -0.75 -0.33888 -0.75955 -0.34143 -0.76841 -0.34398 C -0.77848 -0.33912 -0.78143 -0.33541 -0.78629 -0.32338 C -0.79132 -0.28935 -0.79098 -0.29537 -0.78872 -0.24027 C -0.78802 -0.22199 -0.78733 -0.21666 -0.77934 -0.20578 C -0.7724 -0.17893 -0.75539 -0.15092 -0.7342 -0.14421 C -0.72587 -0.13657 -0.72205 -0.13333 -0.71285 -0.13101 C -0.68316 -0.11342 -0.65469 -0.09444 -0.6224 -0.08819 C -0.59393 -0.07384 -0.58125 -0.07963 -0.54636 -0.08171 C -0.52882 -0.08726 -0.53542 -0.08402 -0.52466 -0.08981 C -0.52396 -0.09143 -0.52344 -0.09351 -0.5224 -0.09444 C -0.51997 -0.09583 -0.51719 -0.09537 -0.51493 -0.09606 C -0.50486 -0.09953 -0.49914 -0.10115 -0.48802 -0.10231 C -0.47795 -0.10694 -0.4757 -0.1074 -0.46407 -0.10879 C -0.45834 -0.11134 -0.45365 -0.1125 -0.4474 -0.11342 C -0.43351 -0.11851 -0.42743 -0.1199 -0.41389 -0.12152 C -0.38334 -0.12037 -0.37431 -0.1206 -0.34948 -0.11504 C -0.33959 -0.11041 -0.32813 -0.10856 -0.31754 -0.10717 C -0.30643 -0.10208 -0.29445 -0.10185 -0.28282 -0.0993 C -0.27691 -0.09143 -0.25348 -0.08518 -0.24358 -0.08333 C -0.23594 -0.07986 -0.22778 -0.07963 -0.21962 -0.0787 C -0.21111 -0.07083 -0.22188 -0.07916 -0.20209 -0.07384 C -0.20052 -0.07338 -0.19966 -0.07106 -0.19844 -0.0706 C -0.19584 -0.06944 -0.19271 -0.06944 -0.19028 -0.06898 C -0.18351 -0.0662 -0.175 -0.06064 -0.16841 -0.05949 C -0.1441 -0.05555 -0.13212 -0.05601 -0.10573 -0.05486 C -0.06719 -0.04791 -0.06372 -0.04676 -0.02101 -0.04676 L 0.28472 -0.55277 L -0.22795 -0.48796 L -0.99584 -1.06365 L -0.94809 -1.05578 E">
                                      <p:cBhvr>
                                        <p:cTn id="6" dur="5000" fill="hold"/>
                                        <p:tgtEl>
                                          <p:spTgt spid="8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000"/>
                            </p:stCondLst>
                            <p:childTnLst>
                              <p:par>
                                <p:cTn id="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" dur="1996" fill="hold"/>
                                        <p:tgtEl>
                                          <p:spTgt spid="8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0"/>
                            </p:stCondLst>
                            <p:childTnLst>
                              <p:par>
                                <p:cTn id="1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5000"/>
                            </p:stCondLst>
                            <p:childTnLst>
                              <p:par>
                                <p:cTn id="2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8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6000"/>
                            </p:stCondLst>
                            <p:childTnLst>
                              <p:par>
                                <p:cTn id="34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7000"/>
                            </p:stCondLst>
                            <p:childTnLst>
                              <p:par>
                                <p:cTn id="4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8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8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8000"/>
                            </p:stCondLst>
                            <p:childTnLst>
                              <p:par>
                                <p:cTn id="46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8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8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8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8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8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20000"/>
                            </p:stCondLst>
                            <p:childTnLst>
                              <p:par>
                                <p:cTn id="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0"/>
                                        <p:tgtEl>
                                          <p:spTgt spid="8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Relig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When a neighbor suffered misfortune, they would not help because they believed it was God’s will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Puritans believed that Satan would choose the weakest individuals to carry out his work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Witches were considered as followers  of Satan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2" dur="500"/>
                                        <p:tgtEl>
                                          <p:spTgt spid="9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47" dur="500"/>
                                        <p:tgtEl>
                                          <p:spTgt spid="9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2" dur="500"/>
                                        <p:tgtEl>
                                          <p:spTgt spid="9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ourc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Sutter, Tim. "Salem Witch Trails Causes and Effects." (2003): URL: http://www.salemwitchtrials.com/salemwitchcraft.htm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ffcc"/>
                </a:solidFill>
                <a:uFillTx/>
                <a:latin typeface="Verdana"/>
                <a:hlinkClick r:id="rId1"/>
              </a:rPr>
              <a:t>http://www.salemweb.com/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Linder , Douglas . " Famous American Trials ." 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Verdana"/>
              </a:rPr>
              <a:t>Salem Witch Trails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(3/2007): URL: </a:t>
            </a:r>
            <a:r>
              <a:rPr b="0" lang="en-US" sz="1600" spc="-1" strike="noStrike" u="sng">
                <a:solidFill>
                  <a:srgbClr val="ffffcc"/>
                </a:solidFill>
                <a:uFillTx/>
                <a:latin typeface="Verdana"/>
                <a:hlinkClick r:id="rId2"/>
              </a:rPr>
              <a:t>http://www.law.umkc.edu/faculty/projects/ftrials/salem/SALEM.HTM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Blumberg , Jess. "History &amp; Archaeology ." 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Verdana"/>
              </a:rPr>
              <a:t>A Brief History of the Salem Witch Trials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(October 24, 2007 ): </a:t>
            </a:r>
            <a:r>
              <a:rPr b="0" lang="en-US" sz="1600" spc="-1" strike="noStrike" u="sng">
                <a:solidFill>
                  <a:srgbClr val="ffffcc"/>
                </a:solidFill>
                <a:uFillTx/>
                <a:latin typeface="Verdana"/>
                <a:hlinkClick r:id="rId3"/>
              </a:rPr>
              <a:t>URL:http://www.smithsonianmag.com/history-archaeology/brief-salem.htm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Also Thanks to </a:t>
            </a:r>
            <a:r>
              <a:rPr b="0" lang="en-US" sz="1600" spc="-1" strike="noStrike" u="sng">
                <a:solidFill>
                  <a:srgbClr val="ffffcc"/>
                </a:solidFill>
                <a:uFillTx/>
                <a:latin typeface="Verdana"/>
                <a:hlinkClick r:id="rId4"/>
              </a:rPr>
              <a:t>Julia Osteen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and her citation machine @ http://docs.google.com/View?docid=ddq7h62_14dt9cp4gk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ourc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Life in Salem 1692 Religion and Witchcraft ." 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Verdana"/>
              </a:rPr>
              <a:t>http://school.discoveryeducation.com/schooladventures/salemwitchtrials/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. Discovery Education. &lt;http://school.discoveryeducation.com/schooladventures/salemwitchtrials/life/religion.html&gt;.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http://www.eyewitnesstohistory.com/salem.htm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http://school.discoveryeducation.com/schooladventures/salemwitchtrials/life/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"/>
          <p:cNvSpPr/>
          <p:nvPr/>
        </p:nvSpPr>
        <p:spPr>
          <a:xfrm>
            <a:off x="228600" y="1676520"/>
            <a:ext cx="8686800" cy="37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600" spc="-1" strike="noStrike">
                <a:solidFill>
                  <a:srgbClr val="fe1f08"/>
                </a:solidFill>
                <a:latin typeface="Goudy Stout"/>
              </a:rPr>
              <a:t>THE</a:t>
            </a:r>
            <a:r>
              <a:rPr b="1" i="1" lang="en-US" sz="9600" spc="-1" strike="noStrike">
                <a:solidFill>
                  <a:srgbClr val="ffffff"/>
                </a:solidFill>
                <a:latin typeface="Goudy Stout"/>
              </a:rPr>
              <a:t> </a:t>
            </a:r>
            <a:r>
              <a:rPr b="1" i="1" lang="en-US" sz="9600" spc="-1" strike="noStrike">
                <a:solidFill>
                  <a:srgbClr val="ffffff"/>
                </a:solidFill>
                <a:latin typeface="Goudy Stout"/>
              </a:rPr>
              <a:t>END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4" name="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915" name="" descr=""/>
          <p:cNvPicPr/>
          <p:nvPr/>
        </p:nvPicPr>
        <p:blipFill>
          <a:blip r:embed="rId2"/>
          <a:stretch/>
        </p:blipFill>
        <p:spPr>
          <a:xfrm>
            <a:off x="380880" y="8001000"/>
            <a:ext cx="1605240" cy="1820880"/>
          </a:xfrm>
          <a:prstGeom prst="rect">
            <a:avLst/>
          </a:prstGeom>
          <a:ln w="0">
            <a:noFill/>
          </a:ln>
        </p:spPr>
      </p:pic>
      <p:pic>
        <p:nvPicPr>
          <p:cNvPr id="916" name="" descr=""/>
          <p:cNvPicPr/>
          <p:nvPr/>
        </p:nvPicPr>
        <p:blipFill>
          <a:blip r:embed="rId3"/>
          <a:stretch/>
        </p:blipFill>
        <p:spPr>
          <a:xfrm>
            <a:off x="2286000" y="8305920"/>
            <a:ext cx="1812960" cy="1684080"/>
          </a:xfrm>
          <a:prstGeom prst="rect">
            <a:avLst/>
          </a:prstGeom>
          <a:ln w="0">
            <a:noFill/>
          </a:ln>
        </p:spPr>
      </p:pic>
      <p:pic>
        <p:nvPicPr>
          <p:cNvPr id="917" name="" descr=""/>
          <p:cNvPicPr/>
          <p:nvPr/>
        </p:nvPicPr>
        <p:blipFill>
          <a:blip r:embed="rId4"/>
          <a:stretch/>
        </p:blipFill>
        <p:spPr>
          <a:xfrm>
            <a:off x="4343400" y="8305920"/>
            <a:ext cx="2587680" cy="1566720"/>
          </a:xfrm>
          <a:prstGeom prst="rect">
            <a:avLst/>
          </a:prstGeom>
          <a:ln w="0">
            <a:noFill/>
          </a:ln>
        </p:spPr>
      </p:pic>
      <p:pic>
        <p:nvPicPr>
          <p:cNvPr id="918" name="" descr=""/>
          <p:cNvPicPr/>
          <p:nvPr/>
        </p:nvPicPr>
        <p:blipFill>
          <a:blip r:embed="rId5"/>
          <a:stretch/>
        </p:blipFill>
        <p:spPr>
          <a:xfrm>
            <a:off x="7261200" y="8153280"/>
            <a:ext cx="1882800" cy="1460520"/>
          </a:xfrm>
          <a:prstGeom prst="rect">
            <a:avLst/>
          </a:prstGeom>
          <a:ln w="0">
            <a:noFill/>
          </a:ln>
        </p:spPr>
      </p:pic>
      <p:pic>
        <p:nvPicPr>
          <p:cNvPr id="919" name="" descr=""/>
          <p:cNvPicPr/>
          <p:nvPr/>
        </p:nvPicPr>
        <p:blipFill>
          <a:blip r:embed="rId6"/>
          <a:stretch/>
        </p:blipFill>
        <p:spPr>
          <a:xfrm>
            <a:off x="-762120" y="7086600"/>
            <a:ext cx="1982880" cy="1722600"/>
          </a:xfrm>
          <a:prstGeom prst="rect">
            <a:avLst/>
          </a:prstGeom>
          <a:ln w="0">
            <a:noFill/>
          </a:ln>
        </p:spPr>
      </p:pic>
      <p:pic>
        <p:nvPicPr>
          <p:cNvPr id="920" name="" descr=""/>
          <p:cNvPicPr/>
          <p:nvPr/>
        </p:nvPicPr>
        <p:blipFill>
          <a:blip r:embed="rId7"/>
          <a:stretch/>
        </p:blipFill>
        <p:spPr>
          <a:xfrm>
            <a:off x="1828800" y="7162920"/>
            <a:ext cx="2552760" cy="961920"/>
          </a:xfrm>
          <a:prstGeom prst="rect">
            <a:avLst/>
          </a:prstGeom>
          <a:ln w="0">
            <a:noFill/>
          </a:ln>
        </p:spPr>
      </p:pic>
      <p:pic>
        <p:nvPicPr>
          <p:cNvPr id="921" name="" descr=""/>
          <p:cNvPicPr/>
          <p:nvPr/>
        </p:nvPicPr>
        <p:blipFill>
          <a:blip r:embed="rId8"/>
          <a:stretch/>
        </p:blipFill>
        <p:spPr>
          <a:xfrm>
            <a:off x="4952880" y="7162920"/>
            <a:ext cx="1816200" cy="1269720"/>
          </a:xfrm>
          <a:prstGeom prst="rect">
            <a:avLst/>
          </a:prstGeom>
          <a:ln w="0">
            <a:noFill/>
          </a:ln>
        </p:spPr>
      </p:pic>
      <p:pic>
        <p:nvPicPr>
          <p:cNvPr id="922" name="" descr=""/>
          <p:cNvPicPr/>
          <p:nvPr/>
        </p:nvPicPr>
        <p:blipFill>
          <a:blip r:embed="rId9"/>
          <a:stretch/>
        </p:blipFill>
        <p:spPr>
          <a:xfrm>
            <a:off x="6856560" y="7086600"/>
            <a:ext cx="2287440" cy="1608120"/>
          </a:xfrm>
          <a:prstGeom prst="rect">
            <a:avLst/>
          </a:prstGeom>
          <a:ln w="0">
            <a:noFill/>
          </a:ln>
        </p:spPr>
      </p:pic>
      <p:pic>
        <p:nvPicPr>
          <p:cNvPr id="923" name="" descr=""/>
          <p:cNvPicPr/>
          <p:nvPr/>
        </p:nvPicPr>
        <p:blipFill>
          <a:blip r:embed="rId10"/>
          <a:stretch/>
        </p:blipFill>
        <p:spPr>
          <a:xfrm>
            <a:off x="-2057400" y="6477120"/>
            <a:ext cx="1711440" cy="1763640"/>
          </a:xfrm>
          <a:prstGeom prst="rect">
            <a:avLst/>
          </a:prstGeom>
          <a:ln w="0">
            <a:noFill/>
          </a:ln>
        </p:spPr>
      </p:pic>
      <p:pic>
        <p:nvPicPr>
          <p:cNvPr id="924" name="" descr=""/>
          <p:cNvPicPr/>
          <p:nvPr/>
        </p:nvPicPr>
        <p:blipFill>
          <a:blip r:embed="rId11"/>
          <a:stretch/>
        </p:blipFill>
        <p:spPr>
          <a:xfrm>
            <a:off x="9144000" y="2286000"/>
            <a:ext cx="4724280" cy="35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2000"/>
                                        <p:tgtEl>
                                          <p:spTgt spid="9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0" dur="2000" fill="hold"/>
                                        <p:tgtEl>
                                          <p:spTgt spid="9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2000" fill="hold"/>
                                        <p:tgtEl>
                                          <p:spTgt spid="9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3000"/>
                            </p:stCondLst>
                            <p:childTnLst>
                              <p:par>
                                <p:cTn id="46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4" dur="1405" fill="hold"/>
                                        <p:tgtEl>
                                          <p:spTgt spid="9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46945E-018 7.40741E-007 L 0.475 -1.41112 E">
                                      <p:cBhvr>
                                        <p:cTn id="468" dur="5000" fill="hold"/>
                                        <p:tgtEl>
                                          <p:spTgt spid="9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6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-8.88889E-006 L 0.35833 -1.51112 E">
                                      <p:cBhvr>
                                        <p:cTn id="470" dur="5000" fill="hold"/>
                                        <p:tgtEl>
                                          <p:spTgt spid="9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7.03704E-006 L 0.16667 -1.65556 E">
                                      <p:cBhvr>
                                        <p:cTn id="472" dur="5000" fill="hold"/>
                                        <p:tgtEl>
                                          <p:spTgt spid="9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778E-017 3.46945E-018 L 0.10834 -1.51111 E">
                                      <p:cBhvr>
                                        <p:cTn id="474" dur="5000" fill="hold"/>
                                        <p:tgtEl>
                                          <p:spTgt spid="9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5.92593E-006 L -0.1 -1.72222 E">
                                      <p:cBhvr>
                                        <p:cTn id="476" dur="5000" fill="hold"/>
                                        <p:tgtEl>
                                          <p:spTgt spid="9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6.2963E-006 L -0.13333 -1.52223 E">
                                      <p:cBhvr>
                                        <p:cTn id="478" dur="5000" fill="hold"/>
                                        <p:tgtEl>
                                          <p:spTgt spid="9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94444E-006 5.18519E-006 L -0.40834 -1.59999 E">
                                      <p:cBhvr>
                                        <p:cTn id="480" dur="5000" fill="hold"/>
                                        <p:tgtEl>
                                          <p:spTgt spid="9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-7.40741E-007 L -0.43333 -1.75555 E">
                                      <p:cBhvr>
                                        <p:cTn id="482" dur="5000" fill="hold"/>
                                        <p:tgtEl>
                                          <p:spTgt spid="9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5000"/>
                            </p:stCondLst>
                            <p:childTnLst>
                              <p:par>
                                <p:cTn id="484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48148E-006 L -1.7 -0.00463 E">
                                      <p:cBhvr>
                                        <p:cTn id="485" dur="2000" fill="hold"/>
                                        <p:tgtEl>
                                          <p:spTgt spid="9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amily Life Expe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457200" y="2666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Children were expected to do the same work as adults. They weren’t aloud to talk unless they are talked to. Happiness, sadness, and other emotions were discouraged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000"/>
                            </p:stCondLst>
                            <p:childTnLst>
                              <p:par>
                                <p:cTn id="6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0" fill="hold"/>
                                        <p:tgtEl>
                                          <p:spTgt spid="8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0" fill="hold"/>
                                        <p:tgtEl>
                                          <p:spTgt spid="8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0000"/>
                            </p:stCondLst>
                            <p:childTnLst>
                              <p:par>
                                <p:cTn id="7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3" dur="2000" fill="hold"/>
                                        <p:tgtEl>
                                          <p:spTgt spid="8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77" dur="5000" fill="hold"/>
                                        <p:tgtEl>
                                          <p:spTgt spid="8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78" dur="5000" fill="hold"/>
                                        <p:tgtEl>
                                          <p:spTgt spid="8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79" dur="5000" fill="hold"/>
                                        <p:tgtEl>
                                          <p:spTgt spid="8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80" dur="5000" fill="hold"/>
                                        <p:tgtEl>
                                          <p:spTgt spid="8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4" dur="2000" fill="hold"/>
                                        <p:tgtEl>
                                          <p:spTgt spid="8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8" dur="2000" fill="hold"/>
                                        <p:tgtEl>
                                          <p:spTgt spid="8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3" name="" descr=""/>
          <p:cNvPicPr/>
          <p:nvPr/>
        </p:nvPicPr>
        <p:blipFill>
          <a:blip r:embed="rId1"/>
          <a:stretch/>
        </p:blipFill>
        <p:spPr>
          <a:xfrm>
            <a:off x="0" y="-228600"/>
            <a:ext cx="9144000" cy="7086600"/>
          </a:xfrm>
          <a:prstGeom prst="rect">
            <a:avLst/>
          </a:prstGeom>
          <a:ln w="0">
            <a:noFill/>
          </a:ln>
        </p:spPr>
      </p:pic>
      <p:sp>
        <p:nvSpPr>
          <p:cNvPr id="864" name="PlaceHolder 2"/>
          <p:cNvSpPr>
            <a:spLocks noGrp="1"/>
          </p:cNvSpPr>
          <p:nvPr>
            <p:ph type="title"/>
          </p:nvPr>
        </p:nvSpPr>
        <p:spPr>
          <a:xfrm>
            <a:off x="0" y="-304920"/>
            <a:ext cx="10058400" cy="1470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8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996600"/>
                </a:solidFill>
                <a:uFillTx/>
                <a:latin typeface="comic"/>
              </a:rPr>
              <a:t>Historical events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152280" y="1407960"/>
            <a:ext cx="9829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99"/>
                </a:solidFill>
                <a:latin typeface="Copperplate Gothic Bold"/>
              </a:rPr>
              <a:t>There were divisions among the people in the Society. Farmers, City people, Religion, Economics, Class, Character, Salem town, Salem village. The imagination and fears of the people,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304920" y="2932200"/>
            <a:ext cx="883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ff"/>
                </a:solidFill>
                <a:latin typeface="Copperplate Gothic Bold"/>
              </a:rPr>
              <a:t>The leader of Salem in 1692 was Governor Phip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609480" y="3886200"/>
            <a:ext cx="762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opperplate Gothic Bold"/>
              </a:rPr>
              <a:t>The economy was really ba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609480" y="476100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00"/>
                </a:solidFill>
                <a:latin typeface="Copperplate Gothic Bold"/>
              </a:rPr>
              <a:t>Other reasons the Witch Trials happened was because of frontier war, congregational strife, teenage boredom, and personal jealousi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8" dur="2000"/>
                                        <p:tgtEl>
                                          <p:spTgt spid="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9" name="" descr=""/>
          <p:cNvPicPr/>
          <p:nvPr/>
        </p:nvPicPr>
        <p:blipFill>
          <a:blip r:embed="rId1"/>
          <a:stretch/>
        </p:blipFill>
        <p:spPr>
          <a:xfrm>
            <a:off x="0" y="-2286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0" name=""/>
          <p:cNvSpPr/>
          <p:nvPr/>
        </p:nvSpPr>
        <p:spPr>
          <a:xfrm>
            <a:off x="1979280" y="152280"/>
            <a:ext cx="4845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alem Witch Tri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772560" y="1650960"/>
            <a:ext cx="7654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"/>
              </a:rPr>
              <a:t>People were usually accused of witchcraft by the ‘afflicted’ gir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"/>
              </a:rPr>
              <a:t>Then put on trial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whether they liked it or no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677160" y="5843520"/>
            <a:ext cx="7727400" cy="64260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99ff"/>
                </a:solidFill>
                <a:latin typeface="comic"/>
              </a:rPr>
              <a:t>In this picture the ‘afflicted’ girls are screaming and yelling because of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99ff"/>
                </a:solidFill>
                <a:latin typeface="comic"/>
              </a:rPr>
              <a:t>two women supposedly torturing them</a:t>
            </a:r>
            <a:r>
              <a:rPr b="0" lang="en-US" sz="1800" spc="-1" strike="noStrike">
                <a:solidFill>
                  <a:srgbClr val="77842c"/>
                </a:solidFill>
                <a:latin typeface="comic"/>
              </a:rPr>
              <a:t>.</a:t>
            </a:r>
            <a:r>
              <a:rPr b="0" lang="en-US" sz="1800" spc="-1" strike="noStrike">
                <a:solidFill>
                  <a:srgbClr val="77842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73" name="" descr=""/>
          <p:cNvPicPr/>
          <p:nvPr/>
        </p:nvPicPr>
        <p:blipFill>
          <a:blip r:embed="rId2"/>
          <a:stretch/>
        </p:blipFill>
        <p:spPr>
          <a:xfrm>
            <a:off x="-7543800" y="2666880"/>
            <a:ext cx="5943600" cy="2239920"/>
          </a:xfrm>
          <a:prstGeom prst="rect">
            <a:avLst/>
          </a:prstGeom>
          <a:ln w="0">
            <a:noFill/>
          </a:ln>
        </p:spPr>
      </p:pic>
      <p:pic>
        <p:nvPicPr>
          <p:cNvPr id="874" name="" descr=""/>
          <p:cNvPicPr/>
          <p:nvPr/>
        </p:nvPicPr>
        <p:blipFill>
          <a:blip r:embed="rId3"/>
          <a:stretch/>
        </p:blipFill>
        <p:spPr>
          <a:xfrm>
            <a:off x="609480" y="7543800"/>
            <a:ext cx="6248520" cy="2354400"/>
          </a:xfrm>
          <a:prstGeom prst="rect">
            <a:avLst/>
          </a:prstGeom>
          <a:ln w="0">
            <a:noFill/>
          </a:ln>
        </p:spPr>
      </p:pic>
      <p:sp>
        <p:nvSpPr>
          <p:cNvPr id="875" name=""/>
          <p:cNvSpPr/>
          <p:nvPr/>
        </p:nvSpPr>
        <p:spPr>
          <a:xfrm>
            <a:off x="1603800" y="3124080"/>
            <a:ext cx="6785640" cy="642600"/>
          </a:xfrm>
          <a:prstGeom prst="rect">
            <a:avLst/>
          </a:prstGeom>
          <a:solidFill>
            <a:srgbClr val="0101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8310c"/>
                </a:solidFill>
                <a:latin typeface="Arial"/>
              </a:rPr>
              <a:t>The trials had trouble getting ‘Fact from Fiction' from the ‘afflicted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8310c"/>
                </a:solidFill>
                <a:latin typeface="Arial"/>
              </a:rPr>
              <a:t>girls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539640" y="4038480"/>
            <a:ext cx="5505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8310c"/>
                </a:solidFill>
                <a:latin typeface="Arial"/>
              </a:rPr>
              <a:t>The people that were in court did not hav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8310c"/>
                </a:solidFill>
                <a:latin typeface="Arial"/>
              </a:rPr>
              <a:t>good chance of winning, or going back to the outsi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8310c"/>
                </a:solidFill>
                <a:latin typeface="Arial"/>
              </a:rPr>
              <a:t>world because of the unfair court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2000"/>
                            </p:stCondLst>
                            <p:childTnLst>
                              <p:par>
                                <p:cTn id="14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8" dur="500"/>
                                        <p:tgtEl>
                                          <p:spTgt spid="8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2500"/>
                            </p:stCondLst>
                            <p:childTnLst>
                              <p:par>
                                <p:cTn id="15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2" dur="500"/>
                                        <p:tgtEl>
                                          <p:spTgt spid="8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4167 0.00348 L 1.79167 0.00348 E">
                                      <p:cBhvr>
                                        <p:cTn id="156" dur="2000" fill="hold"/>
                                        <p:tgtEl>
                                          <p:spTgt spid="8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2000"/>
                            </p:stCondLst>
                            <p:childTnLst>
                              <p:par>
                                <p:cTn id="15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67" dur="500"/>
                                        <p:tgtEl>
                                          <p:spTgt spid="8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8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8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8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8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8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8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8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8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8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8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8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8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3.7037E-007 L 0.00209 -0.84259 E">
                                      <p:cBhvr>
                                        <p:cTn id="192" dur="2000" fill="hold"/>
                                        <p:tgtEl>
                                          <p:spTgt spid="8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2000"/>
                            </p:stCondLst>
                            <p:childTnLst>
                              <p:par>
                                <p:cTn id="19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5" dur="2000" fill="hold"/>
                                        <p:tgtEl>
                                          <p:spTgt spid="87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8" name=""/>
          <p:cNvSpPr/>
          <p:nvPr/>
        </p:nvSpPr>
        <p:spPr>
          <a:xfrm>
            <a:off x="2517840" y="0"/>
            <a:ext cx="4411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Salem Witch Trial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Punishmen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126000" y="6400800"/>
            <a:ext cx="13800960" cy="4597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If you denied being a witch you were most likely hanged or burne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        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0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610480" y="58672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881" name="" descr="">
            <a:hlinkClick r:id="" action="ppaction://media"/>
          </p:cNvPr>
          <p:cNvPicPr/>
          <p:nvPr>
            <a:audioFile r:link="rId5"/>
            <p:extLst>
              <p:ext uri="{DAA4B4D4-6D71-4841-9C94-3DE7FCFB9230}">
                <p14:media r:link="rId6"/>
              </p:ext>
            </p:extLst>
          </p:nvPr>
        </p:nvPicPr>
        <p:blipFill>
          <a:blip r:embed="rId7"/>
          <a:stretch>
            <a:fillRect/>
          </a:stretch>
        </p:blipFill>
        <p:spPr>
          <a:xfrm>
            <a:off x="8305920" y="60958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882" name="" descr=""/>
          <p:cNvPicPr/>
          <p:nvPr/>
        </p:nvPicPr>
        <p:blipFill>
          <a:blip r:embed="rId8"/>
          <a:stretch/>
        </p:blipFill>
        <p:spPr>
          <a:xfrm>
            <a:off x="-7162920" y="0"/>
            <a:ext cx="5907240" cy="6702480"/>
          </a:xfrm>
          <a:prstGeom prst="rect">
            <a:avLst/>
          </a:prstGeom>
          <a:ln w="0">
            <a:noFill/>
          </a:ln>
        </p:spPr>
      </p:pic>
      <p:sp>
        <p:nvSpPr>
          <p:cNvPr id="883" name=""/>
          <p:cNvSpPr/>
          <p:nvPr/>
        </p:nvSpPr>
        <p:spPr>
          <a:xfrm>
            <a:off x="380520" y="3048120"/>
            <a:ext cx="8954280" cy="137376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he trials most of the time the trails were unfair and if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he ‘afflicted girls’ said you were a witch to the people i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made you one because of the hysteria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1605960" y="4800600"/>
            <a:ext cx="647172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A person afflicted was considered to be tormented by the devi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1224000" y="1600200"/>
            <a:ext cx="574956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pon the arrest you were taken to jail to await your tri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1" dur="4491" fill="hold"/>
                                        <p:tgtEl>
                                          <p:spTgt spid="8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20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7" dur="2000"/>
                                        <p:tgtEl>
                                          <p:spTgt spid="8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10" dur="20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4" dur="4338" fill="hold"/>
                                        <p:tgtEl>
                                          <p:spTgt spid="8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15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-1.20518E-006 L 1.92118 -0.03863 E">
                                      <p:cBhvr>
                                        <p:cTn id="216" dur="5000" fill="hold"/>
                                        <p:tgtEl>
                                          <p:spTgt spid="8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41">
                                  <p:stCondLst>
                                    <p:cond delay="4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8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8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8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8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41">
                                  <p:stCondLst>
                                    <p:cond delay="4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8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8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8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8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8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41">
                                  <p:stCondLst>
                                    <p:cond delay="4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8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8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8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8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8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41">
                                  <p:stCondLst>
                                    <p:cond delay="4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8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8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8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8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8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7" dur="2000"/>
                                        <p:tgtEl>
                                          <p:spTgt spid="8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2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0" dur="2000"/>
                                        <p:tgtEl>
                                          <p:spTgt spid="8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3" dur="2000"/>
                                        <p:tgtEl>
                                          <p:spTgt spid="8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8" dur="500"/>
                                        <p:tgtEl>
                                          <p:spTgt spid="8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1" dur="500"/>
                                        <p:tgtEl>
                                          <p:spTgt spid="8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6" dur="20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9" dur="2000"/>
                                        <p:tgtEl>
                                          <p:spTgt spid="8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4" dur="2000"/>
                                        <p:tgtEl>
                                          <p:spTgt spid="8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880"/>
                </p:tgtEl>
              </p:cMediaNode>
            </p:audio>
            <p:audio isNarration="0">
              <p:cMediaNode showWhenStopped="1">
                <p:cTn/>
                <p:tgtEl>
                  <p:spTgt spid="881"/>
                </p:tgtEl>
              </p:cMediaNode>
            </p:audio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8229240" y="1873440"/>
            <a:ext cx="17460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8763120" y="7695720"/>
            <a:ext cx="79200" cy="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2760" bIns="32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8" name="" descr=""/>
          <p:cNvPicPr/>
          <p:nvPr/>
        </p:nvPicPr>
        <p:blipFill>
          <a:blip r:embed="rId2"/>
          <a:stretch/>
        </p:blipFill>
        <p:spPr>
          <a:xfrm>
            <a:off x="-8305920" y="2133720"/>
            <a:ext cx="6643800" cy="3400200"/>
          </a:xfrm>
          <a:prstGeom prst="rect">
            <a:avLst/>
          </a:prstGeom>
          <a:ln w="0">
            <a:noFill/>
          </a:ln>
        </p:spPr>
      </p:pic>
      <p:sp>
        <p:nvSpPr>
          <p:cNvPr id="889" name=""/>
          <p:cNvSpPr/>
          <p:nvPr/>
        </p:nvSpPr>
        <p:spPr>
          <a:xfrm>
            <a:off x="311400" y="6216480"/>
            <a:ext cx="673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st people denied being  witches…. They were then most likel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illed because of the ‘afflicted’ girls lying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1984680" y="152280"/>
            <a:ext cx="4647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trials had priests from other counti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help calm the girls from their tormentor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8310c"/>
                </a:solidFill>
                <a:latin typeface="comic"/>
              </a:rPr>
              <a:t>The Devil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1143000" y="25146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1224000" y="1219320"/>
            <a:ext cx="768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st of the time the girls just lied about the witches, probably for atten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0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-6.38298E-007 L 2.21997 -0.00347 E">
                                      <p:cBhvr>
                                        <p:cTn id="280" dur="5000" fill="hold"/>
                                        <p:tgtEl>
                                          <p:spTgt spid="8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5000"/>
                            </p:stCondLst>
                            <p:childTnLst>
                              <p:par>
                                <p:cTn id="282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8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6000"/>
                            </p:stCondLst>
                            <p:childTnLst>
                              <p:par>
                                <p:cTn id="288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8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7" dur="80"/>
                                        <p:tgtEl>
                                          <p:spTgt spid="8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8" dur="80"/>
                                        <p:tgtEl>
                                          <p:spTgt spid="8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9" dur="80"/>
                                        <p:tgtEl>
                                          <p:spTgt spid="8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2" dur="80"/>
                                        <p:tgtEl>
                                          <p:spTgt spid="8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3" dur="80"/>
                                        <p:tgtEl>
                                          <p:spTgt spid="8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4" dur="80"/>
                                        <p:tgtEl>
                                          <p:spTgt spid="8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3000"/>
                                        <p:tgtEl>
                                          <p:spTgt spid="8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3000" fill="hold"/>
                                        <p:tgtEl>
                                          <p:spTgt spid="8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2700" fill="hold"/>
                                        <p:tgtEl>
                                          <p:spTgt spid="8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8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14" dur="2000" fill="hold"/>
                                        <p:tgtEl>
                                          <p:spTgt spid="8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8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8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500"/>
                                        <p:tgtEl>
                                          <p:spTgt spid="8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Trials Effec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trials had a devastating blow to the people of Salem and other places in Massachusett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caused horror beyond belief among the people, because of the death tol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you were in a trial then you would not get an attorney even though by law you are supposed t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uggested death toll is twenty. (20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8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8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5" dur="1000"/>
                                        <p:tgtEl>
                                          <p:spTgt spid="8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8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8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2" dur="1000"/>
                                        <p:tgtEl>
                                          <p:spTgt spid="8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8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8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9" dur="1000"/>
                                        <p:tgtEl>
                                          <p:spTgt spid="8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Summary of Trial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ummary of the trials is that they wer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cking justice, the accused didn’t even get an attorney…. The judges believed they were making justice but really causing more harm then they intended to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7" name="" descr=""/>
          <p:cNvPicPr/>
          <p:nvPr/>
        </p:nvPicPr>
        <p:blipFill>
          <a:blip r:embed="rId1"/>
          <a:stretch/>
        </p:blipFill>
        <p:spPr>
          <a:xfrm>
            <a:off x="-6172200" y="2017800"/>
            <a:ext cx="4952880" cy="2998800"/>
          </a:xfrm>
          <a:prstGeom prst="rect">
            <a:avLst/>
          </a:prstGeom>
          <a:ln w="0">
            <a:noFill/>
          </a:ln>
        </p:spPr>
      </p:pic>
      <p:pic>
        <p:nvPicPr>
          <p:cNvPr id="898" name="" descr=""/>
          <p:cNvPicPr/>
          <p:nvPr/>
        </p:nvPicPr>
        <p:blipFill>
          <a:blip r:embed="rId2"/>
          <a:stretch/>
        </p:blipFill>
        <p:spPr>
          <a:xfrm>
            <a:off x="12420720" y="2286000"/>
            <a:ext cx="3965400" cy="3444840"/>
          </a:xfrm>
          <a:prstGeom prst="rect">
            <a:avLst/>
          </a:prstGeom>
          <a:ln w="0">
            <a:noFill/>
          </a:ln>
        </p:spPr>
      </p:pic>
      <p:pic>
        <p:nvPicPr>
          <p:cNvPr id="899" name="" descr=""/>
          <p:cNvPicPr/>
          <p:nvPr/>
        </p:nvPicPr>
        <p:blipFill>
          <a:blip r:embed="rId3"/>
          <a:stretch/>
        </p:blipFill>
        <p:spPr>
          <a:xfrm>
            <a:off x="-22097880" y="152280"/>
            <a:ext cx="18135360" cy="6834240"/>
          </a:xfrm>
          <a:prstGeom prst="rect">
            <a:avLst/>
          </a:prstGeom>
          <a:ln w="0">
            <a:noFill/>
          </a:ln>
        </p:spPr>
      </p:pic>
      <p:pic>
        <p:nvPicPr>
          <p:cNvPr id="900" name="" descr=""/>
          <p:cNvPicPr/>
          <p:nvPr/>
        </p:nvPicPr>
        <p:blipFill>
          <a:blip r:embed="rId4"/>
          <a:stretch/>
        </p:blipFill>
        <p:spPr>
          <a:xfrm>
            <a:off x="-228600" y="9144000"/>
            <a:ext cx="8305920" cy="1535040"/>
          </a:xfrm>
          <a:prstGeom prst="rect">
            <a:avLst/>
          </a:prstGeom>
          <a:ln w="0">
            <a:noFill/>
          </a:ln>
        </p:spPr>
      </p:pic>
      <p:pic>
        <p:nvPicPr>
          <p:cNvPr id="901" name="" descr=""/>
          <p:cNvPicPr/>
          <p:nvPr/>
        </p:nvPicPr>
        <p:blipFill>
          <a:blip r:embed="rId5"/>
          <a:stretch/>
        </p:blipFill>
        <p:spPr>
          <a:xfrm>
            <a:off x="1676520" y="9067680"/>
            <a:ext cx="3047760" cy="1844640"/>
          </a:xfrm>
          <a:prstGeom prst="rect">
            <a:avLst/>
          </a:prstGeom>
          <a:ln w="0">
            <a:noFill/>
          </a:ln>
        </p:spPr>
      </p:pic>
      <p:pic>
        <p:nvPicPr>
          <p:cNvPr id="902" name="" descr=""/>
          <p:cNvPicPr/>
          <p:nvPr/>
        </p:nvPicPr>
        <p:blipFill>
          <a:blip r:embed="rId6"/>
          <a:stretch/>
        </p:blipFill>
        <p:spPr>
          <a:xfrm>
            <a:off x="6934320" y="9067680"/>
            <a:ext cx="2666880" cy="2316240"/>
          </a:xfrm>
          <a:prstGeom prst="rect">
            <a:avLst/>
          </a:prstGeom>
          <a:ln w="0">
            <a:noFill/>
          </a:ln>
        </p:spPr>
      </p:pic>
      <p:pic>
        <p:nvPicPr>
          <p:cNvPr id="903" name="" descr="">
            <a:hlinkClick r:id="" action="ppaction://media"/>
          </p:cNvPr>
          <p:cNvPicPr/>
          <p:nvPr>
            <a:audioFile r:link="rId7"/>
            <p:extLst>
              <p:ext uri="{DAA4B4D4-6D71-4841-9C94-3DE7FCFB9230}">
                <p14:media r:link="rId8"/>
              </p:ext>
            </p:extLst>
          </p:nvPr>
        </p:nvPicPr>
        <p:blipFill>
          <a:blip r:embed="rId9"/>
          <a:stretch>
            <a:fillRect/>
          </a:stretch>
        </p:blipFill>
        <p:spPr>
          <a:xfrm>
            <a:off x="8839080" y="67057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8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9" dur="500"/>
                                        <p:tgtEl>
                                          <p:spTgt spid="8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1.85185E-006 L 2.35 -1.85185E-006 E">
                                      <p:cBhvr>
                                        <p:cTn id="363" dur="5000" fill="hold"/>
                                        <p:tgtEl>
                                          <p:spTgt spid="8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4" nodeType="withEffect" fill="hold" presetClass="path" presetID="0">
                                  <p:stCondLst>
                                    <p:cond delay="4400"/>
                                  </p:stCondLst>
                                  <p:childTnLst>
                                    <p:animMotion origin="layout" path="M 6.94444E-006 -2.59259E-006 L -2.84999 -2.59259E-006 E">
                                      <p:cBhvr>
                                        <p:cTn id="365" dur="5000" fill="hold"/>
                                        <p:tgtEl>
                                          <p:spTgt spid="8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6" nodeType="withEffect" fill="hold" presetClass="path" presetID="0">
                                  <p:stCondLst>
                                    <p:cond delay="8000"/>
                                  </p:stCondLst>
                                  <p:childTnLst>
                                    <p:animMotion origin="layout" path="M 5.55112E-017 -1.11111E-006 L 2.91667 0.01112 E">
                                      <p:cBhvr>
                                        <p:cTn id="367" dur="5000" fill="hold"/>
                                        <p:tgtEl>
                                          <p:spTgt spid="8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71" dur="5422" fill="hold"/>
                                        <p:tgtEl>
                                          <p:spTgt spid="9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7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112E-017 -2.96296E-006 L 5.55112E-017 -1.01227 E">
                                      <p:cBhvr>
                                        <p:cTn id="373" dur="2000" fill="hold"/>
                                        <p:tgtEl>
                                          <p:spTgt spid="9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4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1.11111E-006 L 0.00416 -0.98958 E">
                                      <p:cBhvr>
                                        <p:cTn id="375" dur="2000" fill="hold"/>
                                        <p:tgtEl>
                                          <p:spTgt spid="9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6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2.22222E-006 L -0.42084 -1.0243 E">
                                      <p:cBhvr>
                                        <p:cTn id="377" dur="2000" fill="hold"/>
                                        <p:tgtEl>
                                          <p:spTgt spid="9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8" nodeType="withEffect" fill="hold" presetClass="path" presetID="0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-0.42083 -1.0243 C -0.41944 -1.02546 -0.41788 -1.02685 -0.41615 -1.02754 C -0.41389 -1.02847 -0.40955 -1.02592 -0.40885 -1.02916 C -0.40521 -1.05069 -0.41094 -1.07801 -0.42465 -1.09097 C -0.4342 -1.11736 -0.42205 -1.08888 -0.43281 -1.1037 C -0.43403 -1.10532 -0.43403 -1.10833 -0.43507 -1.11018 C -0.43958 -1.11851 -0.4474 -1.11851 -0.45417 -1.11967 C -0.4717 -1.12731 -0.46111 -1.12453 -0.48628 -1.12268 C -0.49184 -1.11828 -0.49427 -1.11296 -0.49948 -1.10856 C -0.50156 -1.09861 -0.49896 -1.1074 -0.50781 -1.09583 C -0.51285 -1.08935 -0.51354 -1.08171 -0.5184 -1.07523 C -0.52083 -1.06713 -0.52361 -1.05972 -0.52552 -1.05138 C -0.52517 -1.03981 -0.52552 -1.02801 -0.52448 -1.01643 C -0.52431 -1.01458 -0.52257 -1.01342 -0.52205 -1.01157 C -0.51806 -0.99953 -0.51319 -0.99745 -0.50538 -0.99097 C -0.50174 -0.9831 -0.50035 -0.97569 -0.49826 -0.96713 C -0.49861 -0.95763 -0.49844 -0.94814 -0.49948 -0.93865 C -0.50191 -0.91851 -0.52552 -0.90115 -0.53872 -0.89745 C -0.56806 -0.9 -0.59653 -0.9 -0.62448 -0.91157 C -0.63576 -0.9162 -0.64722 -0.9206 -0.65781 -0.92754 C -0.66736 -0.93379 -0.68628 -0.94652 -0.68628 -0.94652 C -0.70434 -0.97592 -0.6967 -0.96551 -0.70781 -0.97986 C -0.71024 -1.00208 -0.7066 -1.00277 -0.69948 -1.01967 C -0.69705 -1.02523 -0.69618 -1.03171 -0.6934 -1.03703 C -0.68194 -1.05926 -0.68611 -1.04097 -0.67326 -1.06088 C -0.66858 -1.06805 -0.66632 -1.07777 -0.66128 -1.08472 C -0.61962 -1.14189 -0.65191 -1.0912 -0.62205 -1.12268 C -0.61875 -1.12615 -0.61719 -1.13217 -0.61372 -1.13541 C -0.60816 -1.14074 -0.5967 -1.14513 -0.5901 -1.14814 C -0.57847 -1.15902 -0.56806 -1.1618 -0.55417 -1.16412 C -0.54618 -1.16296 -0.53802 -1.16365 -0.53038 -1.16088 C -0.52014 -1.15717 -0.51458 -1.14467 -0.5066 -1.13703 C -0.5026 -1.1331 -0.49757 -1.13125 -0.4934 -1.12754 C -0.48038 -1.11574 -0.47951 -1.10532 -0.46615 -1.08935 C -0.46181 -1.08402 -0.45677 -1.07963 -0.45295 -1.07361 C -0.42656 -1.03055 -0.4467 -1.04629 -0.42552 -1.0324 C -0.42309 -1.025 -0.4217 -1.01689 -0.41858 -1.01018 C -0.41615 -1.00509 -0.41128 -1.00254 -0.40885 -0.99745 C -0.40312 -0.98541 -0.40139 -0.97083 -0.39705 -0.95763 C -0.39288 -0.91898 -0.38854 -0.84699 -0.35052 -0.83865 C -0.33177 -0.82592 -0.31493 -0.80694 -0.29358 -0.80208 C -0.28576 -0.79768 -0.27708 -0.79814 -0.27101 -0.79259 C -0.2658 -0.78796 -0.26267 -0.78101 -0.25677 -0.77824 C -0.26667 -0.76064 -0.26927 -0.76713 -0.2875 -0.75463 C -0.30955 -0.73958 -0.33351 -0.73287 -0.35781 -0.72916 C -0.40191 -0.71527 -0.37465 -0.725 -0.43872 -0.69583 C -0.4658 -0.68356 -0.49965 -0.68287 -0.52795 -0.68148 C -0.57708 -0.68657 -0.61233 -0.68703 -0.6566 -0.69907 C -0.68212 -0.71504 -0.7033 -0.73773 -0.7316 -0.7449 C -0.74497 -0.76388 -0.75764 -0.78194 -0.76962 -0.80208 C -0.77448 -0.83078 -0.77743 -0.86018 -0.78038 -0.88935 C -0.78003 -0.90902 -0.77969 -0.92847 -0.77917 -0.94814 C -0.77812 -0.98634 -0.77465 -1.02314 -0.77083 -1.06088 C -0.76545 -1.11365 -0.75486 -1.16412 -0.71128 -1.17824 C -0.6849 -1.19629 -0.65729 -1.20254 -0.62795 -1.20532 C -0.62517 -1.20509 -0.57865 -1.20347 -0.56372 -1.19583 C -0.55538 -1.19143 -0.54792 -1.18472 -0.53993 -1.17986 C -0.52465 -1.1706 -0.50625 -1.16551 -0.49219 -1.15301 C -0.46024 -1.12453 -0.50017 -1.15046 -0.46719 -1.13078 C -0.4401 -1.09398 -0.47014 -1.13796 -0.45417 -1.10694 C -0.4474 -1.09398 -0.43767 -1.08588 -0.43038 -1.07361 C -0.42083 -1.03888 -0.41997 -1.04768 -0.41858 -1.00856 C -0.42083 -0.98588 -0.42222 -0.96273 -0.42552 -0.94027 C -0.42882 -0.91736 -0.43403 -0.9162 -0.44219 -0.89583 C -0.44514 -0.88865 -0.44566 -0.87986 -0.44948 -0.87361 C -0.46181 -0.85347 -0.47535 -0.83981 -0.48993 -0.8243 C -0.49236 -0.81689 -0.49427 -0.80926 -0.49705 -0.80208 C -0.49861 -0.79814 -0.50295 -0.79097 -0.50295 -0.79097 C -0.50451 -0.76064 -0.50781 -0.75301 -0.48628 -0.74351 C -0.48299 -0.74213 -0.48003 -0.73935 -0.47674 -0.73865 C -0.4625 -0.73564 -0.43385 -0.7324 -0.43385 -0.7324 C -0.37812 -0.73773 -0.40226 -0.73611 -0.36128 -0.73865 C -0.33872 -0.74259 -0.32066 -0.74606 -0.29826 -0.75301 C -0.27743 -0.76643 -0.25816 -0.78449 -0.23646 -0.79583 C -0.22083 -0.80393 -0.2033 -0.80578 -0.1875 -0.81319 C -0.17951 -0.82222 -0.17257 -0.83287 -0.16372 -0.84027 C -0.14045 -0.85949 -0.14722 -0.83773 -0.1316 -0.86412 C -0.12448 -0.87615 -0.1125 -0.90208 -0.1125 -0.90208 C -0.11128 -0.90902 -0.11042 -0.91597 -0.10885 -0.92268 C -0.10712 -0.93032 -0.10434 -0.93726 -0.10295 -0.9449 C -0.09913 -0.96551 -0.09722 -0.98773 -0.0934 -1.00856 C -0.09062 -1.04166 -0.09288 -1.01388 -0.08872 -1.07685 C -0.08837 -1.08263 -0.0875 -1.09421 -0.0875 -1.09421 C -0.08993 -1.12777 -0.08698 -1.2081 -0.12448 -1.21805 C -0.15035 -1.23333 -0.16875 -1.22407 -0.20052 -1.22129 C -0.21562 -1.21736 -0.22951 -1.21296 -0.24479 -1.21157 C -0.26615 -1.20231 -0.28993 -1.19953 -0.31024 -1.18634 C -0.31858 -1.175 -0.32969 -1.16666 -0.33889 -1.15601 C -0.34479 -1.14213 -0.34774 -1.13773 -0.35781 -1.12916 C -0.36163 -1.12199 -0.36458 -1.11713 -0.36632 -1.10856 C -0.37083 -1.08726 -0.36302 -1.10648 -0.37083 -1.08935 C -0.37205 -1.08125 -0.37292 -1.07685 -0.37812 -1.07199 C -0.38108 -1.06435 -0.3842 -1.04953 -0.39115 -1.04652 C -0.39479 -1.0449 -0.39844 -1.04513 -0.40191 -1.04351 C -0.40312 -1.04305 -0.40434 -1.04236 -0.40538 -1.04189 C -0.4092 -1.03842 -0.41337 -1.03611 -0.41736 -1.03379 C -0.41858 -1.0331 -0.42031 -1.03379 -0.42083 -1.0324 C -0.4217 -1.03009 -0.42083 -1.02708 -0.42083 -1.0243 Z">
                                      <p:cBhvr>
                                        <p:cTn id="379" dur="2000" fill="hold"/>
                                        <p:tgtEl>
                                          <p:spTgt spid="9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903"/>
                </p:tgtEl>
              </p:cMediaNode>
            </p:audio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Relig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hurch was the cornerstone of the 17</a:t>
            </a:r>
            <a:r>
              <a:rPr b="0" lang="en-US" sz="31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entur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was illegal to not go to church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ey believed that God punished sinful behavior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ost people in Massachusetts were Puritans seeking religious tolerance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6" name="" descr=""/>
          <p:cNvPicPr/>
          <p:nvPr/>
        </p:nvPicPr>
        <p:blipFill>
          <a:blip r:embed="rId1"/>
          <a:stretch/>
        </p:blipFill>
        <p:spPr>
          <a:xfrm>
            <a:off x="6400800" y="304920"/>
            <a:ext cx="198108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3000" fill="hold"/>
                                        <p:tgtEl>
                                          <p:spTgt spid="9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3000" fill="hold"/>
                                        <p:tgtEl>
                                          <p:spTgt spid="9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3000"/>
                            </p:stCondLst>
                            <p:childTnLst>
                              <p:par>
                                <p:cTn id="38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8.67916E-006 C -0.01684 -0.00277 -0.03385 -0.00485 -0.05069 -0.00647 C -0.0677 -0.01225 -0.08836 -0.00994 -0.10607 -0.01133 C -0.13802 -0.01619 -0.17031 -0.01225 -0.20243 -0.00971 C -0.22413 -0.00254 -0.24704 -0.0104 -0.26875 -0.00323 C -0.3085 0.02429 -0.43489 -0.03099 -0.43489 0.00787 E">
                                      <p:cBhvr>
                                        <p:cTn id="390" dur="2000" fill="hold"/>
                                        <p:tgtEl>
                                          <p:spTgt spid="9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9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9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0" fill="hold"/>
                                        <p:tgtEl>
                                          <p:spTgt spid="9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0" fill="hold"/>
                                        <p:tgtEl>
                                          <p:spTgt spid="9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800"/>
                                        <p:tgtEl>
                                          <p:spTgt spid="9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0" dur="800" fill="hold"/>
                                        <p:tgtEl>
                                          <p:spTgt spid="9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800" fill="hold"/>
                                        <p:tgtEl>
                                          <p:spTgt spid="9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800" fill="hold"/>
                                        <p:tgtEl>
                                          <p:spTgt spid="9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9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9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9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9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3" dur="500"/>
                                        <p:tgtEl>
                                          <p:spTgt spid="9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9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9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0" dur="500"/>
                                        <p:tgtEl>
                                          <p:spTgt spid="9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34" dur="500"/>
                                        <p:tgtEl>
                                          <p:spTgt spid="9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5T15:02:47Z</dcterms:created>
  <dc:creator>lmclabb</dc:creator>
  <dc:description/>
  <dc:language>en-US</dc:language>
  <cp:lastModifiedBy>lmclabb</cp:lastModifiedBy>
  <dcterms:modified xsi:type="dcterms:W3CDTF">2008-11-24T16:09:11Z</dcterms:modified>
  <cp:revision>16</cp:revision>
  <dc:subject/>
  <dc:title>Salem Witch Trials</dc:title>
</cp:coreProperties>
</file>