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11.wmf" ContentType="image/x-wmf"/>
  <Override PartName="/ppt/media/image3.png" ContentType="image/png"/>
  <Override PartName="/ppt/media/image12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5.wmf" ContentType="image/x-wmf"/>
  <Override PartName="/ppt/media/image1.jpeg" ContentType="image/jpeg"/>
  <Override PartName="/ppt/media/image2.wmf" ContentType="image/x-wmf"/>
  <Override PartName="/ppt/media/image6.gif" ContentType="image/gif"/>
  <Override PartName="/ppt/media/image17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16.wmf" ContentType="image/x-wmf"/>
  <Override PartName="/ppt/media/image8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652-8151-4F07-8101-469917E92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596-3492-4B5B-83FB-5D33927A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21BCA8-213F-4F4A-9320-2ED23AF0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6E1AF1-E6DE-450E-8514-B6707E0C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C4EBF0-990E-459B-9476-BE3EAC86C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566634-A92D-43F0-9B47-C803CBB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0C63C6-5E38-4676-A533-B29AD75B6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507B8-051F-4AEB-BE84-C2449E570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BAE420-BF85-4A2D-90F7-7127DE2B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8A353D-B9ED-407C-AA0F-84E7EBB21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53BF5-D224-4423-8A77-C1E635A6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3E500-7927-468A-A947-150EBFE4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8C55-11CA-4F4E-B825-9C9C45A4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710424-F8E4-4A99-BF0F-36B622BD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E46DD2-BD9A-4F16-A6B1-BC0FC10A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F54C6-FB89-49C2-BF06-5AFD40F3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4AD3A-391F-44D7-A913-526ADCD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516BA-5392-40A6-A21C-8F2E7A2D5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C3D42-E810-4A54-A5F1-57E0DC0F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93F298-32EE-45A6-A770-65F3E8B37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412ACD-8D00-44E0-A319-A374717B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3A8C92-6C13-4D8F-844C-6009EA48E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38B60-FC4D-460B-A27B-B1724826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9F43-ED5F-40BA-8A81-1FD403EE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854224-5A50-4286-BB6A-2D008C13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62861-FB57-4A68-BF38-F2BEDA8BA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D017E-FD1A-4AFF-889A-63F614A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15CD70-EF0B-48DE-9696-A8F4A453D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30CB84-45F0-44F1-B87D-F40D0A56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920DEE-870D-477D-A991-9C80EEF2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10627B-30A3-4180-8566-5E616CAE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11649-1E0A-4D35-8299-3C8E3756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42E7E9-8A16-419E-B5C9-32F8BB6A4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F49663-FA35-4FC9-AC58-D5CD158A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6F24-1CF5-4566-8866-73B70C1AC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A769F3-69EA-4A9C-B587-320A01BD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8CF9A-146A-402F-B44A-F04C74C44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C1908C-611C-42BE-AAF2-5B6B9556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30DBE-D0E1-4746-8AF8-232E009DB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313FDA-ECF2-4C20-90EE-11AD7CD65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351610-7AB4-42FC-9920-7DEB1153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578046-AA60-4C00-8319-B58A6773D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B2CBC-62E9-4A66-A9EF-F1E34E280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634707-3258-40D3-9056-94DBFEFE7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44E38D-E6CC-4DBA-B7D2-C5C509AF2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1B3AF-EA89-454D-AD03-E45009474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D561ED-CA4E-40B5-BF9E-80997702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485137-B38E-45A8-B1D6-B98F8F36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CF670-2FE4-403F-9CEC-ABECE6DE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65DFC5-C843-41F6-B4D8-307D5B9F0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319448-C459-4563-92BB-28A837D7B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E5A47-E9A2-418C-B4F1-5041FC6F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395EA-E093-45D8-BC4B-1CFD049D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43BC-2E66-4311-ACD7-366BF790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B1BE-2FC8-4A26-A30C-62574B5A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22FC4-732D-40CC-9AA2-D133FFDC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18B9-738E-4E12-9BA5-FEC40A39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92AC-4A28-4AE3-AC8A-B29287A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42EF0-FA38-4ED4-95AA-E3FB525A4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A259E-A6E2-4600-B0B7-4CBE945B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A2926-40B8-4227-8956-64CB188A9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55CF0-A9FA-489A-A46A-B9FFA274E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D6A5C-8117-4103-A774-0E6BC7B69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38D4E-C58B-41ED-954B-2BB34B38C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FF709-5575-4E23-8F3E-843048EB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996D5-20A3-4838-92D8-0098808C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FE4A5-EA3A-421A-88EC-2C4650DB7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B34A-7847-4655-9D3D-15658A665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6765E-4249-4D91-ADFE-BC2891D1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1CC96-A115-4C04-89FC-92F8DF96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F2314-F752-4C9E-8077-6471288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79A22-34ED-40D4-B2F1-D3A8A3FC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130859-F3FA-4E43-BA4D-3D312DFA1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DF0CD9-77C3-4764-82B3-D7910A78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36DC3-0C9A-42DC-B128-783FA463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5EBF0-0193-4D40-A164-09ACC1DED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8C0A00-D2E7-49E2-B862-56EB28245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0C335-9CE2-4D95-A2E1-E49FB72D8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E923-7D57-466F-94CF-B1AE5D9D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E2486-FC89-4AAC-9118-041A7EE9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46438F-9A5C-4914-ACA2-2602F74C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8DAF9-85A7-40F9-B1CC-D9A8F50ED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FDB25-0495-4372-95E3-05D4BC0B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85F83-15F9-4E59-9A33-146D8D7B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DCE3F-F7C4-478C-B3E9-D3535DD0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B30A-02A6-478D-969A-E587A8A5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F8FD2-699A-4B9C-8759-36748CE3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A8978-4929-4E67-9ADB-43D2A3C41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613B0-D00D-4748-A3BD-1DBC6A29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066A-98B3-459E-B67D-79E47C1D0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5EB5B-485D-4D5A-B0B0-00FA04343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335CCC-A3AE-4D7E-958B-2FED154CE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D43A2-A5D0-49FE-9927-6D611A891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0F844-00A6-41D7-811E-FDD18E43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7E886-4783-4AAB-96CA-E0F95662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0728FF-718A-4B1C-B17F-30F27466E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BAB3D-505A-4B89-8371-0FDB682C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41673-F7D5-4910-811D-3A68E7749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3898FC-B4F1-41D7-B37B-2CE358D5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09417-599A-40DE-AC8A-5AEBB246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F14F-8742-44F3-ABD5-4365C399F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57FC6-2878-4461-B797-8453CD26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28E8-C289-41C4-AD3D-AF737484C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8874C-4B03-465B-88F8-2B9E8B51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45AE3-8A72-4C09-90FA-36F10C9E8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01529B-D53F-4FE9-A841-47E69D5FD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99071-453A-45C7-974C-B2CBECF9B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2B6CEB-3814-40AC-98EF-8967756B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C3075-590A-48D0-B8E2-9493BD929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C04B85-D601-4168-92FA-FDD10C83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2C27-825F-42E4-B655-09DAB500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AA52-E3D1-490A-9A34-2C2EBFF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8E10C-CE9E-4986-9B57-4662B45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083A79-26C5-44BE-80ED-E0C524B05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71F94E-25ED-40AA-B738-E44CE6ACB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B3A49-642A-4956-AA31-4E9F15C72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562DB3-502F-4141-B192-EB6821BC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59D52-AEE6-473A-9CD7-67763A284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D25F2-E056-4B6D-A190-DFA384C04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954966-8302-4E88-B38E-BA2348A8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E5B51B-11A9-4266-8AC9-F76E2DAD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2106-6325-4C19-A5FA-0C1C550F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3EE5-B14A-4B05-8EA2-6334B2C7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B036C-DE6C-4EC9-B10A-8538DB157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7D27D-8592-42A7-9F87-416380FE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41DBA6-EEA2-423D-A97D-7067B31BB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41D2E-36CF-4284-B2FF-A0D3FB8BD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26696-0284-415C-B3EC-D765D0C42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CA9D00-004C-4798-8587-D2DDC1924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541542-95B6-4721-A755-0BA1E157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1848E-FD2B-480C-8FCB-B601F87C1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BB5B4A-D94B-49F2-8435-31B81CD13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36CC-C235-405C-B086-59A36827A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D809-B176-47D3-A6C0-E2717608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6234C-5D2C-4090-B576-991E89B6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17A75F-6EAA-4912-B294-C0A6D9A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898A82-208B-41D6-8A6A-CA0433D0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C979A-C9A4-422A-AFA4-FA08DF9BC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2A90E-8278-490C-80A6-0FB6F68F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B7CD7-618A-4A8A-8653-BB55C83CD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8FD3CB-5CB8-428D-A015-E566D7C5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E74D8B-58F0-4005-BD01-FD0956485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247070-4C58-4E05-8D2C-42B596388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6E169-E0C6-4FDB-BA57-E8A6E2E37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521D5-8A2E-4B98-B53B-1703DD040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659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663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688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3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70F22-C602-4D6F-BA24-7E82FA0FA14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6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37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741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65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766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FF02B-2338-4733-BFFD-6CD0FEE5EFC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39B1-B0A4-440C-8E6E-CE8EDD441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D55-268A-46B9-BE7A-3443840BF5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7A56-8D80-49C2-91BC-3355C266190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0FBB-9116-4F7D-B1E2-8482DBC8EA2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D3F3E-E275-465F-A4C1-9789F3411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221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4E80-6C0E-4F03-865E-BDB533BA62A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266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dt" idx="19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ftr" idx="20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sldNum" idx="21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260-15EF-4678-B1B1-DD7A4D5791E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31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31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1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31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32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32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32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33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4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4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5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5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36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36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37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37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37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37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38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8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38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38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39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39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39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0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40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40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41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41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1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42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103E5-6921-4CC8-BE6F-DFECA2468602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48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48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49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49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49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9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49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50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0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0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50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1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51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51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1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52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52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2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52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53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3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3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53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4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54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55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55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55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6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56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56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56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57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57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57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57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58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58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58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59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59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60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D359-EB63-4162-A4E0-993BC400614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alemweb.com/" TargetMode="External"/><Relationship Id="rId2" Type="http://schemas.openxmlformats.org/officeDocument/2006/relationships/hyperlink" Target="http://www.law.umkc.edu/faculty/projects/ftrials/salem/SALEM.HTM" TargetMode="External"/><Relationship Id="rId3" Type="http://schemas.openxmlformats.org/officeDocument/2006/relationships/hyperlink" Target="http://www.smithsonianmag.com/history-archaeology/brief-salem.html" TargetMode="External"/><Relationship Id="rId4" Type="http://schemas.openxmlformats.org/officeDocument/2006/relationships/hyperlink" Target="http://www.greateratlantachristian.org/NetCommunity/Page.aspx?pid=221&amp;frsid=4" TargetMode="External"/><Relationship Id="rId5" Type="http://schemas.openxmlformats.org/officeDocument/2006/relationships/slideLayout" Target="../slideLayouts/slideLayout1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image" Target="../media/image13.wmf"/><Relationship Id="rId4" Type="http://schemas.openxmlformats.org/officeDocument/2006/relationships/image" Target="../media/image11.wmf"/><Relationship Id="rId5" Type="http://schemas.openxmlformats.org/officeDocument/2006/relationships/image" Target="../media/image14.wmf"/><Relationship Id="rId6" Type="http://schemas.openxmlformats.org/officeDocument/2006/relationships/image" Target="../media/image2.wmf"/><Relationship Id="rId7" Type="http://schemas.openxmlformats.org/officeDocument/2006/relationships/image" Target="../media/image6.gif"/><Relationship Id="rId8" Type="http://schemas.openxmlformats.org/officeDocument/2006/relationships/image" Target="../media/image15.wmf"/><Relationship Id="rId9" Type="http://schemas.openxmlformats.org/officeDocument/2006/relationships/image" Target="../media/image12.wmf"/><Relationship Id="rId10" Type="http://schemas.openxmlformats.org/officeDocument/2006/relationships/image" Target="../media/image16.wmf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file:///tmp/home/.config/libreoffice/4/user/gallery/MSSN00568A0000%5B1%5D.wav" TargetMode="External"/><Relationship Id="rId3" Type="http://schemas.microsoft.com/office/2007/relationships/media" Target="file:///tmp/home/.config/libreoffice/4/user/gallery/MSSN00568A0000%5B1%5D.wav" TargetMode="External"/><Relationship Id="rId4" Type="http://schemas.openxmlformats.org/officeDocument/2006/relationships/image" Target="../media/image8.png"/><Relationship Id="rId5" Type="http://schemas.openxmlformats.org/officeDocument/2006/relationships/audio" Target="file:///tmp/home/.config/libreoffice/4/user/gallery/MSj03884840000%5B1%5D.wav" TargetMode="External"/><Relationship Id="rId6" Type="http://schemas.microsoft.com/office/2007/relationships/media" Target="file:///tmp/home/.config/libreoffice/4/user/gallery/MSj03884840000%5B1%5D.wav" TargetMode="External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2.wm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11.wmf"/><Relationship Id="rId6" Type="http://schemas.openxmlformats.org/officeDocument/2006/relationships/image" Target="../media/image2.wmf"/><Relationship Id="rId7" Type="http://schemas.openxmlformats.org/officeDocument/2006/relationships/audio" Target="file:///tmp/home/.config/libreoffice/4/user/gallery/MSj03885740000%5B1%5D.wav" TargetMode="External"/><Relationship Id="rId8" Type="http://schemas.microsoft.com/office/2007/relationships/media" Target="file:///tmp/home/.config/libreoffice/4/user/gallery/MSj03885740000%5B1%5D.wav" TargetMode="External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6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Salem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33cc33"/>
                </a:solidFill>
                <a:latin typeface="Arial"/>
              </a:rPr>
              <a:t>Witch</a:t>
            </a: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886200" y="1523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66"/>
                </a:solidFill>
                <a:latin typeface="Arial"/>
              </a:rPr>
              <a:t>B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-228600" y="1981080"/>
            <a:ext cx="9144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Daman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ha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"/>
              </a:rPr>
              <a:t>Fos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33"/>
                </a:solidFill>
                <a:latin typeface="Arial"/>
              </a:rPr>
              <a:t>Wi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1"/>
          <a:stretch/>
        </p:blipFill>
        <p:spPr>
          <a:xfrm>
            <a:off x="6553080" y="4800600"/>
            <a:ext cx="2057400" cy="17874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9" name=""/>
          <p:cNvSpPr/>
          <p:nvPr/>
        </p:nvSpPr>
        <p:spPr>
          <a:xfrm>
            <a:off x="457200" y="480060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885 -0.00555 C 0.02795 -0.00463 0.00277 -0.00138 -0.02709 0.0007 C -0.03056 0.00186 -0.03403 0.00324 -0.03768 0.00394 C -0.04705 0.00556 -0.06598 0.00718 -0.06598 0.00741 C -0.08386 0.0169 -0.06598 0.00857 -0.09757 0.01343 C -0.10313 0.01436 -0.10903 0.01737 -0.11511 0.01829 C -0.14792 0.01737 -0.18004 0.01574 -0.2125 0.01343 C -0.25816 0.00463 -0.30243 -0.01273 -0.34254 -0.04213 C -0.36285 -0.05717 -0.35782 -0.04004 -0.38889 -0.07222 C -0.39966 -0.08287 -0.40938 -0.09513 -0.41962 -0.10555 C -0.43351 -0.11921 -0.45712 -0.14213 -0.46598 -0.16111 C -0.48056 -0.19051 -0.4974 -0.21597 -0.51285 -0.24351 C -0.51702 -0.25162 -0.51893 -0.26157 -0.52344 -0.26875 C -0.53733 -0.29305 -0.55486 -0.31481 -0.56979 -0.33912 C -0.57223 -0.34236 -0.57257 -0.34745 -0.57448 -0.35138 C -0.57882 -0.35972 -0.59306 -0.38287 -0.59844 -0.39467 C -0.61181 -0.42453 -0.59757 -0.39583 -0.60938 -0.42615 C -0.61615 -0.44398 -0.61927 -0.45185 -0.62344 -0.47222 C -0.62448 -0.48819 -0.62761 -0.5037 -0.62934 -0.51944 C -0.62813 -0.54676 -0.63091 -0.58449 -0.61736 -0.60833 C -0.60348 -0.67199 -0.55868 -0.69166 -0.51285 -0.70046 C -0.50191 -0.70254 -0.49028 -0.70393 -0.47952 -0.70509 C -0.46979 -0.70648 -0.45087 -0.70833 -0.45087 -0.7081 C -0.43299 -0.71666 -0.41875 -0.72708 -0.39966 -0.72939 C -0.3908 -0.73842 -0.38889 -0.7412 -0.37691 -0.74328 C -0.37049 -0.75532 -0.37014 -0.75439 -0.35816 -0.75601 C -0.34688 -0.76689 -0.33837 -0.7662 -0.32344 -0.7706 C -0.31754 -0.77176 -0.30591 -0.775 -0.30591 -0.77476 C -0.29011 -0.77338 -0.27431 -0.77245 -0.25903 -0.76851 C -0.25226 -0.76666 -0.23889 -0.76226 -0.23889 -0.76203 C -0.2283 -0.75532 -0.24063 -0.76296 -0.2224 -0.75787 C -0.20295 -0.75185 -0.18525 -0.74583 -0.16493 -0.74328 C -0.16077 -0.74236 -0.15729 -0.74097 -0.15313 -0.74004 C -0.14323 -0.73773 -0.12309 -0.73379 -0.12309 -0.73356 C -0.11025 -0.72708 -0.09792 -0.72291 -0.08438 -0.71944 C -0.06927 -0.71088 -0.05695 -0.69953 -0.04115 -0.69722 C -0.01893 -0.68078 -0.02882 -0.6868 -0.01164 -0.67662 C -0.00052 -0.66018 0.00503 -0.64629 0.01319 -0.62569 C 0.01649 -0.61759 0.01909 -0.60926 0.0217 -0.60046 C 0.02291 -0.59676 0.02517 -0.58935 0.02517 -0.58912 C 0.02795 -0.57222 0.02795 -0.55231 0.03368 -0.5368 C 0.03836 -0.50787 0.0408 -0.47291 0.03021 -0.44513 C 0.02882 -0.43449 0.02847 -0.43009 0.02291 -0.42291 C 0.01996 -0.41273 0.01597 -0.4074 0.01093 -0.39907 C 0.0033 -0.38518 0.00399 -0.38263 -0.0092 -0.37523 C -0.01129 -0.37268 -0.01337 -0.37037 -0.01511 -0.36736 C -0.01684 -0.36458 -0.01684 -0.36041 -0.01858 -0.35763 C -0.02014 -0.35578 -0.02188 -0.35601 -0.02327 -0.35463 C -0.03473 -0.34467 -0.0441 -0.3375 -0.0566 -0.3324 C -0.06927 -0.32152 -0.08056 -0.31782 -0.09497 -0.31342 C -0.11389 -0.29537 -0.09879 -0.30578 -0.12223 -0.29907 C -0.17223 -0.28472 -0.13802 -0.28912 -0.1816 -0.28634 C -0.26407 -0.26388 -0.34896 -0.2831 -0.4316 -0.28796 C -0.46181 -0.2949 -0.49184 -0.2949 -0.5224 -0.29791 C -0.57604 -0.30926 -0.63212 -0.31342 -0.68646 -0.31967 C -0.70539 -0.32176 -0.72309 -0.33125 -0.74115 -0.33402 C -0.75 -0.33888 -0.75955 -0.34143 -0.76841 -0.34398 C -0.77848 -0.33912 -0.78143 -0.33541 -0.78629 -0.32338 C -0.79132 -0.28935 -0.79098 -0.29537 -0.78872 -0.24027 C -0.78802 -0.22199 -0.78733 -0.21666 -0.77934 -0.20578 C -0.7724 -0.17893 -0.75539 -0.15092 -0.7342 -0.14421 C -0.72587 -0.13657 -0.72205 -0.13333 -0.71285 -0.13101 C -0.68316 -0.11342 -0.65469 -0.09444 -0.6224 -0.08819 C -0.59393 -0.07384 -0.58125 -0.07963 -0.54636 -0.08171 C -0.52882 -0.08726 -0.53542 -0.08402 -0.52466 -0.08981 C -0.52396 -0.09143 -0.52344 -0.09351 -0.5224 -0.09444 C -0.51997 -0.09583 -0.51719 -0.09537 -0.51493 -0.09606 C -0.50486 -0.09953 -0.49914 -0.10115 -0.48802 -0.10231 C -0.47795 -0.10694 -0.4757 -0.1074 -0.46407 -0.10879 C -0.45834 -0.11134 -0.45365 -0.1125 -0.4474 -0.11342 C -0.43351 -0.11851 -0.42743 -0.1199 -0.41389 -0.12152 C -0.38334 -0.12037 -0.37431 -0.1206 -0.34948 -0.11504 C -0.33959 -0.11041 -0.32813 -0.10856 -0.31754 -0.10717 C -0.30643 -0.10208 -0.29445 -0.10185 -0.28282 -0.0993 C -0.27691 -0.09143 -0.25348 -0.08518 -0.24358 -0.08333 C -0.23594 -0.07986 -0.22778 -0.07963 -0.21962 -0.0787 C -0.21111 -0.07083 -0.22188 -0.07916 -0.20209 -0.07384 C -0.20052 -0.07338 -0.19966 -0.07106 -0.19844 -0.0706 C -0.19584 -0.06944 -0.19271 -0.06944 -0.19028 -0.06898 C -0.18351 -0.0662 -0.175 -0.06064 -0.16841 -0.05949 C -0.1441 -0.05555 -0.13212 -0.05601 -0.10573 -0.05486 C -0.06719 -0.04791 -0.06372 -0.04676 -0.02101 -0.04676 L 0.28472 -0.55277 L -0.22795 -0.48796 L -0.99584 -1.06365 L -0.94809 -1.05578 E">
                                      <p:cBhvr>
                                        <p:cTn id="6" dur="5000" fill="hold"/>
                                        <p:tgtEl>
                                          <p:spTgt spid="8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996" fill="hold"/>
                                        <p:tgtEl>
                                          <p:spTgt spid="8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6000"/>
                            </p:stCondLst>
                            <p:childTnLst>
                              <p:par>
                                <p:cTn id="3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8000"/>
                            </p:stCondLst>
                            <p:childTnLst>
                              <p:par>
                                <p:cTn id="4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8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0"/>
                                        <p:tgtEl>
                                          <p:spTgt spid="8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hen a neighbor suffered misfortune, they would not help because they believed it was God’s will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Puritans believed that Satan would choose the weakest individuals to carry out his work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75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Witches were considered as followers  of Satan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7" dur="500"/>
                                        <p:tgtEl>
                                          <p:spTgt spid="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2" dur="500"/>
                                        <p:tgtEl>
                                          <p:spTgt spid="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utter, Tim. "Salem Witch Trails Causes and Effects." (2003): URL: http://www.salemwitchtrials.com/salemwitchcraft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1"/>
              </a:rPr>
              <a:t>http://www.salemweb.com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nder , Douglas . " Famous American Trials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alem Witch Trails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(3/2007): URL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2"/>
              </a:rPr>
              <a:t>http://www.law.umkc.edu/faculty/projects/ftrials/sale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Blumberg , Jess. "History &amp; Archaeology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 Brief History of the Salem Witch Trials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October 24, 2007 ):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3"/>
              </a:rPr>
              <a:t>URL:http://www.smithsonianmag.com/history-archaeology/brief-salem.htm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lso Thanks to </a:t>
            </a:r>
            <a:r>
              <a:rPr b="0" lang="en-US" sz="1600" spc="-1" strike="noStrike" u="sng">
                <a:solidFill>
                  <a:srgbClr val="ffffcc"/>
                </a:solidFill>
                <a:uFillTx/>
                <a:latin typeface="Verdana"/>
                <a:hlinkClick r:id="rId4"/>
              </a:rPr>
              <a:t>Julia Osteen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nd her citation machine @ http://docs.google.com/View?docid=ddq7h62_14dt9cp4gk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Life in Salem 1692 Religion and Witchcraft ."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http://school.discoveryeducation.com/schooladventures/salemwitchtrials/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. Discovery Education. &lt;http://school.discoveryeducation.com/schooladventures/salemwitchtrials/life/religion.html&gt;.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www.eyewitnesstohistory.com/salem.ht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http://school.discoveryeducation.com/schooladventures/salemwitchtrials/life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228600" y="1676520"/>
            <a:ext cx="86868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fe1f08"/>
                </a:solidFill>
                <a:latin typeface="Goudy Stout"/>
              </a:rPr>
              <a:t>THE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 </a:t>
            </a:r>
            <a:r>
              <a:rPr b="1" i="1" lang="en-US" sz="9600" spc="-1" strike="noStrike">
                <a:solidFill>
                  <a:srgbClr val="ffffff"/>
                </a:solidFill>
                <a:latin typeface="Goudy Stout"/>
              </a:rPr>
              <a:t>END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380880" y="8001000"/>
            <a:ext cx="1605240" cy="1820880"/>
          </a:xfrm>
          <a:prstGeom prst="rect">
            <a:avLst/>
          </a:prstGeom>
          <a:ln w="0">
            <a:noFill/>
          </a:ln>
        </p:spPr>
      </p:pic>
      <p:pic>
        <p:nvPicPr>
          <p:cNvPr id="916" name="" descr=""/>
          <p:cNvPicPr/>
          <p:nvPr/>
        </p:nvPicPr>
        <p:blipFill>
          <a:blip r:embed="rId3"/>
          <a:stretch/>
        </p:blipFill>
        <p:spPr>
          <a:xfrm>
            <a:off x="2286000" y="8305920"/>
            <a:ext cx="1812960" cy="1684080"/>
          </a:xfrm>
          <a:prstGeom prst="rect">
            <a:avLst/>
          </a:prstGeom>
          <a:ln w="0">
            <a:noFill/>
          </a:ln>
        </p:spPr>
      </p:pic>
      <p:pic>
        <p:nvPicPr>
          <p:cNvPr id="917" name="" descr=""/>
          <p:cNvPicPr/>
          <p:nvPr/>
        </p:nvPicPr>
        <p:blipFill>
          <a:blip r:embed="rId4"/>
          <a:stretch/>
        </p:blipFill>
        <p:spPr>
          <a:xfrm>
            <a:off x="4343400" y="8305920"/>
            <a:ext cx="2587680" cy="1566720"/>
          </a:xfrm>
          <a:prstGeom prst="rect">
            <a:avLst/>
          </a:prstGeom>
          <a:ln w="0">
            <a:noFill/>
          </a:ln>
        </p:spPr>
      </p:pic>
      <p:pic>
        <p:nvPicPr>
          <p:cNvPr id="918" name="" descr=""/>
          <p:cNvPicPr/>
          <p:nvPr/>
        </p:nvPicPr>
        <p:blipFill>
          <a:blip r:embed="rId5"/>
          <a:stretch/>
        </p:blipFill>
        <p:spPr>
          <a:xfrm>
            <a:off x="7261200" y="8153280"/>
            <a:ext cx="1882800" cy="1460520"/>
          </a:xfrm>
          <a:prstGeom prst="rect">
            <a:avLst/>
          </a:prstGeom>
          <a:ln w="0">
            <a:noFill/>
          </a:ln>
        </p:spPr>
      </p:pic>
      <p:pic>
        <p:nvPicPr>
          <p:cNvPr id="919" name="" descr=""/>
          <p:cNvPicPr/>
          <p:nvPr/>
        </p:nvPicPr>
        <p:blipFill>
          <a:blip r:embed="rId6"/>
          <a:stretch/>
        </p:blipFill>
        <p:spPr>
          <a:xfrm>
            <a:off x="-762120" y="7086600"/>
            <a:ext cx="1982880" cy="1722600"/>
          </a:xfrm>
          <a:prstGeom prst="rect">
            <a:avLst/>
          </a:prstGeom>
          <a:ln w="0">
            <a:noFill/>
          </a:ln>
        </p:spPr>
      </p:pic>
      <p:pic>
        <p:nvPicPr>
          <p:cNvPr id="920" name="" descr=""/>
          <p:cNvPicPr/>
          <p:nvPr/>
        </p:nvPicPr>
        <p:blipFill>
          <a:blip r:embed="rId7"/>
          <a:stretch/>
        </p:blipFill>
        <p:spPr>
          <a:xfrm>
            <a:off x="1828800" y="7162920"/>
            <a:ext cx="2552760" cy="961920"/>
          </a:xfrm>
          <a:prstGeom prst="rect">
            <a:avLst/>
          </a:prstGeom>
          <a:ln w="0">
            <a:noFill/>
          </a:ln>
        </p:spPr>
      </p:pic>
      <p:pic>
        <p:nvPicPr>
          <p:cNvPr id="921" name="" descr=""/>
          <p:cNvPicPr/>
          <p:nvPr/>
        </p:nvPicPr>
        <p:blipFill>
          <a:blip r:embed="rId8"/>
          <a:stretch/>
        </p:blipFill>
        <p:spPr>
          <a:xfrm>
            <a:off x="4952880" y="7162920"/>
            <a:ext cx="1816200" cy="1269720"/>
          </a:xfrm>
          <a:prstGeom prst="rect">
            <a:avLst/>
          </a:prstGeom>
          <a:ln w="0">
            <a:noFill/>
          </a:ln>
        </p:spPr>
      </p:pic>
      <p:pic>
        <p:nvPicPr>
          <p:cNvPr id="922" name="" descr=""/>
          <p:cNvPicPr/>
          <p:nvPr/>
        </p:nvPicPr>
        <p:blipFill>
          <a:blip r:embed="rId9"/>
          <a:stretch/>
        </p:blipFill>
        <p:spPr>
          <a:xfrm>
            <a:off x="6856560" y="7086600"/>
            <a:ext cx="2287440" cy="1608120"/>
          </a:xfrm>
          <a:prstGeom prst="rect">
            <a:avLst/>
          </a:prstGeom>
          <a:ln w="0">
            <a:noFill/>
          </a:ln>
        </p:spPr>
      </p:pic>
      <p:pic>
        <p:nvPicPr>
          <p:cNvPr id="923" name="" descr=""/>
          <p:cNvPicPr/>
          <p:nvPr/>
        </p:nvPicPr>
        <p:blipFill>
          <a:blip r:embed="rId10"/>
          <a:stretch/>
        </p:blipFill>
        <p:spPr>
          <a:xfrm>
            <a:off x="-2057400" y="6477120"/>
            <a:ext cx="1711440" cy="1763640"/>
          </a:xfrm>
          <a:prstGeom prst="rect">
            <a:avLst/>
          </a:prstGeom>
          <a:ln w="0">
            <a:noFill/>
          </a:ln>
        </p:spPr>
      </p:pic>
      <p:pic>
        <p:nvPicPr>
          <p:cNvPr id="924" name="" descr=""/>
          <p:cNvPicPr/>
          <p:nvPr/>
        </p:nvPicPr>
        <p:blipFill>
          <a:blip r:embed="rId11"/>
          <a:stretch/>
        </p:blipFill>
        <p:spPr>
          <a:xfrm>
            <a:off x="9144000" y="2286000"/>
            <a:ext cx="472428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0" fill="hold"/>
                                        <p:tgtEl>
                                          <p:spTgt spid="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300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1405" fill="hold"/>
                                        <p:tgtEl>
                                          <p:spTgt spid="9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46945E-018 7.40741E-007 L 0.475 -1.41112 E">
                                      <p:cBhvr>
                                        <p:cTn id="468" dur="5000" fill="hold"/>
                                        <p:tgtEl>
                                          <p:spTgt spid="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8.88889E-006 L 0.35833 -1.51112 E">
                                      <p:cBhvr>
                                        <p:cTn id="470" dur="5000" fill="hold"/>
                                        <p:tgtEl>
                                          <p:spTgt spid="9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7.03704E-006 L 0.16667 -1.65556 E">
                                      <p:cBhvr>
                                        <p:cTn id="472" dur="5000" fill="hold"/>
                                        <p:tgtEl>
                                          <p:spTgt spid="9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3.46945E-018 L 0.10834 -1.51111 E">
                                      <p:cBhvr>
                                        <p:cTn id="474" dur="5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5.92593E-006 L -0.1 -1.72222 E">
                                      <p:cBhvr>
                                        <p:cTn id="476" dur="5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6.2963E-006 L -0.13333 -1.52223 E">
                                      <p:cBhvr>
                                        <p:cTn id="478" dur="5000" fill="hold"/>
                                        <p:tgtEl>
                                          <p:spTgt spid="9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5.18519E-006 L -0.40834 -1.59999 E">
                                      <p:cBhvr>
                                        <p:cTn id="480" dur="5000" fill="hold"/>
                                        <p:tgtEl>
                                          <p:spTgt spid="9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7.40741E-007 L -0.43333 -1.75555 E">
                                      <p:cBhvr>
                                        <p:cTn id="482" dur="5000" fill="hold"/>
                                        <p:tgtEl>
                                          <p:spTgt spid="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000"/>
                            </p:stCondLst>
                            <p:childTnLst>
                              <p:par>
                                <p:cTn id="48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48148E-006 L -1.7 -0.00463 E">
                                      <p:cBhvr>
                                        <p:cTn id="485" dur="2000" fill="hold"/>
                                        <p:tgtEl>
                                          <p:spTgt spid="9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Family Life Expe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2666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Children were expected to do the same work as adults. They weren’t aloud to talk unless they are talked to. Happiness, sadness, and other emotions were discouraged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0"/>
                            </p:stCondLst>
                            <p:childTnLst>
                              <p:par>
                                <p:cTn id="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3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77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8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79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80" dur="5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8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3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0" y="-304920"/>
            <a:ext cx="10058400" cy="1470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8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996600"/>
                </a:solidFill>
                <a:uFillTx/>
                <a:latin typeface="comic"/>
              </a:rPr>
              <a:t>Historical event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52280" y="1407960"/>
            <a:ext cx="982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99"/>
                </a:solidFill>
                <a:latin typeface="Copperplate Gothic Bold"/>
              </a:rPr>
              <a:t>There were divisions among the people in the Society. Farmers, City people, Religion, Economics, Class, Character, Salem town, Salem village. The imagination and fears of the people,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304920" y="293220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ff"/>
                </a:solidFill>
                <a:latin typeface="Copperplate Gothic Bold"/>
              </a:rPr>
              <a:t>The leader of Salem in 1692 was Governor Phip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609480" y="38862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Copperplate Gothic Bold"/>
              </a:rPr>
              <a:t>The economy was really b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609480" y="476100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Copperplate Gothic Bold"/>
              </a:rPr>
              <a:t>Other reasons the Witch Trials happened was because of frontier war, congregational strife, teenage boredom, and personal jealousi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8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1979280" y="152280"/>
            <a:ext cx="4845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alem Witch Tria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72560" y="1650960"/>
            <a:ext cx="765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People were usually accused of witchcraft by the ‘afflicted’ gir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"/>
              </a:rPr>
              <a:t>Then put on trial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whether they liked it or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77160" y="5843520"/>
            <a:ext cx="7727400" cy="642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In this picture the ‘afflicted’ girls are screaming and yelling because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ff"/>
                </a:solidFill>
                <a:latin typeface="comic"/>
              </a:rPr>
              <a:t>two women supposedly torturing them</a:t>
            </a:r>
            <a:r>
              <a:rPr b="0" lang="en-US" sz="1800" spc="-1" strike="noStrike">
                <a:solidFill>
                  <a:srgbClr val="77842c"/>
                </a:solidFill>
                <a:latin typeface="comic"/>
              </a:rPr>
              <a:t>.</a:t>
            </a:r>
            <a:r>
              <a:rPr b="0" lang="en-US" sz="1800" spc="-1" strike="noStrike">
                <a:solidFill>
                  <a:srgbClr val="77842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3" name="" descr=""/>
          <p:cNvPicPr/>
          <p:nvPr/>
        </p:nvPicPr>
        <p:blipFill>
          <a:blip r:embed="rId2"/>
          <a:stretch/>
        </p:blipFill>
        <p:spPr>
          <a:xfrm>
            <a:off x="-7543800" y="2666880"/>
            <a:ext cx="5943600" cy="2239920"/>
          </a:xfrm>
          <a:prstGeom prst="rect">
            <a:avLst/>
          </a:prstGeom>
          <a:ln w="0">
            <a:noFill/>
          </a:ln>
        </p:spPr>
      </p:pic>
      <p:pic>
        <p:nvPicPr>
          <p:cNvPr id="874" name="" descr=""/>
          <p:cNvPicPr/>
          <p:nvPr/>
        </p:nvPicPr>
        <p:blipFill>
          <a:blip r:embed="rId3"/>
          <a:stretch/>
        </p:blipFill>
        <p:spPr>
          <a:xfrm>
            <a:off x="609480" y="7543800"/>
            <a:ext cx="6248520" cy="2354400"/>
          </a:xfrm>
          <a:prstGeom prst="rect">
            <a:avLst/>
          </a:prstGeom>
          <a:ln w="0">
            <a:noFill/>
          </a:ln>
        </p:spPr>
      </p:pic>
      <p:sp>
        <p:nvSpPr>
          <p:cNvPr id="875" name=""/>
          <p:cNvSpPr/>
          <p:nvPr/>
        </p:nvSpPr>
        <p:spPr>
          <a:xfrm>
            <a:off x="1603800" y="3124080"/>
            <a:ext cx="6785640" cy="6426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trials had trouble getting ‘Fact from Fiction' from the ‘afflicted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irl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539640" y="4038480"/>
            <a:ext cx="5505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The people that were in court did not h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good chance of winning, or going back to the outs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Arial"/>
              </a:rPr>
              <a:t>world because of the unfair cour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8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4167 0.00348 L 1.79167 0.00348 E">
                                      <p:cBhvr>
                                        <p:cTn id="156" dur="2000" fill="hold"/>
                                        <p:tgtEl>
                                          <p:spTgt spid="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67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8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7037E-007 L 0.00209 -0.84259 E">
                                      <p:cBhvr>
                                        <p:cTn id="192" dur="2000" fill="hold"/>
                                        <p:tgtEl>
                                          <p:spTgt spid="8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5" dur="2000" fill="hold"/>
                                        <p:tgtEl>
                                          <p:spTgt spid="8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8" name=""/>
          <p:cNvSpPr/>
          <p:nvPr/>
        </p:nvSpPr>
        <p:spPr>
          <a:xfrm>
            <a:off x="2517840" y="0"/>
            <a:ext cx="4411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Salem Witch Trial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Punishm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26000" y="6400800"/>
            <a:ext cx="13800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f you denied being a witch you were most likely hanged or bur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10480" y="5867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81" name="" descr="">
            <a:hlinkClick r:id="" action="ppaction://media"/>
          </p:cNvPr>
          <p:cNvPicPr/>
          <p:nvPr>
            <a:audi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8"/>
          <a:stretch/>
        </p:blipFill>
        <p:spPr>
          <a:xfrm>
            <a:off x="-7162920" y="0"/>
            <a:ext cx="5907240" cy="6702480"/>
          </a:xfrm>
          <a:prstGeom prst="rect">
            <a:avLst/>
          </a:prstGeom>
          <a:ln w="0">
            <a:noFill/>
          </a:ln>
        </p:spPr>
      </p:pic>
      <p:sp>
        <p:nvSpPr>
          <p:cNvPr id="883" name=""/>
          <p:cNvSpPr/>
          <p:nvPr/>
        </p:nvSpPr>
        <p:spPr>
          <a:xfrm>
            <a:off x="380520" y="3048120"/>
            <a:ext cx="8954280" cy="1373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trials most of the time the trails were unfair and if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the ‘afflicted girls’ said you were a witch to the people i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de you one because of the hysteri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1605960" y="4800600"/>
            <a:ext cx="647172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 person afflicted was considered to be tormented by the dev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1224000" y="1600200"/>
            <a:ext cx="574956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pon the arrest you were taken to jail to await your t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4491" fill="hold"/>
                                        <p:tgtEl>
                                          <p:spTgt spid="8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7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2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338" fill="hold"/>
                                        <p:tgtEl>
                                          <p:spTgt spid="8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1.20518E-006 L 1.92118 -0.03863 E">
                                      <p:cBhvr>
                                        <p:cTn id="216" dur="5000" fill="hold"/>
                                        <p:tgtEl>
                                          <p:spTgt spid="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8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7" dur="2000"/>
                                        <p:tgtEl>
                                          <p:spTgt spid="8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0" dur="2000"/>
                                        <p:tgtEl>
                                          <p:spTgt spid="8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3" dur="2000"/>
                                        <p:tgtEl>
                                          <p:spTgt spid="8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8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4" dur="2000"/>
                                        <p:tgtEl>
                                          <p:spTgt spid="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880"/>
                </p:tgtEl>
              </p:cMediaNode>
            </p:audio>
            <p:audio isNarration="0">
              <p:cMediaNode showWhenStopped="1">
                <p:cTn/>
                <p:tgtEl>
                  <p:spTgt spid="881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8229240" y="1873440"/>
            <a:ext cx="1746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8763120" y="7695720"/>
            <a:ext cx="79200" cy="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32760" bIns="327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-8305920" y="2133720"/>
            <a:ext cx="6643800" cy="3400200"/>
          </a:xfrm>
          <a:prstGeom prst="rect">
            <a:avLst/>
          </a:prstGeom>
          <a:ln w="0">
            <a:noFill/>
          </a:ln>
        </p:spPr>
      </p:pic>
      <p:sp>
        <p:nvSpPr>
          <p:cNvPr id="889" name=""/>
          <p:cNvSpPr/>
          <p:nvPr/>
        </p:nvSpPr>
        <p:spPr>
          <a:xfrm>
            <a:off x="311400" y="6216480"/>
            <a:ext cx="673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people denied being  witches…. They were then most like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illed because of the ‘afflicted’ girls ly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1984680" y="152280"/>
            <a:ext cx="464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rials had priests from other coun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help calm the girls from their tormentor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8310c"/>
                </a:solidFill>
                <a:latin typeface="comic"/>
              </a:rPr>
              <a:t>The Devi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143000" y="25146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1224000" y="1219320"/>
            <a:ext cx="768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st of the time the girls just lied about the witches, probably for atten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6.38298E-007 L 2.21997 -0.00347 E">
                                      <p:cBhvr>
                                        <p:cTn id="280" dur="5000" fill="hold"/>
                                        <p:tgtEl>
                                          <p:spTgt spid="8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0"/>
                            </p:stCondLst>
                            <p:childTnLst>
                              <p:par>
                                <p:cTn id="28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8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8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2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3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80"/>
                                        <p:tgtEl>
                                          <p:spTgt spid="8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3000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7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" fill="hold">
                                          <p:stCondLst>
                                            <p:cond delay="2700"/>
                                          </p:stCondLst>
                                        </p:cTn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14" dur="2000" fill="hold"/>
                                        <p:tgtEl>
                                          <p:spTgt spid="8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rials Effec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trials had a devastating blow to the people of Salem and other places in Massachusett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caused horror beyond belief among the people, because of the death tol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were in a trial then you would not get an attorney even though by law you are supposed 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ggested death toll is twenty. (20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8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2" dur="1000"/>
                                        <p:tgtEl>
                                          <p:spTgt spid="8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9" dur="1000"/>
                                        <p:tgtEl>
                                          <p:spTgt spid="8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Summary of Trial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ummary of the trials is that they wer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cking justice, the accused didn’t even get an attorney…. The judges believed they were making justice but really causing more harm then they intended to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7" name="" descr=""/>
          <p:cNvPicPr/>
          <p:nvPr/>
        </p:nvPicPr>
        <p:blipFill>
          <a:blip r:embed="rId1"/>
          <a:stretch/>
        </p:blipFill>
        <p:spPr>
          <a:xfrm>
            <a:off x="-6172200" y="2017800"/>
            <a:ext cx="4952880" cy="2998800"/>
          </a:xfrm>
          <a:prstGeom prst="rect">
            <a:avLst/>
          </a:prstGeom>
          <a:ln w="0">
            <a:noFill/>
          </a:ln>
        </p:spPr>
      </p:pic>
      <p:pic>
        <p:nvPicPr>
          <p:cNvPr id="898" name="" descr=""/>
          <p:cNvPicPr/>
          <p:nvPr/>
        </p:nvPicPr>
        <p:blipFill>
          <a:blip r:embed="rId2"/>
          <a:stretch/>
        </p:blipFill>
        <p:spPr>
          <a:xfrm>
            <a:off x="12420720" y="2286000"/>
            <a:ext cx="3965400" cy="3444840"/>
          </a:xfrm>
          <a:prstGeom prst="rect">
            <a:avLst/>
          </a:prstGeom>
          <a:ln w="0">
            <a:noFill/>
          </a:ln>
        </p:spPr>
      </p:pic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-22097880" y="152280"/>
            <a:ext cx="18135360" cy="683424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-228600" y="9144000"/>
            <a:ext cx="8305920" cy="1535040"/>
          </a:xfrm>
          <a:prstGeom prst="rect">
            <a:avLst/>
          </a:prstGeom>
          <a:ln w="0">
            <a:noFill/>
          </a:ln>
        </p:spPr>
      </p:pic>
      <p:pic>
        <p:nvPicPr>
          <p:cNvPr id="901" name="" descr=""/>
          <p:cNvPicPr/>
          <p:nvPr/>
        </p:nvPicPr>
        <p:blipFill>
          <a:blip r:embed="rId5"/>
          <a:stretch/>
        </p:blipFill>
        <p:spPr>
          <a:xfrm>
            <a:off x="1676520" y="9067680"/>
            <a:ext cx="3047760" cy="1844640"/>
          </a:xfrm>
          <a:prstGeom prst="rect">
            <a:avLst/>
          </a:prstGeom>
          <a:ln w="0">
            <a:noFill/>
          </a:ln>
        </p:spPr>
      </p:pic>
      <p:pic>
        <p:nvPicPr>
          <p:cNvPr id="902" name="" descr=""/>
          <p:cNvPicPr/>
          <p:nvPr/>
        </p:nvPicPr>
        <p:blipFill>
          <a:blip r:embed="rId6"/>
          <a:stretch/>
        </p:blipFill>
        <p:spPr>
          <a:xfrm>
            <a:off x="6934320" y="9067680"/>
            <a:ext cx="2666880" cy="2316240"/>
          </a:xfrm>
          <a:prstGeom prst="rect">
            <a:avLst/>
          </a:prstGeom>
          <a:ln w="0">
            <a:noFill/>
          </a:ln>
        </p:spPr>
      </p:pic>
      <p:pic>
        <p:nvPicPr>
          <p:cNvPr id="903" name="" descr="">
            <a:hlinkClick r:id="" action="ppaction://media"/>
          </p:cNvPr>
          <p:cNvPicPr/>
          <p:nvPr>
            <a:audi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8839080" y="6705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" dur="500"/>
                                        <p:tgtEl>
                                          <p:spTgt spid="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2.35 -1.85185E-006 E">
                                      <p:cBhvr>
                                        <p:cTn id="363" dur="5000" fill="hold"/>
                                        <p:tgtEl>
                                          <p:spTgt spid="8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4400"/>
                                  </p:stCondLst>
                                  <p:childTnLst>
                                    <p:animMotion origin="layout" path="M 6.94444E-006 -2.59259E-006 L -2.84999 -2.59259E-006 E">
                                      <p:cBhvr>
                                        <p:cTn id="365" dur="5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5112E-017 -1.11111E-006 L 2.91667 0.01112 E">
                                      <p:cBhvr>
                                        <p:cTn id="367" dur="5000" fill="hold"/>
                                        <p:tgtEl>
                                          <p:spTgt spid="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1" dur="5422" fill="hold"/>
                                        <p:tgtEl>
                                          <p:spTgt spid="9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-2.96296E-006 L 5.55112E-017 -1.01227 E">
                                      <p:cBhvr>
                                        <p:cTn id="373" dur="2000" fill="hold"/>
                                        <p:tgtEl>
                                          <p:spTgt spid="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11111E-006 L 0.00416 -0.98958 E">
                                      <p:cBhvr>
                                        <p:cTn id="375" dur="2000" fill="hold"/>
                                        <p:tgtEl>
                                          <p:spTgt spid="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L -0.42084 -1.0243 E">
                                      <p:cBhvr>
                                        <p:cTn id="377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42083 -1.0243 C -0.41944 -1.02546 -0.41788 -1.02685 -0.41615 -1.02754 C -0.41389 -1.02847 -0.40955 -1.02592 -0.40885 -1.02916 C -0.40521 -1.05069 -0.41094 -1.07801 -0.42465 -1.09097 C -0.4342 -1.11736 -0.42205 -1.08888 -0.43281 -1.1037 C -0.43403 -1.10532 -0.43403 -1.10833 -0.43507 -1.11018 C -0.43958 -1.11851 -0.4474 -1.11851 -0.45417 -1.11967 C -0.4717 -1.12731 -0.46111 -1.12453 -0.48628 -1.12268 C -0.49184 -1.11828 -0.49427 -1.11296 -0.49948 -1.10856 C -0.50156 -1.09861 -0.49896 -1.1074 -0.50781 -1.09583 C -0.51285 -1.08935 -0.51354 -1.08171 -0.5184 -1.07523 C -0.52083 -1.06713 -0.52361 -1.05972 -0.52552 -1.05138 C -0.52517 -1.03981 -0.52552 -1.02801 -0.52448 -1.01643 C -0.52431 -1.01458 -0.52257 -1.01342 -0.52205 -1.01157 C -0.51806 -0.99953 -0.51319 -0.99745 -0.50538 -0.99097 C -0.50174 -0.9831 -0.50035 -0.97569 -0.49826 -0.96713 C -0.49861 -0.95763 -0.49844 -0.94814 -0.49948 -0.93865 C -0.50191 -0.91851 -0.52552 -0.90115 -0.53872 -0.89745 C -0.56806 -0.9 -0.59653 -0.9 -0.62448 -0.91157 C -0.63576 -0.9162 -0.64722 -0.9206 -0.65781 -0.92754 C -0.66736 -0.93379 -0.68628 -0.94652 -0.68628 -0.94652 C -0.70434 -0.97592 -0.6967 -0.96551 -0.70781 -0.97986 C -0.71024 -1.00208 -0.7066 -1.00277 -0.69948 -1.01967 C -0.69705 -1.02523 -0.69618 -1.03171 -0.6934 -1.03703 C -0.68194 -1.05926 -0.68611 -1.04097 -0.67326 -1.06088 C -0.66858 -1.06805 -0.66632 -1.07777 -0.66128 -1.08472 C -0.61962 -1.14189 -0.65191 -1.0912 -0.62205 -1.12268 C -0.61875 -1.12615 -0.61719 -1.13217 -0.61372 -1.13541 C -0.60816 -1.14074 -0.5967 -1.14513 -0.5901 -1.14814 C -0.57847 -1.15902 -0.56806 -1.1618 -0.55417 -1.16412 C -0.54618 -1.16296 -0.53802 -1.16365 -0.53038 -1.16088 C -0.52014 -1.15717 -0.51458 -1.14467 -0.5066 -1.13703 C -0.5026 -1.1331 -0.49757 -1.13125 -0.4934 -1.12754 C -0.48038 -1.11574 -0.47951 -1.10532 -0.46615 -1.08935 C -0.46181 -1.08402 -0.45677 -1.07963 -0.45295 -1.07361 C -0.42656 -1.03055 -0.4467 -1.04629 -0.42552 -1.0324 C -0.42309 -1.025 -0.4217 -1.01689 -0.41858 -1.01018 C -0.41615 -1.00509 -0.41128 -1.00254 -0.40885 -0.99745 C -0.40312 -0.98541 -0.40139 -0.97083 -0.39705 -0.95763 C -0.39288 -0.91898 -0.38854 -0.84699 -0.35052 -0.83865 C -0.33177 -0.82592 -0.31493 -0.80694 -0.29358 -0.80208 C -0.28576 -0.79768 -0.27708 -0.79814 -0.27101 -0.79259 C -0.2658 -0.78796 -0.26267 -0.78101 -0.25677 -0.77824 C -0.26667 -0.76064 -0.26927 -0.76713 -0.2875 -0.75463 C -0.30955 -0.73958 -0.33351 -0.73287 -0.35781 -0.72916 C -0.40191 -0.71527 -0.37465 -0.725 -0.43872 -0.69583 C -0.4658 -0.68356 -0.49965 -0.68287 -0.52795 -0.68148 C -0.57708 -0.68657 -0.61233 -0.68703 -0.6566 -0.69907 C -0.68212 -0.71504 -0.7033 -0.73773 -0.7316 -0.7449 C -0.74497 -0.76388 -0.75764 -0.78194 -0.76962 -0.80208 C -0.77448 -0.83078 -0.77743 -0.86018 -0.78038 -0.88935 C -0.78003 -0.90902 -0.77969 -0.92847 -0.77917 -0.94814 C -0.77812 -0.98634 -0.77465 -1.02314 -0.77083 -1.06088 C -0.76545 -1.11365 -0.75486 -1.16412 -0.71128 -1.17824 C -0.6849 -1.19629 -0.65729 -1.20254 -0.62795 -1.20532 C -0.62517 -1.20509 -0.57865 -1.20347 -0.56372 -1.19583 C -0.55538 -1.19143 -0.54792 -1.18472 -0.53993 -1.17986 C -0.52465 -1.1706 -0.50625 -1.16551 -0.49219 -1.15301 C -0.46024 -1.12453 -0.50017 -1.15046 -0.46719 -1.13078 C -0.4401 -1.09398 -0.47014 -1.13796 -0.45417 -1.10694 C -0.4474 -1.09398 -0.43767 -1.08588 -0.43038 -1.07361 C -0.42083 -1.03888 -0.41997 -1.04768 -0.41858 -1.00856 C -0.42083 -0.98588 -0.42222 -0.96273 -0.42552 -0.94027 C -0.42882 -0.91736 -0.43403 -0.9162 -0.44219 -0.89583 C -0.44514 -0.88865 -0.44566 -0.87986 -0.44948 -0.87361 C -0.46181 -0.85347 -0.47535 -0.83981 -0.48993 -0.8243 C -0.49236 -0.81689 -0.49427 -0.80926 -0.49705 -0.80208 C -0.49861 -0.79814 -0.50295 -0.79097 -0.50295 -0.79097 C -0.50451 -0.76064 -0.50781 -0.75301 -0.48628 -0.74351 C -0.48299 -0.74213 -0.48003 -0.73935 -0.47674 -0.73865 C -0.4625 -0.73564 -0.43385 -0.7324 -0.43385 -0.7324 C -0.37812 -0.73773 -0.40226 -0.73611 -0.36128 -0.73865 C -0.33872 -0.74259 -0.32066 -0.74606 -0.29826 -0.75301 C -0.27743 -0.76643 -0.25816 -0.78449 -0.23646 -0.79583 C -0.22083 -0.80393 -0.2033 -0.80578 -0.1875 -0.81319 C -0.17951 -0.82222 -0.17257 -0.83287 -0.16372 -0.84027 C -0.14045 -0.85949 -0.14722 -0.83773 -0.1316 -0.86412 C -0.12448 -0.87615 -0.1125 -0.90208 -0.1125 -0.90208 C -0.11128 -0.90902 -0.11042 -0.91597 -0.10885 -0.92268 C -0.10712 -0.93032 -0.10434 -0.93726 -0.10295 -0.9449 C -0.09913 -0.96551 -0.09722 -0.98773 -0.0934 -1.00856 C -0.09062 -1.04166 -0.09288 -1.01388 -0.08872 -1.07685 C -0.08837 -1.08263 -0.0875 -1.09421 -0.0875 -1.09421 C -0.08993 -1.12777 -0.08698 -1.2081 -0.12448 -1.21805 C -0.15035 -1.23333 -0.16875 -1.22407 -0.20052 -1.22129 C -0.21562 -1.21736 -0.22951 -1.21296 -0.24479 -1.21157 C -0.26615 -1.20231 -0.28993 -1.19953 -0.31024 -1.18634 C -0.31858 -1.175 -0.32969 -1.16666 -0.33889 -1.15601 C -0.34479 -1.14213 -0.34774 -1.13773 -0.35781 -1.12916 C -0.36163 -1.12199 -0.36458 -1.11713 -0.36632 -1.10856 C -0.37083 -1.08726 -0.36302 -1.10648 -0.37083 -1.08935 C -0.37205 -1.08125 -0.37292 -1.07685 -0.37812 -1.07199 C -0.38108 -1.06435 -0.3842 -1.04953 -0.39115 -1.04652 C -0.39479 -1.0449 -0.39844 -1.04513 -0.40191 -1.04351 C -0.40312 -1.04305 -0.40434 -1.04236 -0.40538 -1.04189 C -0.4092 -1.03842 -0.41337 -1.03611 -0.41736 -1.03379 C -0.41858 -1.0331 -0.42031 -1.03379 -0.42083 -1.0324 C -0.4217 -1.03009 -0.42083 -1.02708 -0.42083 -1.0243 Z">
                                      <p:cBhvr>
                                        <p:cTn id="379" dur="2000" fill="hold"/>
                                        <p:tgtEl>
                                          <p:spTgt spid="9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903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elig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hurch was the cornerstone of the 17</a:t>
            </a:r>
            <a:r>
              <a:rPr b="0" lang="en-US" sz="31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entur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was illegal to not go to church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ey believed that God punished sinful behavior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ost people in Massachusetts were Puritans seeking religious tolerance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198108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3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3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8.67916E-006 C -0.01684 -0.00277 -0.03385 -0.00485 -0.05069 -0.00647 C -0.0677 -0.01225 -0.08836 -0.00994 -0.10607 -0.01133 C -0.13802 -0.01619 -0.17031 -0.01225 -0.20243 -0.00971 C -0.22413 -0.00254 -0.24704 -0.0104 -0.26875 -0.00323 C -0.3085 0.02429 -0.43489 -0.03099 -0.43489 0.00787 E">
                                      <p:cBhvr>
                                        <p:cTn id="390" dur="2000" fill="hold"/>
                                        <p:tgtEl>
                                          <p:spTgt spid="9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4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15:02:47Z</dcterms:created>
  <dc:creator>lmclabb</dc:creator>
  <dc:description/>
  <dc:language>en-US</dc:language>
  <cp:lastModifiedBy>lmclabb</cp:lastModifiedBy>
  <dcterms:modified xsi:type="dcterms:W3CDTF">2008-11-24T16:09:11Z</dcterms:modified>
  <cp:revision>16</cp:revision>
  <dc:subject/>
  <dc:title>Salem Witch Trials</dc:title>
</cp:coreProperties>
</file>