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3.png" ContentType="image/png"/>
  <Override PartName="/ppt/media/image12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6.gif" ContentType="image/gif"/>
  <Override PartName="/ppt/media/image17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6.wmf" ContentType="image/x-wmf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41D-D83B-44DB-8783-DCFDF807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F3F-9529-4FE7-BB5A-EBF3700E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E3C51-1841-49A2-9F18-A3BBF8D5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6608D-2AA7-46D0-8E1D-D3175DC7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97CEB-8E33-47C8-AEC3-89FF2C58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D7604-1DF6-4363-9D3C-AD265DE2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B8792-9EAC-477C-AD9F-26A51C01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C3448-858B-4138-87EF-27F995B6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1CD5C-FCE1-476D-8B30-F2604C59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458AD-BD8A-4A9E-9ECB-A9FA5E9D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A1991-9227-4F32-9360-D1A4E6A6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AA605-3D42-4C4F-9A3E-EFBA475E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050-A9A0-46A5-A2D1-BEA33EF6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D93E2-79A6-4D33-BDEF-8EF3465E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2C07A-6E15-4C09-A1BA-1447F63F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7B4DF-BC27-468C-AF02-F515C2CD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BB32E-3CD2-4DF2-AACE-C3F00169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92B94-9575-4483-9D7B-E6A83C60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C3205-18E6-47F1-865D-D7AA4069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C8F0A-E0A5-4A14-85B0-B5CCE3D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33BAC-EEDB-4086-96E2-3BE1A7F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69012-9E6C-4CF8-9EF6-598E8467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EDB64-D4C9-4F32-92E7-62598B04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0BC-0F6B-4965-B25A-A94E5031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05305-7BD7-4528-B4BF-1B744E17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8A800-031C-4EB6-B7DD-DD06019A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55B75-B372-4E99-8103-086EB3E1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1EF35-81AD-4CD9-9BD5-CBFFB779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83F04-B92F-4D85-959C-1BC8284F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ACC5C-732C-44FD-A5D9-85FF5634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8EB13-8D77-499F-B356-8FF528B1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8C47E-5971-44DD-B266-FC90E95A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8CF2C-0463-4895-9429-2E8EBF49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BE9E7-8085-4CCD-8712-4D215B6C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EA21-279E-420F-9486-ECFEFB5A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25A2D-2CA9-42E6-AA83-108CD07D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DDA86-F608-45A3-861E-36B45CE5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AF390-5C9F-46F6-8DBF-965C01F0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845E9-A632-4D79-A26D-3541D418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A34B3-30C5-4B37-AC4A-89DF0B84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EEC05-9134-4B2D-B429-6B2BA56D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955D7-7EB0-4EB8-BDFA-89E3D56A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FA756-4F89-4C92-9D41-6251908A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BCE95-6CDB-4B0F-B312-4FA83CF2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FE4E1-238A-43D3-87A5-BBACE743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E76A-CB21-4DD4-B5E7-DD43085A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6525B-3DBA-4BC8-BA80-AA696A26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22733-50D8-4CE7-B516-EA45022E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5EB70-9A73-43B8-95E3-91DACAA7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A1DB4-A2A6-4137-A6C2-B8EB7639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CB244-31DC-4F35-AD3F-D16972E8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3506-39AE-4142-9CAB-AA416EC6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18E2-0B8E-466E-A157-1134CD18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2582-0C4D-451C-8ED3-E9B3D6ED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E18E-1D3C-448F-A217-1C2C6D32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9F56-E6DB-48A7-9DCC-F9BEAE3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CD7-12A4-4409-8BE4-08E03A72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C50E-6F79-40E9-A385-DF771253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1468-707A-410E-A5A1-D5B388E1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4A7E-0D61-4417-AC9C-1D044554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AA58-7E9E-43DF-8DD2-38A8AEB1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53D1-ABDF-4D3A-9B04-886D486B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3D1E-6B1E-4690-AF41-6C3DAE91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8027-B3DD-4E88-B5D0-905EA26C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4FFF0-8D87-4952-85C4-39A28B53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EE0A-C292-4694-B048-3D1E8BBF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C6EE-4889-4A5D-8FB9-CDC691A3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10D-22AF-4FB4-A9FC-A7FFC85A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F87C-D15B-47AC-B17F-71476075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5F49-C61A-4E5D-A0B8-2A713F1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9DF2-1564-4B2A-AB16-771CF7C0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9E77-4286-4AE5-9300-D82DF9B2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4CF4-66D6-4942-86E8-1D102AAC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4C7E-4AB7-4B6E-8DB9-3CE16DB9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54B5-2E84-4C0D-9F80-781B954A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1F8D7-4E15-4547-A37B-3D718875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ADF4-9394-43CF-9F2F-31C96A36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A5F3-7CBC-426E-813C-424F7F64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01D-2B62-4C61-A36A-401707B0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02A9-6FDE-4E82-B5A9-DA7BE6E0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720C1-F5C6-496E-82FB-093BB29E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BB0F-3523-4604-941F-C22034B3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0489-6B2E-47FD-82B1-350AEE3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26228-F4DB-4F20-94E6-90749568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CF8A-43FF-457C-B3A9-77C38E18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FD914-258F-4569-9D38-00D982C2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E898B-5906-47E0-ABC2-2A077CD4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A9A18-5DA5-43C7-BE47-C81A81C7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D50E7-D534-4CBC-A805-4D4932A7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BEB-9EFF-4DF6-9287-3FA31747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2F404-3BB7-485C-A6C2-85A09D26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F3703-E675-4BD5-8EC9-41DDECDF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7B0B8-9511-4A23-9F68-49D2EC0C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52617-6E57-44CD-BDB2-3064BCBD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FF30D-CBFF-4E8D-9728-8EB52759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8CB28-CFB2-4F29-80AF-3E4F1579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B6361-6220-4372-9EF8-8A3230B8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7BB8C-CE48-4F49-A33A-A8176726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CDD13-5928-42C3-9BFE-E839570A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3F957-02B2-46AF-BA2D-C81E6259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DFC-AAD2-4EC2-BDBF-A24D87D7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1B5D8-53B1-453F-8ABA-24089EAB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E6DAB-E5F7-4F3E-BB37-B86C01C8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8738B-46C4-44CF-A10E-4ACC3EB9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BF80D-D90C-4236-A9F5-30B24F45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35BA-6DB4-49A7-ABB5-E2B68AA0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1B706-2C08-4EF5-8A8E-D12A07A0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A00C5-017E-4F87-9BE3-01BDB660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A1FF7-E710-4835-A631-D22425BC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5B9DC-40EE-4953-9C35-752BFAB9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02C94-A24A-4047-9748-D48A5E7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510-3FD9-426B-BC61-23CD2167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FD456-5689-4347-A616-DEBEE0A6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EC90-586E-449B-8460-C0C3AD2B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BA8D-3511-488E-94AC-05E5969F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AAA00-8DE9-4C0B-85F4-29A95CF0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2E9B5-FC0D-4033-9190-23D2F11D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6D668-91DC-4A1F-843D-2FD50C84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D8ADC-171C-47BB-9D87-54B9D16F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8557F-2DB3-41E3-BC61-C73AFB47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8F60A-41C9-44BC-BEF9-23AD2D0C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9A066-9D0F-4094-ADA4-685927EA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15E-4979-451F-86E9-4C961F4A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148FD-CC29-4B12-BCA2-B354A36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CF82F-321D-4A1C-9814-B9A123CE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E874D-C721-433F-ACF8-EC3BD576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0B3DC-9719-4E9F-A091-CE034054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AC983-84D1-4F65-AEED-7E7113A3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1EBA4-A4E0-4350-BD58-8704682F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6DD50-B716-4FC9-B04C-45D49C32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44176-1352-4396-A77D-582A3A85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8C1A8-D39F-4382-9BE1-BEB8A3FD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4BFE4-912F-4339-AEC1-3E6EEA94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004-5E67-43A2-A5AD-4BE2E1E1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1CC80-F24E-4D4D-BC05-FEB0DA3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FEC73-92F8-44FC-B0E9-7D7FF0C3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F93C3-307A-4C01-AC12-BCC7F71C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3AE19-C23B-4C9A-A486-40326178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DE59C-B631-4C9A-AF91-26708048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FE7BE-7B83-4CE4-8569-B529543C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27983-EF2B-4A01-8D0A-D179F25D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2D393-71F9-454D-94AA-59E8378D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943A5-ED7C-4095-87DE-39D046BA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C625A-5DCC-4ED5-80EF-CBAB50A0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C63-7EB4-423E-A78B-545EBF051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5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8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F7DA-C65E-4101-B69E-04DE8B4C0A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3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4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CAFA-452A-4C45-B1CE-C55F2AE2F5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BFC5-50EA-4B66-8A99-2C67C32A6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C5CD-97CC-4BC7-AE84-6EC2F354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C987-5175-4426-8C2E-6F8F44F628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9FB6-42D4-4B4D-AD2E-1024E9B246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7B23-0E34-403B-990E-BE37D01DD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7518-B507-4ACE-9958-A8BC4E30E7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6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2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2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10F2-FF47-43F9-8A13-663B10A30C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2A8F-CA87-413B-9B8A-238BC9CFCC9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B38C-E8E5-44CC-BCA2-03AB6DBB24C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lemweb.com/" TargetMode="External"/><Relationship Id="rId2" Type="http://schemas.openxmlformats.org/officeDocument/2006/relationships/hyperlink" Target="http://www.law.umkc.edu/faculty/projects/ftrials/salem/SALEM.HTM" TargetMode="External"/><Relationship Id="rId3" Type="http://schemas.openxmlformats.org/officeDocument/2006/relationships/hyperlink" Target="http://www.smithsonianmag.com/history-archaeology/brief-salem.html" TargetMode="External"/><Relationship Id="rId4" Type="http://schemas.openxmlformats.org/officeDocument/2006/relationships/hyperlink" Target="http://www.greateratlantachristian.org/NetCommunity/Page.aspx?pid=221&amp;frsid=4" TargetMode="External"/><Relationship Id="rId5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2.wmf"/><Relationship Id="rId7" Type="http://schemas.openxmlformats.org/officeDocument/2006/relationships/image" Target="../media/image6.gif"/><Relationship Id="rId8" Type="http://schemas.openxmlformats.org/officeDocument/2006/relationships/image" Target="../media/image15.wmf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MSSN00568A0000%5B1%5D.wav" TargetMode="External"/><Relationship Id="rId3" Type="http://schemas.microsoft.com/office/2007/relationships/media" Target="file:///tmp/home/.config/libreoffice/4/user/gallery/MSSN00568A0000%5B1%5D.wav" TargetMode="External"/><Relationship Id="rId4" Type="http://schemas.openxmlformats.org/officeDocument/2006/relationships/image" Target="../media/image8.png"/><Relationship Id="rId5" Type="http://schemas.openxmlformats.org/officeDocument/2006/relationships/audio" Target="file:///tmp/home/.config/libreoffice/4/user/gallery/MSj03884840000%5B1%5D.wav" TargetMode="External"/><Relationship Id="rId6" Type="http://schemas.microsoft.com/office/2007/relationships/media" Target="file:///tmp/home/.config/libreoffice/4/user/gallery/MSj03884840000%5B1%5D.wav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1.wmf"/><Relationship Id="rId6" Type="http://schemas.openxmlformats.org/officeDocument/2006/relationships/image" Target="../media/image2.wmf"/><Relationship Id="rId7" Type="http://schemas.openxmlformats.org/officeDocument/2006/relationships/audio" Target="file:///tmp/home/.config/libreoffice/4/user/gallery/MSj03885740000%5B1%5D.wav" TargetMode="External"/><Relationship Id="rId8" Type="http://schemas.microsoft.com/office/2007/relationships/media" Target="file:///tmp/home/.config/libreoffice/4/user/gallery/MSj03885740000%5B1%5D.wav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alem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Witch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8620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228600" y="19810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Dam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17874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48006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5 -0.00555 C 0.02795 -0.00463 0.00277 -0.00138 -0.02709 0.0007 C -0.03056 0.00186 -0.03403 0.00324 -0.03768 0.00394 C -0.04705 0.00556 -0.06598 0.00718 -0.06598 0.00741 C -0.08386 0.0169 -0.06598 0.00857 -0.09757 0.01343 C -0.10313 0.01436 -0.10903 0.01737 -0.11511 0.01829 C -0.14792 0.01737 -0.18004 0.01574 -0.2125 0.01343 C -0.25816 0.00463 -0.30243 -0.01273 -0.34254 -0.04213 C -0.36285 -0.05717 -0.35782 -0.04004 -0.38889 -0.07222 C -0.39966 -0.08287 -0.40938 -0.09513 -0.41962 -0.10555 C -0.43351 -0.11921 -0.45712 -0.14213 -0.46598 -0.16111 C -0.48056 -0.19051 -0.4974 -0.21597 -0.51285 -0.24351 C -0.51702 -0.25162 -0.51893 -0.26157 -0.52344 -0.26875 C -0.53733 -0.29305 -0.55486 -0.31481 -0.56979 -0.33912 C -0.57223 -0.34236 -0.57257 -0.34745 -0.57448 -0.35138 C -0.57882 -0.35972 -0.59306 -0.38287 -0.59844 -0.39467 C -0.61181 -0.42453 -0.59757 -0.39583 -0.60938 -0.42615 C -0.61615 -0.44398 -0.61927 -0.45185 -0.62344 -0.47222 C -0.62448 -0.48819 -0.62761 -0.5037 -0.62934 -0.51944 C -0.62813 -0.54676 -0.63091 -0.58449 -0.61736 -0.60833 C -0.60348 -0.67199 -0.55868 -0.69166 -0.51285 -0.70046 C -0.50191 -0.70254 -0.49028 -0.70393 -0.47952 -0.70509 C -0.46979 -0.70648 -0.45087 -0.70833 -0.45087 -0.7081 C -0.43299 -0.71666 -0.41875 -0.72708 -0.39966 -0.72939 C -0.3908 -0.73842 -0.38889 -0.7412 -0.37691 -0.74328 C -0.37049 -0.75532 -0.37014 -0.75439 -0.35816 -0.75601 C -0.34688 -0.76689 -0.33837 -0.7662 -0.32344 -0.7706 C -0.31754 -0.77176 -0.30591 -0.775 -0.30591 -0.77476 C -0.29011 -0.77338 -0.27431 -0.77245 -0.25903 -0.76851 C -0.25226 -0.76666 -0.23889 -0.76226 -0.23889 -0.76203 C -0.2283 -0.75532 -0.24063 -0.76296 -0.2224 -0.75787 C -0.20295 -0.75185 -0.18525 -0.74583 -0.16493 -0.74328 C -0.16077 -0.74236 -0.15729 -0.74097 -0.15313 -0.74004 C -0.14323 -0.73773 -0.12309 -0.73379 -0.12309 -0.73356 C -0.11025 -0.72708 -0.09792 -0.72291 -0.08438 -0.71944 C -0.06927 -0.71088 -0.05695 -0.69953 -0.04115 -0.69722 C -0.01893 -0.68078 -0.02882 -0.6868 -0.01164 -0.67662 C -0.00052 -0.66018 0.00503 -0.64629 0.01319 -0.62569 C 0.01649 -0.61759 0.01909 -0.60926 0.0217 -0.60046 C 0.02291 -0.59676 0.02517 -0.58935 0.02517 -0.58912 C 0.02795 -0.57222 0.02795 -0.55231 0.03368 -0.5368 C 0.03836 -0.50787 0.0408 -0.47291 0.03021 -0.44513 C 0.02882 -0.43449 0.02847 -0.43009 0.02291 -0.42291 C 0.01996 -0.41273 0.01597 -0.4074 0.01093 -0.39907 C 0.0033 -0.38518 0.00399 -0.38263 -0.0092 -0.37523 C -0.01129 -0.37268 -0.01337 -0.37037 -0.01511 -0.36736 C -0.01684 -0.36458 -0.01684 -0.36041 -0.01858 -0.35763 C -0.02014 -0.35578 -0.02188 -0.35601 -0.02327 -0.35463 C -0.03473 -0.34467 -0.0441 -0.3375 -0.0566 -0.3324 C -0.06927 -0.32152 -0.08056 -0.31782 -0.09497 -0.31342 C -0.11389 -0.29537 -0.09879 -0.30578 -0.12223 -0.29907 C -0.17223 -0.28472 -0.13802 -0.28912 -0.1816 -0.28634 C -0.26407 -0.26388 -0.34896 -0.2831 -0.4316 -0.28796 C -0.46181 -0.2949 -0.49184 -0.2949 -0.5224 -0.29791 C -0.57604 -0.30926 -0.63212 -0.31342 -0.68646 -0.31967 C -0.70539 -0.32176 -0.72309 -0.33125 -0.74115 -0.33402 C -0.75 -0.33888 -0.75955 -0.34143 -0.76841 -0.34398 C -0.77848 -0.33912 -0.78143 -0.33541 -0.78629 -0.32338 C -0.79132 -0.28935 -0.79098 -0.29537 -0.78872 -0.24027 C -0.78802 -0.22199 -0.78733 -0.21666 -0.77934 -0.20578 C -0.7724 -0.17893 -0.75539 -0.15092 -0.7342 -0.14421 C -0.72587 -0.13657 -0.72205 -0.13333 -0.71285 -0.13101 C -0.68316 -0.11342 -0.65469 -0.09444 -0.6224 -0.08819 C -0.59393 -0.07384 -0.58125 -0.07963 -0.54636 -0.08171 C -0.52882 -0.08726 -0.53542 -0.08402 -0.52466 -0.08981 C -0.52396 -0.09143 -0.52344 -0.09351 -0.5224 -0.09444 C -0.51997 -0.09583 -0.51719 -0.09537 -0.51493 -0.09606 C -0.50486 -0.09953 -0.49914 -0.10115 -0.48802 -0.10231 C -0.47795 -0.10694 -0.4757 -0.1074 -0.46407 -0.10879 C -0.45834 -0.11134 -0.45365 -0.1125 -0.4474 -0.11342 C -0.43351 -0.11851 -0.42743 -0.1199 -0.41389 -0.12152 C -0.38334 -0.12037 -0.37431 -0.1206 -0.34948 -0.11504 C -0.33959 -0.11041 -0.32813 -0.10856 -0.31754 -0.10717 C -0.30643 -0.10208 -0.29445 -0.10185 -0.28282 -0.0993 C -0.27691 -0.09143 -0.25348 -0.08518 -0.24358 -0.08333 C -0.23594 -0.07986 -0.22778 -0.07963 -0.21962 -0.0787 C -0.21111 -0.07083 -0.22188 -0.07916 -0.20209 -0.07384 C -0.20052 -0.07338 -0.19966 -0.07106 -0.19844 -0.0706 C -0.19584 -0.06944 -0.19271 -0.06944 -0.19028 -0.06898 C -0.18351 -0.0662 -0.175 -0.06064 -0.16841 -0.05949 C -0.1441 -0.05555 -0.13212 -0.05601 -0.10573 -0.05486 C -0.06719 -0.04791 -0.06372 -0.04676 -0.02101 -0.04676 L 0.28472 -0.55277 L -0.22795 -0.48796 L -0.99584 -1.06365 L -0.94809 -1.05578 E">
                                      <p:cBhvr>
                                        <p:cTn id="6" dur="5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96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0"/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en a neighbor suffered misfortune, they would not help because they believed it was God’s wil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ritans believed that Satan would choose the weakest individuals to carry out his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ches were considered as followers  of Sat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utter, Tim. "Salem Witch Trails Causes and Effects." (2003): URL: http://www.salemwitchtrials.com/salemwitchcraft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salemweb.com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nder , Douglas . " Famous American Trials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alem Witch Trail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(3/2007): URL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law.umkc.edu/faculty/projects/ftrials/sale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lumberg , Jess. "History &amp; Archaeology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A Brief History of the Salem Witch T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October 24, 2007 )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URL:http://www.smithsonianmag.com/history-archaeology/brief-salem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so Thanks to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Julia Osteen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d her citation machine @ http://docs.google.com/View?docid=ddq7h62_14dt9cp4g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fe in Salem 1692 Religion and Witchcraft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http://school.discoveryeducation.com/schooladventures/salemwitchtrials/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Discovery Education. &lt;http://school.discoveryeducation.com/schooladventures/salemwitchtrials/life/religion.html&gt;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eyewitnesstohistory.co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school.discoveryeducation.com/schooladventures/salemwitchtrials/life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228600" y="1676520"/>
            <a:ext cx="86868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e1f08"/>
                </a:solidFill>
                <a:latin typeface="Goudy Stout"/>
              </a:rPr>
              <a:t>THE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380880" y="8001000"/>
            <a:ext cx="1605240" cy="182088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3"/>
          <a:stretch/>
        </p:blipFill>
        <p:spPr>
          <a:xfrm>
            <a:off x="2286000" y="8305920"/>
            <a:ext cx="1812960" cy="1684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4"/>
          <a:stretch/>
        </p:blipFill>
        <p:spPr>
          <a:xfrm>
            <a:off x="4343400" y="8305920"/>
            <a:ext cx="2587680" cy="15667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5"/>
          <a:stretch/>
        </p:blipFill>
        <p:spPr>
          <a:xfrm>
            <a:off x="7261200" y="8153280"/>
            <a:ext cx="1882800" cy="146052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6"/>
          <a:stretch/>
        </p:blipFill>
        <p:spPr>
          <a:xfrm>
            <a:off x="-762120" y="7086600"/>
            <a:ext cx="1982880" cy="172260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7"/>
          <a:stretch/>
        </p:blipFill>
        <p:spPr>
          <a:xfrm>
            <a:off x="1828800" y="716292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8"/>
          <a:stretch/>
        </p:blipFill>
        <p:spPr>
          <a:xfrm>
            <a:off x="4952880" y="7162920"/>
            <a:ext cx="1816200" cy="12697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9"/>
          <a:stretch/>
        </p:blipFill>
        <p:spPr>
          <a:xfrm>
            <a:off x="6856560" y="7086600"/>
            <a:ext cx="2287440" cy="16081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10"/>
          <a:stretch/>
        </p:blipFill>
        <p:spPr>
          <a:xfrm>
            <a:off x="-2057400" y="6477120"/>
            <a:ext cx="1711440" cy="1763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11"/>
          <a:stretch/>
        </p:blipFill>
        <p:spPr>
          <a:xfrm>
            <a:off x="9144000" y="2286000"/>
            <a:ext cx="47242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405" fill="hold"/>
                                        <p:tgtEl>
                                          <p:spTgt spid="9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7.40741E-007 L 0.475 -1.41112 E">
                                      <p:cBhvr>
                                        <p:cTn id="468" dur="5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8.88889E-006 L 0.35833 -1.51112 E">
                                      <p:cBhvr>
                                        <p:cTn id="470" dur="5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7.03704E-006 L 0.16667 -1.65556 E">
                                      <p:cBhvr>
                                        <p:cTn id="472" dur="50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46945E-018 L 0.10834 -1.51111 E">
                                      <p:cBhvr>
                                        <p:cTn id="474" dur="5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92593E-006 L -0.1 -1.72222 E">
                                      <p:cBhvr>
                                        <p:cTn id="476" dur="5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2963E-006 L -0.13333 -1.52223 E">
                                      <p:cBhvr>
                                        <p:cTn id="478" dur="5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5.18519E-006 L -0.40834 -1.59999 E">
                                      <p:cBhvr>
                                        <p:cTn id="480" dur="5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0.43333 -1.75555 E">
                                      <p:cBhvr>
                                        <p:cTn id="482" dur="5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1.7 -0.00463 E">
                                      <p:cBhvr>
                                        <p:cTn id="485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Life Exp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ildren were expected to do the same work as adults. They weren’t aloud to talk unless they are talked to. Happiness, sadness, and other emotions were discourag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0" y="-304920"/>
            <a:ext cx="10058400" cy="1470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6600"/>
                </a:solidFill>
                <a:uFillTx/>
                <a:latin typeface="comic"/>
              </a:rPr>
              <a:t>Historical event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1407960"/>
            <a:ext cx="98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pperplate Gothic Bold"/>
              </a:rPr>
              <a:t>There were divisions among the people in the Society. Farmers, City people, Religion, Economics, Class, Character, Salem town, Salem village. The imagination and fears of the people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04920" y="293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Copperplate Gothic Bold"/>
              </a:rPr>
              <a:t>The leader of Salem in 1692 was Governor Phip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09480" y="3886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pperplate Gothic Bold"/>
              </a:rPr>
              <a:t>The economy was really 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4761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pperplate Gothic Bold"/>
              </a:rPr>
              <a:t>Other reasons the Witch Trials happened was because of frontier war, congregational strife, teenage boredom, and personal jealous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79280" y="15228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72560" y="1650960"/>
            <a:ext cx="76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People were usually accused of witchcraft by the ‘afflicted’ gi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Then put on tria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whether they liked it or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7160" y="5843520"/>
            <a:ext cx="77274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In this picture the ‘afflicted’ girls are screaming and yelling because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two women supposedly torturing them</a:t>
            </a:r>
            <a:r>
              <a:rPr b="0" lang="en-US" sz="1800" spc="-1" strike="noStrike">
                <a:solidFill>
                  <a:srgbClr val="77842c"/>
                </a:solidFill>
                <a:latin typeface="comic"/>
              </a:rPr>
              <a:t>.</a:t>
            </a:r>
            <a:r>
              <a:rPr b="0" lang="en-US" sz="1800" spc="-1" strike="noStrike">
                <a:solidFill>
                  <a:srgbClr val="77842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-7543800" y="2666880"/>
            <a:ext cx="5943600" cy="22399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3"/>
          <a:stretch/>
        </p:blipFill>
        <p:spPr>
          <a:xfrm>
            <a:off x="609480" y="7543800"/>
            <a:ext cx="6248520" cy="23544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1603800" y="3124080"/>
            <a:ext cx="6785640" cy="6426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trials had trouble getting ‘Fact from Fiction' from the ‘afflicted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ir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9640" y="4038480"/>
            <a:ext cx="55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people that were in court did not h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ood chance of winning, or going back to the out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world because of the unfair cou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67 0.00348 L 1.79167 0.00348 E">
                                      <p:cBhvr>
                                        <p:cTn id="15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00209 -0.84259 E">
                                      <p:cBhvr>
                                        <p:cTn id="192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8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517840" y="0"/>
            <a:ext cx="441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lem Witch T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nish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26000" y="6400800"/>
            <a:ext cx="13800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you denied being a witch you were most likely hanged or bur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8"/>
          <a:stretch/>
        </p:blipFill>
        <p:spPr>
          <a:xfrm>
            <a:off x="-7162920" y="0"/>
            <a:ext cx="5907240" cy="6702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80520" y="3048120"/>
            <a:ext cx="895428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trials most of the time the trails were unfair and i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‘afflicted girls’ said you were a witch to the people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de you one because of the hysteri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05960" y="4800600"/>
            <a:ext cx="6471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 person afflicted was considered to be tormented by the de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224000" y="1600200"/>
            <a:ext cx="5749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 the arrest you were taken to jail to await your t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4491" fill="hold"/>
                                        <p:tgtEl>
                                          <p:spTgt spid="8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338" fill="hold"/>
                                        <p:tgtEl>
                                          <p:spTgt spid="8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20518E-006 L 1.92118 -0.03863 E">
                                      <p:cBhvr>
                                        <p:cTn id="216" dur="5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0"/>
                </p:tgtEl>
              </p:cMediaNode>
            </p:audio>
            <p:audio isNarration="0">
              <p:cMediaNode showWhenStopped="1">
                <p:cTn/>
                <p:tgtEl>
                  <p:spTgt spid="88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229240" y="1873440"/>
            <a:ext cx="174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763120" y="7695720"/>
            <a:ext cx="79200" cy="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760" bIns="32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-8305920" y="2133720"/>
            <a:ext cx="6643800" cy="340020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311400" y="6216480"/>
            <a:ext cx="67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eople denied being  witches…. They were then most lik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ed because of the ‘afflicted’ girls ly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84680" y="152280"/>
            <a:ext cx="46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rials had priests from other coun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elp calm the girls from their tormentor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comic"/>
              </a:rPr>
              <a:t>The Devi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430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24000" y="121932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the time the girls just lied about the witches, probably for atten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38298E-007 L 2.21997 -0.00347 E">
                                      <p:cBhvr>
                                        <p:cTn id="280" dur="5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7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als Effec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ials had a devastating blow to the people of Salem and other places in Massachuset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used horror beyond belief among the people, because of the death to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ere in a trial then you would not get an attorney even though by law you are supposed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ggested death toll is twenty. (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 of 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mmary of the trials is that they w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ing justice, the accused didn’t even get an attorney…. The judges believed they were making justice but really causing more harm then they intended t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-6172200" y="2017800"/>
            <a:ext cx="4952880" cy="299880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12420720" y="2286000"/>
            <a:ext cx="3965400" cy="344484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-22097880" y="152280"/>
            <a:ext cx="18135360" cy="683424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-228600" y="9144000"/>
            <a:ext cx="8305920" cy="153504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5"/>
          <a:stretch/>
        </p:blipFill>
        <p:spPr>
          <a:xfrm>
            <a:off x="1676520" y="9067680"/>
            <a:ext cx="3047760" cy="184464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6934320" y="9067680"/>
            <a:ext cx="2666880" cy="23162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2.35 -1.85185E-006 E">
                                      <p:cBhvr>
                                        <p:cTn id="363" dur="5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6.94444E-006 -2.59259E-006 L -2.84999 -2.59259E-006 E">
                                      <p:cBhvr>
                                        <p:cTn id="365" dur="5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5112E-017 -1.11111E-006 L 2.91667 0.01112 E">
                                      <p:cBhvr>
                                        <p:cTn id="367" dur="5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5422" fill="hold"/>
                                        <p:tgtEl>
                                          <p:spTgt spid="9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96296E-006 L 5.55112E-017 -1.01227 E">
                                      <p:cBhvr>
                                        <p:cTn id="373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0416 -0.98958 E">
                                      <p:cBhvr>
                                        <p:cTn id="375" dur="20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42084 -1.0243 E">
                                      <p:cBhvr>
                                        <p:cTn id="377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2083 -1.0243 C -0.41944 -1.02546 -0.41788 -1.02685 -0.41615 -1.02754 C -0.41389 -1.02847 -0.40955 -1.02592 -0.40885 -1.02916 C -0.40521 -1.05069 -0.41094 -1.07801 -0.42465 -1.09097 C -0.4342 -1.11736 -0.42205 -1.08888 -0.43281 -1.1037 C -0.43403 -1.10532 -0.43403 -1.10833 -0.43507 -1.11018 C -0.43958 -1.11851 -0.4474 -1.11851 -0.45417 -1.11967 C -0.4717 -1.12731 -0.46111 -1.12453 -0.48628 -1.12268 C -0.49184 -1.11828 -0.49427 -1.11296 -0.49948 -1.10856 C -0.50156 -1.09861 -0.49896 -1.1074 -0.50781 -1.09583 C -0.51285 -1.08935 -0.51354 -1.08171 -0.5184 -1.07523 C -0.52083 -1.06713 -0.52361 -1.05972 -0.52552 -1.05138 C -0.52517 -1.03981 -0.52552 -1.02801 -0.52448 -1.01643 C -0.52431 -1.01458 -0.52257 -1.01342 -0.52205 -1.01157 C -0.51806 -0.99953 -0.51319 -0.99745 -0.50538 -0.99097 C -0.50174 -0.9831 -0.50035 -0.97569 -0.49826 -0.96713 C -0.49861 -0.95763 -0.49844 -0.94814 -0.49948 -0.93865 C -0.50191 -0.91851 -0.52552 -0.90115 -0.53872 -0.89745 C -0.56806 -0.9 -0.59653 -0.9 -0.62448 -0.91157 C -0.63576 -0.9162 -0.64722 -0.9206 -0.65781 -0.92754 C -0.66736 -0.93379 -0.68628 -0.94652 -0.68628 -0.94652 C -0.70434 -0.97592 -0.6967 -0.96551 -0.70781 -0.97986 C -0.71024 -1.00208 -0.7066 -1.00277 -0.69948 -1.01967 C -0.69705 -1.02523 -0.69618 -1.03171 -0.6934 -1.03703 C -0.68194 -1.05926 -0.68611 -1.04097 -0.67326 -1.06088 C -0.66858 -1.06805 -0.66632 -1.07777 -0.66128 -1.08472 C -0.61962 -1.14189 -0.65191 -1.0912 -0.62205 -1.12268 C -0.61875 -1.12615 -0.61719 -1.13217 -0.61372 -1.13541 C -0.60816 -1.14074 -0.5967 -1.14513 -0.5901 -1.14814 C -0.57847 -1.15902 -0.56806 -1.1618 -0.55417 -1.16412 C -0.54618 -1.16296 -0.53802 -1.16365 -0.53038 -1.16088 C -0.52014 -1.15717 -0.51458 -1.14467 -0.5066 -1.13703 C -0.5026 -1.1331 -0.49757 -1.13125 -0.4934 -1.12754 C -0.48038 -1.11574 -0.47951 -1.10532 -0.46615 -1.08935 C -0.46181 -1.08402 -0.45677 -1.07963 -0.45295 -1.07361 C -0.42656 -1.03055 -0.4467 -1.04629 -0.42552 -1.0324 C -0.42309 -1.025 -0.4217 -1.01689 -0.41858 -1.01018 C -0.41615 -1.00509 -0.41128 -1.00254 -0.40885 -0.99745 C -0.40312 -0.98541 -0.40139 -0.97083 -0.39705 -0.95763 C -0.39288 -0.91898 -0.38854 -0.84699 -0.35052 -0.83865 C -0.33177 -0.82592 -0.31493 -0.80694 -0.29358 -0.80208 C -0.28576 -0.79768 -0.27708 -0.79814 -0.27101 -0.79259 C -0.2658 -0.78796 -0.26267 -0.78101 -0.25677 -0.77824 C -0.26667 -0.76064 -0.26927 -0.76713 -0.2875 -0.75463 C -0.30955 -0.73958 -0.33351 -0.73287 -0.35781 -0.72916 C -0.40191 -0.71527 -0.37465 -0.725 -0.43872 -0.69583 C -0.4658 -0.68356 -0.49965 -0.68287 -0.52795 -0.68148 C -0.57708 -0.68657 -0.61233 -0.68703 -0.6566 -0.69907 C -0.68212 -0.71504 -0.7033 -0.73773 -0.7316 -0.7449 C -0.74497 -0.76388 -0.75764 -0.78194 -0.76962 -0.80208 C -0.77448 -0.83078 -0.77743 -0.86018 -0.78038 -0.88935 C -0.78003 -0.90902 -0.77969 -0.92847 -0.77917 -0.94814 C -0.77812 -0.98634 -0.77465 -1.02314 -0.77083 -1.06088 C -0.76545 -1.11365 -0.75486 -1.16412 -0.71128 -1.17824 C -0.6849 -1.19629 -0.65729 -1.20254 -0.62795 -1.20532 C -0.62517 -1.20509 -0.57865 -1.20347 -0.56372 -1.19583 C -0.55538 -1.19143 -0.54792 -1.18472 -0.53993 -1.17986 C -0.52465 -1.1706 -0.50625 -1.16551 -0.49219 -1.15301 C -0.46024 -1.12453 -0.50017 -1.15046 -0.46719 -1.13078 C -0.4401 -1.09398 -0.47014 -1.13796 -0.45417 -1.10694 C -0.4474 -1.09398 -0.43767 -1.08588 -0.43038 -1.07361 C -0.42083 -1.03888 -0.41997 -1.04768 -0.41858 -1.00856 C -0.42083 -0.98588 -0.42222 -0.96273 -0.42552 -0.94027 C -0.42882 -0.91736 -0.43403 -0.9162 -0.44219 -0.89583 C -0.44514 -0.88865 -0.44566 -0.87986 -0.44948 -0.87361 C -0.46181 -0.85347 -0.47535 -0.83981 -0.48993 -0.8243 C -0.49236 -0.81689 -0.49427 -0.80926 -0.49705 -0.80208 C -0.49861 -0.79814 -0.50295 -0.79097 -0.50295 -0.79097 C -0.50451 -0.76064 -0.50781 -0.75301 -0.48628 -0.74351 C -0.48299 -0.74213 -0.48003 -0.73935 -0.47674 -0.73865 C -0.4625 -0.73564 -0.43385 -0.7324 -0.43385 -0.7324 C -0.37812 -0.73773 -0.40226 -0.73611 -0.36128 -0.73865 C -0.33872 -0.74259 -0.32066 -0.74606 -0.29826 -0.75301 C -0.27743 -0.76643 -0.25816 -0.78449 -0.23646 -0.79583 C -0.22083 -0.80393 -0.2033 -0.80578 -0.1875 -0.81319 C -0.17951 -0.82222 -0.17257 -0.83287 -0.16372 -0.84027 C -0.14045 -0.85949 -0.14722 -0.83773 -0.1316 -0.86412 C -0.12448 -0.87615 -0.1125 -0.90208 -0.1125 -0.90208 C -0.11128 -0.90902 -0.11042 -0.91597 -0.10885 -0.92268 C -0.10712 -0.93032 -0.10434 -0.93726 -0.10295 -0.9449 C -0.09913 -0.96551 -0.09722 -0.98773 -0.0934 -1.00856 C -0.09062 -1.04166 -0.09288 -1.01388 -0.08872 -1.07685 C -0.08837 -1.08263 -0.0875 -1.09421 -0.0875 -1.09421 C -0.08993 -1.12777 -0.08698 -1.2081 -0.12448 -1.21805 C -0.15035 -1.23333 -0.16875 -1.22407 -0.20052 -1.22129 C -0.21562 -1.21736 -0.22951 -1.21296 -0.24479 -1.21157 C -0.26615 -1.20231 -0.28993 -1.19953 -0.31024 -1.18634 C -0.31858 -1.175 -0.32969 -1.16666 -0.33889 -1.15601 C -0.34479 -1.14213 -0.34774 -1.13773 -0.35781 -1.12916 C -0.36163 -1.12199 -0.36458 -1.11713 -0.36632 -1.10856 C -0.37083 -1.08726 -0.36302 -1.10648 -0.37083 -1.08935 C -0.37205 -1.08125 -0.37292 -1.07685 -0.37812 -1.07199 C -0.38108 -1.06435 -0.3842 -1.04953 -0.39115 -1.04652 C -0.39479 -1.0449 -0.39844 -1.04513 -0.40191 -1.04351 C -0.40312 -1.04305 -0.40434 -1.04236 -0.40538 -1.04189 C -0.4092 -1.03842 -0.41337 -1.03611 -0.41736 -1.03379 C -0.41858 -1.0331 -0.42031 -1.03379 -0.42083 -1.0324 C -0.4217 -1.03009 -0.42083 -1.02708 -0.42083 -1.0243 Z">
                                      <p:cBhvr>
                                        <p:cTn id="379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0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was the cornerstone of the 17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was illegal to not go to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believed that God punished sinful behavio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st people in Massachusetts were Puritans seeking religious toleran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981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8.67916E-006 C -0.01684 -0.00277 -0.03385 -0.00485 -0.05069 -0.00647 C -0.0677 -0.01225 -0.08836 -0.00994 -0.10607 -0.01133 C -0.13802 -0.01619 -0.17031 -0.01225 -0.20243 -0.00971 C -0.22413 -0.00254 -0.24704 -0.0104 -0.26875 -0.00323 C -0.3085 0.02429 -0.43489 -0.03099 -0.43489 0.00787 E">
                                      <p:cBhvr>
                                        <p:cTn id="390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2:47Z</dcterms:created>
  <dc:creator>lmclabb</dc:creator>
  <dc:description/>
  <dc:language>en-US</dc:language>
  <cp:lastModifiedBy>lmclabb</cp:lastModifiedBy>
  <dcterms:modified xsi:type="dcterms:W3CDTF">2008-11-24T16:09:11Z</dcterms:modified>
  <cp:revision>16</cp:revision>
  <dc:subject/>
  <dc:title>Salem Witch Trials</dc:title>
</cp:coreProperties>
</file>