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021-BA3D-418B-B944-7E2FD220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EC7-9605-4E52-9146-EA7B67D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767-600A-4DF6-98B9-61BA05C3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6B5-AB5C-4786-9139-FCA5DAC4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CB37-0197-4460-8911-5F9DB1CA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04FA-CB31-412B-9A3F-AAE8CD2D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08E5-DE48-483A-ACE0-C158735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093-8552-4614-8E66-D3A6FD6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714D-8435-45A4-A053-9B1DFD64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777-B1F1-4E1F-A5CF-A952F22F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680B-CE81-48BC-B8FC-05DECD96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4D2-4BB1-4D61-8A03-A4CAB07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CA03-A110-4525-8FC3-A2BC9DD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F2B6-A954-4C51-AB99-AA3AC8D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71A6-320C-4E14-BBFD-7D076390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5404-EF82-4C7B-8028-EAB91740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1222-6AE7-42F4-AF0C-01FC82ED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F712-DB08-4235-ABA2-BD711B17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B56D-6395-4363-9456-DF12143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6052-81D7-4E69-83EC-12C8EAC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26A4-FF85-427E-B645-0106BA7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0EA7-D914-47FE-9499-2E9135A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A98-6305-43B1-8CBE-6DEC1215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1228-EDDF-42EB-AF95-A78CFF18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CE42-04E0-44F9-98F0-BDDD2A5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7E79-C1F4-429E-8FC6-0BD889B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26C3-4710-448A-8629-C749665A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F88B-CE87-4B94-83B6-B13A7DB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5777-7E41-43EF-8562-16371207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29D8-4D0C-49EF-A068-52B2FE62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409C-3B7E-42D6-87D7-D703EBD9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6577-B066-4025-AC24-1AECF551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41F9A-43DB-4474-BC4C-4165790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D41-F0A6-4B91-805C-A5C53FFB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909D-5851-4635-8B7A-D1D2A0B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08F8-E2A2-4364-B8BD-28D8BB0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C876-99B4-480E-B213-08F3C834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9682-B8A0-45DF-9A29-41258B0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6D559-B9B5-4D89-AC61-58514399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7F88-35E4-4368-8794-D1C866F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841D-93CF-4E2D-9A37-1559580C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5A4C-D755-4318-96F8-8C02B975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EB49-DD98-429A-BA72-9FBE5991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A32-958C-439F-95B4-2BF051B6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EEF-680E-48CD-989F-DE0ABEA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A46-8E5B-47AA-A3B2-A51C59E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8FC-EF70-430C-A101-5BD97F3B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071-7811-4E35-8A3B-20178003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A75-7BEE-4D1F-9954-6CC6ACB7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E0B-1BB6-4A82-84D2-ABFA780F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22C4-AF61-4FCF-8B57-105F7FCEC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B2E-D9C2-452F-8388-93075846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dicoveryeducation.com/schooladventures/salemwitchtrials/life/children.html" TargetMode="External"/><Relationship Id="rId2" Type="http://schemas.openxmlformats.org/officeDocument/2006/relationships/hyperlink" Target="http://school.dicoveryeducation.com/schooladventures/salemwitchtrials/life/children.html" TargetMode="External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3272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: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B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2133720"/>
            <a:ext cx="3495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lem Witch Tri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24 peopl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were 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80 year old man was crushed for not testi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ed in j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n't burned in America, only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people bu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ld was the man who was cru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how many peopl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  <p:sndAc>
      <p:stSnd>
        <p:snd r:embed="rId1" name="drumroll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92 Salem was divided into two different parts. Salem Town and Salem Village. Salem Village was part of Salem Town. Salem was under British control and they were waiting for a new governor. By the time he got there the jails were full of accused people. There were 200 people accused and 20 peopl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533520"/>
            <a:ext cx="173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had a strained economy because King William’s war caused refugees to move into Salem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22884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505320" y="38088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1 – King James authorized the torture of suspected witches in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6 – Shakespeare wrote a play about the witch trials called ‘Macbeth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0 – Witch–hunting decreased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2 – England executed its last wi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14800" y="304920"/>
            <a:ext cx="1343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Brody: Family Lif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gan: Religio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ephen: Trials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iel: History Exp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ool.dicoveryeducation.com/schooladventures/salemwitchtrials/life/children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chool.discoveryeducation.com/schooladventures/salemwitchtria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4680" y="2971800"/>
            <a:ext cx="54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aw.umkc.edu/faculty/projects/ftrials/salem/SALE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4290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920" y="446724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alemweb.com/guide/witches2.shtml?f=3&amp;i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ationalgeographic.com/salem/index.html?fs=plasma.nationalgeograph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2895480"/>
            <a:ext cx="22669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mil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ere expected to behave the same as their 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s were allowed to explore the outdoors, hunt and f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s were expected to tend to the house, helping their mothers cook, wash, clean, and s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8120" y="304920"/>
            <a:ext cx="34192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mily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ildren learned to read, but most households owned only the Bible and other religiou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books written for children, but these often warned against bad behavior and described the punishment that children would suffer for sinful acts: Like getting put in stoc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15920" y="-239760"/>
            <a:ext cx="925992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lig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igion of the people at that time was calle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urit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ligion is very strict and is hard. The Christian gatherings back then wer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lleg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everybody was “supposed” to be Purit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zens were said to have religious freedom, but they really had none. This means the people couldn’t do any other type of wor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Puritans,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v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s real a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ought that witches were possessed by the d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0417 -0.00579 0.00955 -0.0162 0.01424 -0.0206 C 0.0283 -0.03403 0.05018 -0.03403 0.06667 -0.03819 C 0.08646 -0.03773 0.10643 -0.03773 0.12622 -0.03657 C 0.13264 -0.03611 0.14532 -0.03333 0.14532 -0.03333 C 0.14827 -0.03194 0.15243 -0.03055 0.15469 -0.02708 C 0.15816 -0.02199 0.16424 -0.01111 0.16424 -0.01111 C 0.17518 0.02778 0.17153 0.00718000000000001 0.16424 0.08079 C 0.16355 0.08843 0.16285 0.09676 0.15955 0.10301 C 0.15469 0.1125 0.14653 0.11852 0.14045 0.12685 C 0.09775 0.18426 0.13941 0.14352 0.05348 0.20162 C 0.04236 0.20926 0.03299 0.22153 0.02136 0.22847 C -0.00086 0.24167 -0.0408 0.2581 -0.06788 0.26968 C -0.11093 0.26343 -0.11475 0.27269 -0.13455 0.23009 C -0.1375 0.20532 -0.13802 0.18032 -0.14045 0.15556 C -0.14739 0.08611 -0.15989 0.01389 -0.18333 -0.0493 C -0.18663 -0.06968 -0.19097 -0.09051 -0.19409 -0.11111 C -0.19027 -0.12616 -0.17916 -0.11898 -0.16788 -0.11759 C -0.15 -0.11551 -0.12899 -0.11134 -0.11198 -0.10648 C -0.05173 -0.08958 -0.03385 -0.07801 0.03698 -0.04768 C 0.1257 -0.00972 0.21736 0.04722 0.28455 0.13495 C 0.30209 0.15787 0.32674 0.19144 0.33802 0.2206 C 0.35816 0.27269 0.36111 0.29468 0.37032 0.34282 C 0.37084 0.36204 0.37379 0.40486 0.36667 0.42222 C 0.35539 0.45 0.3191 0.4757 0.29757 0.48403 C 0.28316 0.48958 0.26094 0.48958 0.24636 0.49051 C 0.20018 0.48611 0.17709 0.48866 0.13577 0.4713 C 0.07778 0.44676 0.01875 0.38333 -0.02639 0.32847 C -0.06267 0.2838 -0.0585 0.28218 -0.09045 0.20949 C -0.096 0.19699 -0.10086 0.18403 -0.1059 0.1713 C -0.11007 0.16088 -0.11788 0.13958 -0.11788 0.13958 C -0.11961 0.10833 -0.12725 0.06597 -0.11788 0.03634 C -0.10052 -0.01875 -0.05434 -0.06805 -0.01909 -0.1 C 0.04393 -0.15694 0.04931 -0.16898 0.11077 -0.19375 C 0.12448 -0.1993 0.13872 -0.20139 0.15243 -0.20648 C 0.1823 -0.21759 0.20816 -0.23194 0.23924 -0.23495 C 0.26945 -0.22755 0.25625 -0.18843 0.24289 -0.16042 C 0.22934 -0.13218 0.19341 -0.0919 0.18091 -0.07616 C 0.17153 -0.06435 0.15712 -0.06204 0.14636 -0.05255 C 0.13247 -0.04028 0.12188 -0.02153 0.10712 -0.01111 C 0.09202 -0.00046 0.07448 0.00208 0.05834 0.00949 C 0.01007 0.03148 -0.02743 0.0544 -0.07743 0.06829 C -0.15937 0.09074 -0.24548 0.09375 -0.32864 0.10162 C -0.45729 0.09583 -0.52413 0.11713 -0.625 0.05232 C -0.64236 0.02917 -0.64548 0.02685 -0.64757 -0.00486 C -0.64635 -0.02685 -0.64635 -0.04745 -0.63802 -0.06829 C -0.62083 -0.11134 -0.57795 -0.15602 -0.54757 -0.1794 C -0.44392 -0.2588 -0.35191 -0.29213 -0.23211 -0.29838 C -0.16389 -0.29537 -0.08142 -0.30393 -0.02378 -0.24143 C -0.01354 -0.23032 0.00782 -0.19745 0.0165 -0.18426 C 0.02709 -0.15046 0.03212 -0.11875 0.03577 -0.08264 C 0.03525 -0.06713 0.03507 0.00903 0.02969 0.03796 C 0.01771 0.10208 -0.01059 0.15301 -0.03576 0.20787 C -0.05434 0.24861 -0.04965 0.25926 -0.07743 0.29051 C -0.08576 0.3 -0.09739 0.30347 -0.1059 0.31273 C -0.11614 0.32384 -0.12222 0.3412 -0.1335 0.3507 C -0.14392 0.35972 -0.15711 0.36157 -0.16909 0.36667 C -0.20711 0.38241 -0.24236 0.3875 -0.28211 0.39051 C -0.34479 0.38542 -0.39826 0.36111 -0.44635 0.30625 C -0.45121 0.29329 -0.47118 0.24699 -0.47031 0.22685 C -0.4684 0.18681 -0.46527 0.14607 -0.4559 0.10787 C -0.43645 0.02917 -0.33541 -0.01481 -0.28576 -0.04606 C -0.21701 -0.08958 -0.23507 -0.08981 -0.16076 -0.11273 C -0.13611 -0.12037 -0.11076 -0.12384 -0.08576 -0.13032 C 0.01528 -0.15625 -0.05156 -0.14768 0.05243 -0.15255 C 0.14289 -0.14815 0.25539 -0.16875 0.32969 -0.0794 C 0.33039 -0.07685 0.34063 -0.04398 0.34045 -0.03657 C 0.3382 0.06875 0.24445 0.09537 0.18334 0.11898 C 0.16702 0.12523 0.15122 0.13449 0.13455 0.13958 C 0.11684 0.14514 0.09879 0.14676 0.08091 0.1507 C 0.06302 0.15463 0.04532 0.15995 0.02726 0.16343 C 0.00677 0.16736 -0.01406 0.17037 -0.03455 0.17292 C -0.05746 0.1757 -0.08055 0.17732 -0.10364 0.1794 C -0.22152 0.17477 -0.31423 0.20162 -0.39635 0.08403 C -0.40694 0.04028 -0.40868 -0.00185 -0.39062 -0.04444 C -0.3743 -0.08264 -0.36145 -0.08287 -0.33923 -0.11435 C -0.32847 -0.12963 -0.32205 -0.15023 -0.30972 -0.16366 C -0.26059 -0.2169 -0.20642 -0.24421 -0.14635 -0.26366 C -0.12934 -0.26088 -0.11215 -0.26018 -0.09548 -0.25555 C -0.07968 -0.25139 -0.06666 -0.22662 -0.0585 -0.21111 C -0.03802 -0.17338 -0.0283 -0.12639 -0.01788 -0.08264 C -0.0151 -0.04838 -0.00972 -0.01551 -0.00833 0.01898 C -0.0092 0.0412 -0.00868 0.06366 -0.01076 0.08565 C -0.01336 0.1132 -0.0302 0.13287 -0.04531 0.14907 C -0.08177 0.18843 -0.12517 0.18866 -0.17031 0.19676 C -0.21076 0.19468 -0.25139 0.19468 -0.29166 0.19051 C -0.3026 0.18935 -0.31336 0.18565 -0.32378 0.18079 C -0.33298 0.17662 -0.35017 0.16343 -0.35017 0.16343 C -0.36788 0.09745 -0.33698 0.04792 -0.3 0.00625 C -0.26597 -0.03218 -0.27621 -0.01713 -0.23455 -0.05255 C -0.19166 -0.08912 -0.15017 -0.12361 -0.1 -0.14143 C -0.08264 -0.14768 -0.01284 -0.15903 0.00365 -0.16204 C 0.04254 -0.16157 0.0816 -0.16505 0.12032 -0.16042 C 0.1441 -0.15764 0.19045 -0.13981 0.19045 -0.13981 C 0.24045 -0.10787 0.27014 -0.07616 0.29289 -0.00949 C 0.29757 0.01806 0.30226 0.04954 0.29045 0.07616 C 0.28907 0.0794 0.25261 0.12338 0.2441 0.12847 C 0.23351 0.13495 0.22188 0.13657 0.21077 0.1412 C 0.18108 0.15347 0.16059 0.16551 0.12969 0.17292 C 0.10209 0.17963 0.04636 0.18889 0.04636 0.18889 C -0.01111 0.18565 -0.0993 0.19607 -0.15243 0.14282 C -0.16007 0.13519 -0.16545 0.12431 -0.17257 0.11574 C -0.18715 0.06875 -0.18663 0.01366 -0.17031 -0.03333 C -0.15746 -0.0706 -0.15503 -0.0625 -0.13576 -0.09838 C -0.1283 -0.11227 -0.12395 -0.12893 -0.11545 -0.14143 C -0.09184 -0.17593 -0.07569 -0.17616 -0.04757 -0.20162 C 0.00139 -0.24606 -0.01927 -0.2412 0.03334 -0.27778 C 0.08473 -0.31343 0.14045 -0.32616 0.19757 -0.3287 C 0.21545 -0.32824 0.23368 -0.33125 0.25122 -0.32708 C 0.275 -0.32153 0.29271 -0.28588 0.3 -0.2588 C 0.30035 -0.23773 0.30226 -0.21643 0.30122 -0.19537 C 0.2967 -0.10347 0.23716 0.01204 0.18455 0.06829 C 0.17084 0.08287 0.15469 0.09259 0.14045 0.10625 C 0.12448 0.12176 0.11129 0.14259 0.0941 0.15556 C 0.0599 0.18102 -0.01145 0.22245 -0.05711 0.23333 C -0.13576 0.25185 -0.15538 0.25139 -0.22135 0.25556 C -0.28246 0.24282 -0.31163 0.2419 -0.35955 0.20162 C -0.37448 0.17338 -0.3802 0.15764 -0.38455 0.12384 C -0.3842 0.10625 -0.38663 0.08843 -0.38333 0.0713 C -0.37066 0.00162 -0.30486 -0.07292 -0.26423 -0.11273 C -0.1684 -0.20648 -0.05642 -0.25833 0.05938 -0.28727 C 0.09601 -0.28518 0.13282 -0.28704 0.1691 -0.28102 C 0.18021 -0.27917 0.19063 -0.27199 0.2 -0.26366 C 0.24358 -0.225 0.25313 -0.19398 0.26667 -0.13032 C 0.27084 -0.08843 0.2717 -0.10255 0.26789 -0.06505 C 0.26528 -0.03912 0.26563 -0.01227 0.25955 0.01273 C 0.22709 0.14653 0.11268 0.18171 0.02136 0.20301 C -0.06753 0.19745 -0.20538 0.21412 -0.27257 0.10301 C -0.29062 0.07315 -0.29357 0.03773 -0.29878 0.00162 C -0.29757 -0.04398 -0.29323 -0.08657 -0.27031 -0.12384 C -0.26319 -0.13542 -0.25243 -0.14236 -0.24409 -0.15255 C -0.22066 -0.18171 -0.21545 -0.2 -0.18576 -0.2206 C -0.11527 -0.26944 -0.06441 -0.27755 0.01302 -0.28727 C 0.054 -0.28102 0.09514 -0.27708 0.13577 -0.26829 C 0.17622 -0.25949 0.24219 -0.20278 0.26789 -0.16042 C 0.28351 -0.13449 0.29462 -0.10417 0.30955 -0.07778 C 0.325 0.00949 0.32709 -0.01111 0.32136 0.07292 C 0.32066 0.08426 0.32049 0.09607 0.31667 0.10625 C 0.31268 0.11713 0.30452 0.12407 0.29879 0.13333 C 0.24827 0.21458 0.1915 0.23079 0.11545 0.23958 C 0.08855 0.23843 0.06146 0.23958 0.03455 0.23634 C -0.01336 0.23079 -0.08264 0.19213 -0.12621 0.15718 C -0.14531 0.1419 -0.16475 0.11829 -0.17743 0.09352 C -0.18871 0.07153 -0.20833 0.02523 -0.20833 0.02523 C -0.21284 -0.03611 -0.22257 -0.1088 -0.20121 -0.16667 C -0.19722 -0.17755 -0.18871 -0.18426 -0.18333 -0.19375 C -0.16753 -0.22176 -0.16093 -0.24653 -0.13923 -0.26667 C -0.11753 -0.2868 -0.09826 -0.29236 -0.075 -0.30648 C -0.0217 -0.33866 -0.06718 -0.31782 -0.01198 -0.33981 C 0.04011 -0.33449 0.09289 -0.3375 0.1441 -0.32384 C 0.17448 -0.31574 0.20122 -0.29097 0.22969 -0.27477 C 0.2915 -0.23935 0.34306 -0.18449 0.36545 -0.09838 C 0.36389 -0.07986 0.36545 -0.06042 0.36077 -0.04282 C 0.35764 -0.03125 0.34983 -0.02268 0.34289 -0.01435 C 0.32032 0.0125 0.29601 0.03634 0.27257 0.06181 C 0.24445 0.09236 0.20868 0.10926 0.17379 0.12222 C 0.09289 0.15232 0.01146 0.1713 -0.07257 0.17616 C -0.12708 0.17222 -0.1934 0.16088 -0.23802 0.11273 C -0.24687 0.10324 -0.26527 0.06991 -0.27257 0.05718 C -0.27916 0.02986 -0.2842 0.01273 -0.28455 -0.01921 C -0.28559 -0.13287 -0.23975 -0.21366 -0.16076 -0.25718 C -0.12899 -0.27477 -0.09496 -0.28426 -0.06302 -0.30162 C -0.00191 -0.33472 -0.02343 -0.3287 0.0441 -0.34143 C 0.09445 -0.35093 0.1007 -0.34954 0.15243 -0.35255 C 0.19514 -0.34745 0.25469 -0.35139 0.29289 -0.31273 C 0.30087 -0.30463 0.3066 -0.29305 0.31424 -0.28426 C 0.31945 -0.27824 0.32535 -0.27361 0.33091 -0.26829 C 0.33368 -0.25903 0.34497 -0.22245 0.34532 -0.21435 C 0.34688 -0.16551 0.34028 -0.09468 0.3191 -0.05093 C 0.31216 -0.0368 0.30105 -0.02731 0.29289 -0.01435 C 0.26216 0.03403 0.27223 0.03264 0.23455 0.06968 C 0.12986 0.17245 0.00695 0.21806 -0.12135 0.22222 C -0.15069 0.22014 -0.18038 0.22037 -0.20955 0.21574 C -0.23923 0.21111 -0.2618 0.19028 -0.28802 0.17454 C -0.30139 0.14977 -0.30764 0.13032 -0.31076 0.1 C -0.30989 0.06713 -0.3118 0.03704 -0.30121 0.00625 C -0.29739 -0.00555 -0.25868 -0.10023 -0.24166 -0.1206 C -0.23246 -0.13148 -0.21944 -0.13472 -0.20955 -0.14444 C -0.19618 -0.15764 -0.18645 -0.17685 -0.17257 -0.18889 C -0.16024 -0.19954 -0.14566 -0.20417 -0.13211 -0.21111 C -0.08906 -0.23356 -0.05034 -0.24722 -0.00468 -0.25555 C 0.02986 -0.25231 0.06459 -0.25301 0.09879 -0.24606 C 0.12292 -0.2412 0.14827 -0.19907 0.15955 -0.17315 C 0.16094 -0.15718 0.16545 -0.14167 0.16545 -0.12546 C 0.16545 -0.11065 0.1632 -0.09583 0.16198 -0.08102 C 0.16042 -0.06204 0.16129 -0.05486 0.15243 -0.03981 C 0.14983 -0.03542 0.14584 -0.03264 0.14289 -0.0287 C 0.13907 -0.02361 0.13664 -0.01667 0.13212 -0.01273 C 0.12275 -0.00417 0.10504 -0.00301 0.0941 -0.00162 C 0.06042 -0.00231 0.02657 -0.00486 -0.00711 -0.00486 C -0.0092 -0.00486 -0.0033 -0.00393 -0.00121 -0.00324 C 0.00122 -0.00231 0.00348 -0.00116 0.00591 -2.96296E-006 C 0.00782 0.00093 0.00191 -2.96296E-006 -1.11111E-006 -2.96296E-006 Z">
                                      <p:cBhvr>
                                        <p:cTn id="17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9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1:31Z</dcterms:created>
  <dc:creator>lmclabb</dc:creator>
  <dc:description/>
  <dc:language>en-US</dc:language>
  <cp:lastModifiedBy>lmclabb</cp:lastModifiedBy>
  <dcterms:modified xsi:type="dcterms:W3CDTF">2008-11-24T16:18:26Z</dcterms:modified>
  <cp:revision>11</cp:revision>
  <dc:subject/>
  <dc:title>Salem witch trials</dc:title>
</cp:coreProperties>
</file>