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66642-7753-474E-91BC-A4945F636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03657-DB08-4370-A839-16B0A14FE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F64CB-C2E3-4872-AC0A-8626A77F7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0174F-41C4-4FB4-B1F6-CFACAF166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8898B-E360-44D4-8647-05107EFC4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8B17-D87B-4D33-B23C-844C90FF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0813-7B55-4651-96EB-39D3212B9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AF659-ABD1-4A39-916F-89DB45B7A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6150-8254-40B6-88ED-B7E402E6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D154-FB27-47F3-BAA2-3B4E35C0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42713-7E62-4027-A284-1E8CEA79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0DF6-DA7C-4D00-A6E0-FE631A524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D820-14EF-4B31-B9CF-D121E0D46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20:37Z</dcterms:modified>
  <cp:revision>56</cp:revision>
  <dc:subject/>
  <dc:title>Salem Witch Trials</dc:title>
</cp:coreProperties>
</file>