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C5A962-F6B1-4009-A704-9A5ED4CF38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80AB6B-3204-4717-B973-D658EDCEF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05B0F0-0A0B-4BE5-A17E-DB5CF4D3D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81C48-F5BA-4EA7-A34D-413EE47C8D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9DB9B4-E5FA-4FBE-9F82-51F5F6CB82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EE46F-770C-4D72-B425-B8BBE6197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2F866-73CF-4A8F-ADF9-5AE181DD59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21E57-812F-4205-B9D6-D7DAD9118A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7F9CD-4D02-4F0A-9E12-67635CBCB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2D16A-FF6B-4B0F-AE6C-97CED2EDE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2CD2CE-4ECB-42B3-965A-5D1C7038A8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5A3D-7B34-4914-B767-4CF5D3A46A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A5E9-DE20-4433-8BF9-6740DD649F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20:37Z</dcterms:modified>
  <cp:revision>56</cp:revision>
  <dc:subject/>
  <dc:title>Salem Witch Trials</dc:title>
</cp:coreProperties>
</file>