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56AF6E-1700-4A63-8665-F8582B7510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F59D3-F99A-4D49-8214-CC1816594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BF2C7-DA82-44E4-9536-AF4F8D264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95271-B5C4-4D19-BD81-8A6ABBCA9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5035D-4580-4FAA-99ED-810258E0D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442477-2FD7-4A8E-AB18-53BAFC4F2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9F7C80-8815-4E58-8971-C3C728AF94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586CA-4BB0-4F16-A30F-507C84D82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C41D3-1E87-4E7C-8EA2-659EA7A10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4CEF4-4428-4283-8158-124FB5C99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086087-CFAE-49F4-91B8-5F0D0FADFC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9D12-7760-4CCA-A41A-C05EA2B8E6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A3101-CD20-469C-BCFD-E6DEAE6B2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hyperlink" Target="http://www.law.umkc.edu/faculty/projects/ftrials/salem/SALEM.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rifice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 Pazo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att Vaugh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nathan Tesfaye</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er Kettl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ig Foot Productions</a:t>
            </a:r>
            <a:endParaRPr b="0" lang="en-US" sz="1800" spc="-1" strike="noStrike">
              <a:solidFill>
                <a:srgbClr val="000000"/>
              </a:solidFill>
              <a:latin typeface="Arial"/>
            </a:endParaRPr>
          </a:p>
        </p:txBody>
      </p:sp>
      <p:pic>
        <p:nvPicPr>
          <p:cNvPr id="43" name="Picture 6" descr="MCj04160140000[1]"/>
          <p:cNvPicPr/>
          <p:nvPr/>
        </p:nvPicPr>
        <p:blipFill>
          <a:blip r:embed="rId1"/>
          <a:stretch/>
        </p:blipFill>
        <p:spPr>
          <a:xfrm>
            <a:off x="-7162920" y="2658960"/>
            <a:ext cx="2743200" cy="26672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14167 0.32344 C -0.11181 0.29101 -0.10278 0.25509 -0.07795 0.21733 C -0.05643 0.18443 -0.03577 0.17307 -0.01216 0.15129 C 0.01996 0.12164 0.05069 0.09198 0.08298 0.06557 C 0.0842 0.06441 0.13073 0.01807 0.1375 0.01482 C 0.15677 0.00648 0.175 -0.00742 0.19427 -0.01553 C 0.24514 -0.03708 0.29895 -0.03777 0.35104 -0.04565 C 0.42309 -0.057 0.49548 -0.06604 0.5677 -0.07114 C 0.62691 -0.06928 0.68524 -0.07067 0.74444 -0.06604 C 0.75434 -0.06557 0.76371 -0.05214 0.77413 -0.05098 C 0.79705 -0.04843 0.82118 -0.04773 0.84409 -0.04565 C 0.9217 -0.05167 0.99843 -0.04773 1.07534 -0.04101 C 1.20086 -0.05098 1.32361 -0.05631 1.45 -0.05631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ere people held until their trials?</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Jail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were put on trial who were the jurors?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The magistrates and the people afflicted</a:t>
            </a:r>
            <a:endParaRPr b="0" lang="en-US" sz="36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Two: Family History</a:t>
            </a:r>
            <a:endParaRPr b="0" lang="en-US" sz="96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wtrial2"/>
          <p:cNvPicPr/>
          <p:nvPr/>
        </p:nvPicPr>
        <p:blipFill>
          <a:blip r:embed="rId1"/>
          <a:stretch/>
        </p:blipFill>
        <p:spPr>
          <a:xfrm>
            <a:off x="6708600" y="4952880"/>
            <a:ext cx="2435400" cy="1754280"/>
          </a:xfrm>
          <a:prstGeom prst="rect">
            <a:avLst/>
          </a:prstGeom>
          <a:ln w="0">
            <a:noFill/>
          </a:ln>
        </p:spPr>
      </p:pic>
      <p:sp>
        <p:nvSpPr>
          <p:cNvPr id="67" name="PlaceHolder 1"/>
          <p:cNvSpPr>
            <a:spLocks noGrp="1"/>
          </p:cNvSpPr>
          <p:nvPr>
            <p:ph/>
          </p:nvPr>
        </p:nvSpPr>
        <p:spPr>
          <a:xfrm>
            <a:off x="6094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m witch families had hard tasks through out the day to provide food for their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ttle sickness of small pocks could kill the whole family, (most families were over pro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world a lot of people saw Satan moving behind every misfortune</a:t>
            </a:r>
            <a:endParaRPr b="0" lang="en-US" sz="32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families provide food, clothing and shelter to all members of the family? </a:t>
            </a:r>
            <a:endParaRPr b="0" lang="en-US" sz="4000" spc="-1" strike="noStrike">
              <a:solidFill>
                <a:srgbClr val="000000"/>
              </a:solidFill>
              <a:latin typeface="Arial"/>
            </a:endParaRPr>
          </a:p>
        </p:txBody>
      </p:sp>
    </p:spTree>
  </p:cSld>
  <p:transition>
    <p:push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68"/>
                                        </p:tgtEl>
                                        <p:attrNameLst>
                                          <p:attrName>style.visibility</p:attrName>
                                        </p:attrNameLst>
                                      </p:cBhvr>
                                      <p:to>
                                        <p:strVal val="visible"/>
                                      </p:to>
                                    </p:set>
                                    <p:animEffect filter="fade" transition="in">
                                      <p:cBhvr additive="repl">
                                        <p:cTn id="46" dur="500"/>
                                        <p:tgtEl>
                                          <p:spTgt spid="68"/>
                                        </p:tgtEl>
                                      </p:cBhvr>
                                    </p:animEffect>
                                    <p:anim calcmode="lin" valueType="num">
                                      <p:cBhvr additive="repl">
                                        <p:cTn id="47" dur="5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68"/>
                                        </p:tgtEl>
                                        <p:attrNameLst>
                                          <p:attrName>ppt_h</p:attrName>
                                        </p:attrNameLst>
                                      </p:cBhvr>
                                      <p:tavLst>
                                        <p:tav tm="0">
                                          <p:val>
                                            <p:strVal val="#ppt_h"/>
                                          </p:val>
                                        </p:tav>
                                        <p:tav tm="100000">
                                          <p:val>
                                            <p:strVal val="#ppt_h"/>
                                          </p:val>
                                        </p:tav>
                                      </p:tavLst>
                                    </p:anim>
                                  </p:childTnLst>
                                </p:cTn>
                              </p:par>
                              <p:par>
                                <p:cTn id="49" nodeType="withEffect" fill="hold" presetClass="entr" presetID="7" presetSubtype="4">
                                  <p:stCondLst>
                                    <p:cond delay="0"/>
                                  </p:stCondLst>
                                  <p:iterate type="lt">
                                    <p:tmAbs val="0"/>
                                  </p:iterate>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base">
                                        <p:cTn id="51"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6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7" presetSubtype="4">
                                  <p:stCondLst>
                                    <p:cond delay="0"/>
                                  </p:stCondLst>
                                  <p:iterate type="lt">
                                    <p:tmAbs val="0"/>
                                  </p:iterate>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67">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iterate type="lt">
                                    <p:tmAbs val="0"/>
                                  </p:iterate>
                                  <p:childTnLst>
                                    <p:set>
                                      <p:cBhvr>
                                        <p:cTn id="58" dur="1" fill="hold">
                                          <p:stCondLst>
                                            <p:cond delay="0"/>
                                          </p:stCondLst>
                                        </p:cTn>
                                        <p:tgtEl>
                                          <p:spTgt spid="67">
                                            <p:txEl>
                                              <p:pRg st="1" end="1"/>
                                            </p:txEl>
                                          </p:spTgt>
                                        </p:tgtEl>
                                        <p:attrNameLst>
                                          <p:attrName>style.visibility</p:attrName>
                                        </p:attrNameLst>
                                      </p:cBhvr>
                                      <p:to>
                                        <p:strVal val="visible"/>
                                      </p:to>
                                    </p:set>
                                    <p:anim calcmode="lin" valueType="num">
                                      <p:cBhvr additive="base">
                                        <p:cTn id="5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7">
                                            <p:txEl>
                                              <p:pRg st="1" end="1"/>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iterate type="lt">
                                    <p:tmAbs val="0"/>
                                  </p:iterate>
                                  <p:childTnLst>
                                    <p:set>
                                      <p:cBhvr>
                                        <p:cTn id="62" dur="1" fill="hold">
                                          <p:stCondLst>
                                            <p:cond delay="0"/>
                                          </p:stCondLst>
                                        </p:cTn>
                                        <p:tgtEl>
                                          <p:spTgt spid="67">
                                            <p:txEl>
                                              <p:pRg st="2" end="2"/>
                                            </p:txEl>
                                          </p:spTgt>
                                        </p:tgtEl>
                                        <p:attrNameLst>
                                          <p:attrName>style.visibility</p:attrName>
                                        </p:attrNameLst>
                                      </p:cBhvr>
                                      <p:to>
                                        <p:strVal val="visible"/>
                                      </p:to>
                                    </p:set>
                                    <p:anim calcmode="lin" valueType="num">
                                      <p:cBhvr additive="base">
                                        <p:cTn id="6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2" end="2"/>
                                            </p:txEl>
                                          </p:spTgt>
                                        </p:tgtEl>
                                        <p:attrNameLst>
                                          <p:attrName>ppt_y</p:attrName>
                                        </p:attrNameLst>
                                      </p:cBhvr>
                                      <p:tavLst>
                                        <p:tav tm="0">
                                          <p:val>
                                            <p:strVal val="1+#ppt_h/2"/>
                                          </p:val>
                                        </p:tav>
                                        <p:tav tm="100000">
                                          <p:val>
                                            <p:strVal val="#ppt_y"/>
                                          </p:val>
                                        </p:tav>
                                      </p:tavLst>
                                    </p:anim>
                                  </p:childTnLst>
                                </p:cTn>
                              </p:par>
                              <p:par>
                                <p:cTn id="65" nodeType="withEffect" fill="hold" presetClass="entr" presetID="45">
                                  <p:stCondLst>
                                    <p:cond delay="0"/>
                                  </p:stCondLst>
                                  <p:iterate type="lt">
                                    <p:tmAbs val="200"/>
                                  </p:iterate>
                                  <p:childTnLst>
                                    <p:set>
                                      <p:cBhvr>
                                        <p:cTn id="66" dur="1" fill="hold">
                                          <p:stCondLst>
                                            <p:cond delay="0"/>
                                          </p:stCondLst>
                                        </p:cTn>
                                        <p:tgtEl>
                                          <p:spTgt spid="67">
                                            <p:txEl>
                                              <p:pRg st="1" end="1"/>
                                            </p:txEl>
                                          </p:spTgt>
                                        </p:tgtEl>
                                        <p:attrNameLst>
                                          <p:attrName>style.visibility</p:attrName>
                                        </p:attrNameLst>
                                      </p:cBhvr>
                                      <p:to>
                                        <p:strVal val="visible"/>
                                      </p:to>
                                    </p:set>
                                    <p:animEffect filter="fade" transition="in">
                                      <p:cBhvr additive="repl">
                                        <p:cTn id="67" dur="2000"/>
                                        <p:tgtEl>
                                          <p:spTgt spid="67">
                                            <p:txEl>
                                              <p:pRg st="1" end="1"/>
                                            </p:txEl>
                                          </p:spTgt>
                                        </p:tgtEl>
                                      </p:cBhvr>
                                    </p:animEffect>
                                    <p:anim calcmode="lin" valueType="num">
                                      <p:cBhvr additive="repl">
                                        <p:cTn id="68" dur="2000" fill="hold"/>
                                        <p:tgtEl>
                                          <p:spTgt spid="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67">
                                            <p:txEl>
                                              <p:pRg st="1" end="1"/>
                                            </p:txEl>
                                          </p:spTgt>
                                        </p:tgtEl>
                                        <p:attrNameLst>
                                          <p:attrName>ppt_h</p:attrName>
                                        </p:attrNameLst>
                                      </p:cBhvr>
                                      <p:tavLst>
                                        <p:tav tm="0">
                                          <p:val>
                                            <p:strVal val="#ppt_h"/>
                                          </p:val>
                                        </p:tav>
                                        <p:tav tm="100000">
                                          <p:val>
                                            <p:strVal val="#ppt_h"/>
                                          </p:val>
                                        </p:tav>
                                      </p:tavLst>
                                    </p:anim>
                                  </p:childTnLst>
                                </p:cTn>
                              </p:par>
                              <p:par>
                                <p:cTn id="70" nodeType="withEffect" fill="hold" presetClass="entr" presetID="45">
                                  <p:stCondLst>
                                    <p:cond delay="0"/>
                                  </p:stCondLst>
                                  <p:iterate type="lt">
                                    <p:tmAbs val="200"/>
                                  </p:iterate>
                                  <p:childTnLst>
                                    <p:set>
                                      <p:cBhvr>
                                        <p:cTn id="71" dur="1" fill="hold">
                                          <p:stCondLst>
                                            <p:cond delay="0"/>
                                          </p:stCondLst>
                                        </p:cTn>
                                        <p:tgtEl>
                                          <p:spTgt spid="67">
                                            <p:txEl>
                                              <p:pRg st="2" end="2"/>
                                            </p:txEl>
                                          </p:spTgt>
                                        </p:tgtEl>
                                        <p:attrNameLst>
                                          <p:attrName>style.visibility</p:attrName>
                                        </p:attrNameLst>
                                      </p:cBhvr>
                                      <p:to>
                                        <p:strVal val="visible"/>
                                      </p:to>
                                    </p:set>
                                    <p:animEffect filter="fade" transition="in">
                                      <p:cBhvr additive="repl">
                                        <p:cTn id="72" dur="2000"/>
                                        <p:tgtEl>
                                          <p:spTgt spid="67">
                                            <p:txEl>
                                              <p:pRg st="2" end="2"/>
                                            </p:txEl>
                                          </p:spTgt>
                                        </p:tgtEl>
                                      </p:cBhvr>
                                    </p:animEffect>
                                    <p:anim calcmode="lin" valueType="num">
                                      <p:cBhvr additive="repl">
                                        <p:cTn id="73" dur="2000" fill="hold"/>
                                        <p:tgtEl>
                                          <p:spTgt spid="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67">
                                            <p:txEl>
                                              <p:pRg st="2" end="2"/>
                                            </p:txEl>
                                          </p:spTgt>
                                        </p:tgtEl>
                                        <p:attrNameLst>
                                          <p:attrName>ppt_h</p:attrName>
                                        </p:attrNameLst>
                                      </p:cBhvr>
                                      <p:tavLst>
                                        <p:tav tm="0">
                                          <p:val>
                                            <p:strVal val="#ppt_h"/>
                                          </p:val>
                                        </p:tav>
                                        <p:tav tm="100000">
                                          <p:val>
                                            <p:strVal val="#ppt_h"/>
                                          </p:val>
                                        </p:tav>
                                      </p:tavLst>
                                    </p:anim>
                                  </p:childTnLst>
                                </p:cTn>
                              </p:par>
                              <p:par>
                                <p:cTn id="75" nodeType="withEffect" fill="hold" presetClass="entr" presetID="34">
                                  <p:stCondLst>
                                    <p:cond delay="0"/>
                                  </p:stCondLst>
                                  <p:iterate type="lt">
                                    <p:tmAbs val="0"/>
                                  </p:iterate>
                                  <p:childTnLst>
                                    <p:set>
                                      <p:cBhvr>
                                        <p:cTn id="76" dur="1" fill="hold">
                                          <p:stCondLst>
                                            <p:cond delay="0"/>
                                          </p:stCondLst>
                                        </p:cTn>
                                        <p:tgtEl>
                                          <p:spTgt spid="67">
                                            <p:txEl>
                                              <p:pRg st="1" end="1"/>
                                            </p:txEl>
                                          </p:spTgt>
                                        </p:tgtEl>
                                        <p:attrNameLst>
                                          <p:attrName>style.visibility</p:attrName>
                                        </p:attrNameLst>
                                      </p:cBhvr>
                                      <p:to>
                                        <p:strVal val="visible"/>
                                      </p:to>
                                    </p:set>
                                    <p:anim calcmode="lin" valueType="num" from="(-#ppt_w/2)" to="(#ppt_x)">
                                      <p:cBhvr additive="repl">
                                        <p:cTn id="77" dur="600" fill="hold">
                                          <p:stCondLst>
                                            <p:cond delay="0"/>
                                          </p:stCondLst>
                                        </p:cTn>
                                        <p:tgtEl>
                                          <p:spTgt spid="67">
                                            <p:txEl>
                                              <p:pRg st="1" end="1"/>
                                            </p:txEl>
                                          </p:spTgt>
                                        </p:tgtEl>
                                        <p:attrNameLst>
                                          <p:attrName>ppt_x</p:attrName>
                                        </p:attrNameLst>
                                      </p:cBhvr>
                                    </p:anim>
                                    <p:anim calcmode="lin" valueType="num" from="0" to="-1">
                                      <p:cBhvr additive="repl">
                                        <p:cTn id="78" dur="200" autoRev="1" fill="hold">
                                          <p:stCondLst>
                                            <p:cond delay="600"/>
                                          </p:stCondLst>
                                        </p:cTn>
                                        <p:tgtEl>
                                          <p:spTgt spid="67">
                                            <p:txEl>
                                              <p:pRg st="1" end="1"/>
                                            </p:txEl>
                                          </p:spTgt>
                                        </p:tgtEl>
                                        <p:attrNameLst>
                                          <p:attrName>xshear</p:attrName>
                                        </p:attrNameLst>
                                      </p:cBhvr>
                                    </p:anim>
                                    <p:animScale>
                                      <p:cBhvr>
                                        <p:cTn id="79" dur="200" autoRev="1" fill="hold">
                                          <p:stCondLst>
                                            <p:cond delay="600"/>
                                          </p:stCondLst>
                                        </p:cTn>
                                        <p:tgtEl>
                                          <p:spTgt spid="67">
                                            <p:txEl>
                                              <p:pRg st="1" end="1"/>
                                            </p:txEl>
                                          </p:spTgt>
                                        </p:tgtEl>
                                      </p:cBhvr>
                                      <p:from x="100000" y="100000"/>
                                      <p:to x="80000" y="100000"/>
                                    </p:animScale>
                                    <p:anim calcmode="lin" valueType="num" by="(#ppt_h/3+#ppt_w*0.1)">
                                      <p:cBhvr additive="sum">
                                        <p:cTn id="80" dur="200" autoRev="1" fill="hold">
                                          <p:stCondLst>
                                            <p:cond delay="600"/>
                                          </p:stCondLst>
                                        </p:cTn>
                                        <p:tgtEl>
                                          <p:spTgt spid="67">
                                            <p:txEl>
                                              <p:pRg st="1" end="1"/>
                                            </p:txEl>
                                          </p:spTgt>
                                        </p:tgtEl>
                                        <p:attrNameLst>
                                          <p:attrName>ppt_x</p:attrName>
                                        </p:attrNameLst>
                                      </p:cBhvr>
                                    </p:anim>
                                  </p:childTnLst>
                                </p:cTn>
                              </p:par>
                              <p:par>
                                <p:cTn id="81" nodeType="withEffect" fill="hold" presetClass="entr" presetID="34">
                                  <p:stCondLst>
                                    <p:cond delay="0"/>
                                  </p:stCondLst>
                                  <p:iterate type="lt">
                                    <p:tmAbs val="0"/>
                                  </p:iterate>
                                  <p:childTnLst>
                                    <p:set>
                                      <p:cBhvr>
                                        <p:cTn id="82" dur="1" fill="hold">
                                          <p:stCondLst>
                                            <p:cond delay="0"/>
                                          </p:stCondLst>
                                        </p:cTn>
                                        <p:tgtEl>
                                          <p:spTgt spid="67">
                                            <p:txEl>
                                              <p:pRg st="2" end="2"/>
                                            </p:txEl>
                                          </p:spTgt>
                                        </p:tgtEl>
                                        <p:attrNameLst>
                                          <p:attrName>style.visibility</p:attrName>
                                        </p:attrNameLst>
                                      </p:cBhvr>
                                      <p:to>
                                        <p:strVal val="visible"/>
                                      </p:to>
                                    </p:set>
                                    <p:anim calcmode="lin" valueType="num" from="(-#ppt_w/2)" to="(#ppt_x)">
                                      <p:cBhvr additive="repl">
                                        <p:cTn id="83" dur="600" fill="hold">
                                          <p:stCondLst>
                                            <p:cond delay="0"/>
                                          </p:stCondLst>
                                        </p:cTn>
                                        <p:tgtEl>
                                          <p:spTgt spid="67">
                                            <p:txEl>
                                              <p:pRg st="2" end="2"/>
                                            </p:txEl>
                                          </p:spTgt>
                                        </p:tgtEl>
                                        <p:attrNameLst>
                                          <p:attrName>ppt_x</p:attrName>
                                        </p:attrNameLst>
                                      </p:cBhvr>
                                    </p:anim>
                                    <p:anim calcmode="lin" valueType="num" from="0" to="-1">
                                      <p:cBhvr additive="repl">
                                        <p:cTn id="84" dur="200" autoRev="1" fill="hold">
                                          <p:stCondLst>
                                            <p:cond delay="600"/>
                                          </p:stCondLst>
                                        </p:cTn>
                                        <p:tgtEl>
                                          <p:spTgt spid="67">
                                            <p:txEl>
                                              <p:pRg st="2" end="2"/>
                                            </p:txEl>
                                          </p:spTgt>
                                        </p:tgtEl>
                                        <p:attrNameLst>
                                          <p:attrName>xshear</p:attrName>
                                        </p:attrNameLst>
                                      </p:cBhvr>
                                    </p:anim>
                                    <p:animScale>
                                      <p:cBhvr>
                                        <p:cTn id="85" dur="200" autoRev="1" fill="hold">
                                          <p:stCondLst>
                                            <p:cond delay="600"/>
                                          </p:stCondLst>
                                        </p:cTn>
                                        <p:tgtEl>
                                          <p:spTgt spid="67">
                                            <p:txEl>
                                              <p:pRg st="2" end="2"/>
                                            </p:txEl>
                                          </p:spTgt>
                                        </p:tgtEl>
                                      </p:cBhvr>
                                      <p:from x="100000" y="100000"/>
                                      <p:to x="80000" y="100000"/>
                                    </p:animScale>
                                    <p:anim calcmode="lin" valueType="num" by="(#ppt_h/3+#ppt_w*0.1)">
                                      <p:cBhvr additive="sum">
                                        <p:cTn id="86" dur="200" autoRev="1" fill="hold">
                                          <p:stCondLst>
                                            <p:cond delay="600"/>
                                          </p:stCondLst>
                                        </p:cTn>
                                        <p:tgtEl>
                                          <p:spTgt spid="67">
                                            <p:txEl>
                                              <p:pRg st="2" end="2"/>
                                            </p:txEl>
                                          </p:spTgt>
                                        </p:tgtEl>
                                        <p:attrNameLst>
                                          <p:attrName>ppt_x</p:attrName>
                                        </p:attrNameLst>
                                      </p:cBhvr>
                                    </p:anim>
                                  </p:childTnLst>
                                </p:cTn>
                              </p:par>
                              <p:par>
                                <p:cTn id="87" nodeType="withEffect" fill="hold" presetClass="entr" presetID="56">
                                  <p:stCondLst>
                                    <p:cond delay="0"/>
                                  </p:stCondLst>
                                  <p:iterate type="lt">
                                    <p:tmAbs val="200"/>
                                  </p:iterate>
                                  <p:childTnLst>
                                    <p:set>
                                      <p:cBhvr>
                                        <p:cTn id="88"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89" dur="1000" autoRev="1" fill="hold">
                                          <p:stCondLst>
                                            <p:cond delay="0"/>
                                          </p:stCondLst>
                                        </p:cTn>
                                        <p:tgtEl>
                                          <p:spTgt spid="67">
                                            <p:txEl>
                                              <p:pRg st="1" end="1"/>
                                            </p:txEl>
                                          </p:spTgt>
                                        </p:tgtEl>
                                        <p:attrNameLst>
                                          <p:attrName>ppt_w</p:attrName>
                                        </p:attrNameLst>
                                      </p:cBhvr>
                                    </p:anim>
                                    <p:anim calcmode="lin" valueType="num" by="(#ppt_w*0.50)">
                                      <p:cBhvr additive="repl">
                                        <p:cTn id="90" dur="1000" autoRev="1" fill="hold">
                                          <p:stCondLst>
                                            <p:cond delay="0"/>
                                          </p:stCondLst>
                                        </p:cTn>
                                        <p:tgtEl>
                                          <p:spTgt spid="67">
                                            <p:txEl>
                                              <p:pRg st="1" end="1"/>
                                            </p:txEl>
                                          </p:spTgt>
                                        </p:tgtEl>
                                        <p:attrNameLst>
                                          <p:attrName>ppt_x</p:attrName>
                                        </p:attrNameLst>
                                      </p:cBhvr>
                                    </p:anim>
                                    <p:anim calcmode="lin" valueType="num" from="(-#ppt_h/2)" to="(#ppt_y)">
                                      <p:cBhvr additive="repl">
                                        <p:cTn id="91" dur="2000" fill="hold">
                                          <p:stCondLst>
                                            <p:cond delay="0"/>
                                          </p:stCondLst>
                                        </p:cTn>
                                        <p:tgtEl>
                                          <p:spTgt spid="67">
                                            <p:txEl>
                                              <p:pRg st="1" end="1"/>
                                            </p:txEl>
                                          </p:spTgt>
                                        </p:tgtEl>
                                        <p:attrNameLst>
                                          <p:attrName>ppt_y</p:attrName>
                                        </p:attrNameLst>
                                      </p:cBhvr>
                                    </p:anim>
                                    <p:animRot by="21600000">
                                      <p:cBhvr>
                                        <p:cTn id="92" dur="2000" fill="hold">
                                          <p:stCondLst>
                                            <p:cond delay="0"/>
                                          </p:stCondLst>
                                        </p:cTn>
                                        <p:tgtEl>
                                          <p:spTgt spid="67">
                                            <p:txEl>
                                              <p:pRg st="1" end="1"/>
                                            </p:txEl>
                                          </p:spTgt>
                                        </p:tgtEl>
                                        <p:attrNameLst>
                                          <p:attrName>r</p:attrName>
                                        </p:attrNameLst>
                                      </p:cBhvr>
                                    </p:animRot>
                                  </p:childTnLst>
                                </p:cTn>
                              </p:par>
                              <p:par>
                                <p:cTn id="93" nodeType="withEffect" fill="hold" presetClass="entr" presetID="56">
                                  <p:stCondLst>
                                    <p:cond delay="0"/>
                                  </p:stCondLst>
                                  <p:iterate type="lt">
                                    <p:tmAbs val="200"/>
                                  </p:iterate>
                                  <p:childTnLst>
                                    <p:set>
                                      <p:cBhvr>
                                        <p:cTn id="94"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95" dur="1000" autoRev="1" fill="hold">
                                          <p:stCondLst>
                                            <p:cond delay="0"/>
                                          </p:stCondLst>
                                        </p:cTn>
                                        <p:tgtEl>
                                          <p:spTgt spid="67">
                                            <p:txEl>
                                              <p:pRg st="2" end="2"/>
                                            </p:txEl>
                                          </p:spTgt>
                                        </p:tgtEl>
                                        <p:attrNameLst>
                                          <p:attrName>ppt_w</p:attrName>
                                        </p:attrNameLst>
                                      </p:cBhvr>
                                    </p:anim>
                                    <p:anim calcmode="lin" valueType="num" by="(#ppt_w*0.50)">
                                      <p:cBhvr additive="repl">
                                        <p:cTn id="96" dur="1000" autoRev="1" fill="hold">
                                          <p:stCondLst>
                                            <p:cond delay="0"/>
                                          </p:stCondLst>
                                        </p:cTn>
                                        <p:tgtEl>
                                          <p:spTgt spid="67">
                                            <p:txEl>
                                              <p:pRg st="2" end="2"/>
                                            </p:txEl>
                                          </p:spTgt>
                                        </p:tgtEl>
                                        <p:attrNameLst>
                                          <p:attrName>ppt_x</p:attrName>
                                        </p:attrNameLst>
                                      </p:cBhvr>
                                    </p:anim>
                                    <p:anim calcmode="lin" valueType="num" from="(-#ppt_h/2)" to="(#ppt_y)">
                                      <p:cBhvr additive="repl">
                                        <p:cTn id="97" dur="2000" fill="hold">
                                          <p:stCondLst>
                                            <p:cond delay="0"/>
                                          </p:stCondLst>
                                        </p:cTn>
                                        <p:tgtEl>
                                          <p:spTgt spid="67">
                                            <p:txEl>
                                              <p:pRg st="2" end="2"/>
                                            </p:txEl>
                                          </p:spTgt>
                                        </p:tgtEl>
                                        <p:attrNameLst>
                                          <p:attrName>ppt_y</p:attrName>
                                        </p:attrNameLst>
                                      </p:cBhvr>
                                    </p:anim>
                                    <p:animRot by="21600000">
                                      <p:cBhvr>
                                        <p:cTn id="98" dur="2000" fill="hold">
                                          <p:stCondLst>
                                            <p:cond delay="0"/>
                                          </p:stCondLst>
                                        </p:cTn>
                                        <p:tgtEl>
                                          <p:spTgt spid="67">
                                            <p:txEl>
                                              <p:pRg st="2" end="2"/>
                                            </p:txEl>
                                          </p:spTgt>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40">
                                  <p:stCondLst>
                                    <p:cond delay="0"/>
                                  </p:stCondLst>
                                  <p:iterate type="lt">
                                    <p:tmAbs val="100"/>
                                  </p:iterate>
                                  <p:childTnLst>
                                    <p:animEffect filter="fade" transition="out">
                                      <p:cBhvr additive="repl">
                                        <p:cTn id="102" dur="1000"/>
                                        <p:tgtEl>
                                          <p:spTgt spid="67">
                                            <p:txEl>
                                              <p:pRg st="0" end="0"/>
                                            </p:txEl>
                                          </p:spTgt>
                                        </p:tgtEl>
                                      </p:cBhvr>
                                    </p:animEffect>
                                    <p:anim calcmode="lin" valueType="num">
                                      <p:cBhvr additive="repl">
                                        <p:cTn id="103" dur="1000"/>
                                        <p:tgtEl>
                                          <p:spTgt spid="67">
                                            <p:txEl>
                                              <p:pRg st="0" end="0"/>
                                            </p:txEl>
                                          </p:spTgt>
                                        </p:tgtEl>
                                        <p:attrNameLst>
                                          <p:attrName>ppt_x</p:attrName>
                                        </p:attrNameLst>
                                      </p:cBhvr>
                                      <p:tavLst>
                                        <p:tav tm="0">
                                          <p:val>
                                            <p:strVal val="#ppt_x"/>
                                          </p:val>
                                        </p:tav>
                                        <p:tav tm="100000">
                                          <p:val>
                                            <p:strVal val="#ppt_x-.1"/>
                                          </p:val>
                                        </p:tav>
                                      </p:tavLst>
                                    </p:anim>
                                    <p:anim calcmode="lin" valueType="num">
                                      <p:cBhvr additive="repl">
                                        <p:cTn id="104" dur="1000"/>
                                        <p:tgtEl>
                                          <p:spTgt spid="67">
                                            <p:txEl>
                                              <p:pRg st="0" end="0"/>
                                            </p:txEl>
                                          </p:spTgt>
                                        </p:tgtEl>
                                        <p:attrNameLst>
                                          <p:attrName>ppt_y</p:attrName>
                                        </p:attrNameLst>
                                      </p:cBhvr>
                                      <p:tavLst>
                                        <p:tav tm="0">
                                          <p:val>
                                            <p:strVal val="#ppt_y"/>
                                          </p:val>
                                        </p:tav>
                                        <p:tav tm="100000">
                                          <p:val>
                                            <p:strVal val="#ppt_y"/>
                                          </p:val>
                                        </p:tav>
                                      </p:tavLst>
                                    </p:anim>
                                    <p:set>
                                      <p:cBhvr>
                                        <p:cTn id="105" dur="1" fill="hold">
                                          <p:stCondLst>
                                            <p:cond delay="999"/>
                                          </p:stCondLst>
                                        </p:cTn>
                                        <p:tgtEl>
                                          <p:spTgt spid="67">
                                            <p:txEl>
                                              <p:pRg st="0" end="0"/>
                                            </p:txEl>
                                          </p:spTgt>
                                        </p:tgtEl>
                                        <p:attrNameLst>
                                          <p:attrName>style.visibility</p:attrName>
                                        </p:attrNameLst>
                                      </p:cBhvr>
                                      <p:to>
                                        <p:strVal val="hidden"/>
                                      </p:to>
                                    </p:set>
                                  </p:childTnLst>
                                </p:cTn>
                              </p:par>
                              <p:par>
                                <p:cTn id="106" nodeType="withEffect" fill="hold" presetClass="exit" presetID="40">
                                  <p:stCondLst>
                                    <p:cond delay="0"/>
                                  </p:stCondLst>
                                  <p:iterate type="lt">
                                    <p:tmAbs val="100"/>
                                  </p:iterate>
                                  <p:childTnLst>
                                    <p:animEffect filter="fade" transition="out">
                                      <p:cBhvr additive="repl">
                                        <p:cTn id="107" dur="1000"/>
                                        <p:tgtEl>
                                          <p:spTgt spid="67">
                                            <p:txEl>
                                              <p:pRg st="1" end="1"/>
                                            </p:txEl>
                                          </p:spTgt>
                                        </p:tgtEl>
                                      </p:cBhvr>
                                    </p:animEffect>
                                    <p:anim calcmode="lin" valueType="num">
                                      <p:cBhvr additive="repl">
                                        <p:cTn id="108" dur="1000"/>
                                        <p:tgtEl>
                                          <p:spTgt spid="67">
                                            <p:txEl>
                                              <p:pRg st="1" end="1"/>
                                            </p:txEl>
                                          </p:spTgt>
                                        </p:tgtEl>
                                        <p:attrNameLst>
                                          <p:attrName>ppt_x</p:attrName>
                                        </p:attrNameLst>
                                      </p:cBhvr>
                                      <p:tavLst>
                                        <p:tav tm="0">
                                          <p:val>
                                            <p:strVal val="#ppt_x"/>
                                          </p:val>
                                        </p:tav>
                                        <p:tav tm="100000">
                                          <p:val>
                                            <p:strVal val="#ppt_x-.1"/>
                                          </p:val>
                                        </p:tav>
                                      </p:tavLst>
                                    </p:anim>
                                    <p:anim calcmode="lin" valueType="num">
                                      <p:cBhvr additive="repl">
                                        <p:cTn id="109" dur="1000"/>
                                        <p:tgtEl>
                                          <p:spTgt spid="67">
                                            <p:txEl>
                                              <p:pRg st="1" end="1"/>
                                            </p:txEl>
                                          </p:spTgt>
                                        </p:tgtEl>
                                        <p:attrNameLst>
                                          <p:attrName>ppt_y</p:attrName>
                                        </p:attrNameLst>
                                      </p:cBhvr>
                                      <p:tavLst>
                                        <p:tav tm="0">
                                          <p:val>
                                            <p:strVal val="#ppt_y"/>
                                          </p:val>
                                        </p:tav>
                                        <p:tav tm="100000">
                                          <p:val>
                                            <p:strVal val="#ppt_y"/>
                                          </p:val>
                                        </p:tav>
                                      </p:tavLst>
                                    </p:anim>
                                    <p:set>
                                      <p:cBhvr>
                                        <p:cTn id="110" dur="1" fill="hold">
                                          <p:stCondLst>
                                            <p:cond delay="999"/>
                                          </p:stCondLst>
                                        </p:cTn>
                                        <p:tgtEl>
                                          <p:spTgt spid="67">
                                            <p:txEl>
                                              <p:pRg st="1" end="1"/>
                                            </p:txEl>
                                          </p:spTgt>
                                        </p:tgtEl>
                                        <p:attrNameLst>
                                          <p:attrName>style.visibility</p:attrName>
                                        </p:attrNameLst>
                                      </p:cBhvr>
                                      <p:to>
                                        <p:strVal val="hidden"/>
                                      </p:to>
                                    </p:set>
                                  </p:childTnLst>
                                </p:cTn>
                              </p:par>
                              <p:par>
                                <p:cTn id="111" nodeType="withEffect" fill="hold" presetClass="exit" presetID="40">
                                  <p:stCondLst>
                                    <p:cond delay="0"/>
                                  </p:stCondLst>
                                  <p:iterate type="lt">
                                    <p:tmAbs val="100"/>
                                  </p:iterate>
                                  <p:childTnLst>
                                    <p:animEffect filter="fade" transition="out">
                                      <p:cBhvr additive="repl">
                                        <p:cTn id="112" dur="1000"/>
                                        <p:tgtEl>
                                          <p:spTgt spid="67">
                                            <p:txEl>
                                              <p:pRg st="2" end="2"/>
                                            </p:txEl>
                                          </p:spTgt>
                                        </p:tgtEl>
                                      </p:cBhvr>
                                    </p:animEffect>
                                    <p:anim calcmode="lin" valueType="num">
                                      <p:cBhvr additive="repl">
                                        <p:cTn id="113" dur="1000"/>
                                        <p:tgtEl>
                                          <p:spTgt spid="67">
                                            <p:txEl>
                                              <p:pRg st="2" end="2"/>
                                            </p:txEl>
                                          </p:spTgt>
                                        </p:tgtEl>
                                        <p:attrNameLst>
                                          <p:attrName>ppt_x</p:attrName>
                                        </p:attrNameLst>
                                      </p:cBhvr>
                                      <p:tavLst>
                                        <p:tav tm="0">
                                          <p:val>
                                            <p:strVal val="#ppt_x"/>
                                          </p:val>
                                        </p:tav>
                                        <p:tav tm="100000">
                                          <p:val>
                                            <p:strVal val="#ppt_x-.1"/>
                                          </p:val>
                                        </p:tav>
                                      </p:tavLst>
                                    </p:anim>
                                    <p:anim calcmode="lin" valueType="num">
                                      <p:cBhvr additive="repl">
                                        <p:cTn id="114" dur="1000"/>
                                        <p:tgtEl>
                                          <p:spTgt spid="67">
                                            <p:txEl>
                                              <p:pRg st="2" end="2"/>
                                            </p:txEl>
                                          </p:spTgt>
                                        </p:tgtEl>
                                        <p:attrNameLst>
                                          <p:attrName>ppt_y</p:attrName>
                                        </p:attrNameLst>
                                      </p:cBhvr>
                                      <p:tavLst>
                                        <p:tav tm="0">
                                          <p:val>
                                            <p:strVal val="#ppt_y"/>
                                          </p:val>
                                        </p:tav>
                                        <p:tav tm="100000">
                                          <p:val>
                                            <p:strVal val="#ppt_y"/>
                                          </p:val>
                                        </p:tav>
                                      </p:tavLst>
                                    </p:anim>
                                    <p:set>
                                      <p:cBhvr>
                                        <p:cTn id="115" dur="1" fill="hold">
                                          <p:stCondLst>
                                            <p:cond delay="999"/>
                                          </p:stCondLst>
                                        </p:cTn>
                                        <p:tgtEl>
                                          <p:spTgt spid="6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j0212661"/>
          <p:cNvPicPr/>
          <p:nvPr/>
        </p:nvPicPr>
        <p:blipFill>
          <a:blip r:embed="rId1"/>
          <a:stretch/>
        </p:blipFill>
        <p:spPr>
          <a:xfrm>
            <a:off x="1219320" y="5486400"/>
            <a:ext cx="1349280" cy="1371600"/>
          </a:xfrm>
          <a:prstGeom prst="rect">
            <a:avLst/>
          </a:prstGeom>
          <a:ln w="0">
            <a:noFill/>
          </a:ln>
        </p:spPr>
      </p:pic>
      <p:pic>
        <p:nvPicPr>
          <p:cNvPr id="70" name="Picture 4" descr="MCj04395920000[1]"/>
          <p:cNvPicPr/>
          <p:nvPr/>
        </p:nvPicPr>
        <p:blipFill>
          <a:blip r:embed="rId2"/>
          <a:stretch/>
        </p:blipFill>
        <p:spPr>
          <a:xfrm>
            <a:off x="5791320" y="5181480"/>
            <a:ext cx="2179440" cy="25146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it like to be a child growing up during this time period?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692, children were expected to behave under the same hard code as the grown adults doing cho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tending church services. Any show of emotion, such as excitement, fear, or anger, was not appreciated, and disobedience was a costly punish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rarely played toys and games because they were scarce and parents saw them as sinful</a:t>
            </a:r>
            <a:endParaRPr b="0" lang="en-US" sz="2800" spc="-1" strike="noStrike">
              <a:solidFill>
                <a:srgbClr val="000000"/>
              </a:solidFill>
              <a:latin typeface="Arial"/>
            </a:endParaRPr>
          </a:p>
        </p:txBody>
      </p:sp>
    </p:spTree>
  </p:cSld>
  <p:transition>
    <p:push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path" presetID="0">
                                  <p:stCondLst>
                                    <p:cond delay="0"/>
                                  </p:stCondLst>
                                  <p:childTnLst>
                                    <p:animMotion origin="layout" path="M -1.38889E-006 -3.33333E-006 C -0.0191 0.00232 -0.03802 0.00463 -0.05712 0.00648 C -0.07205 0.01042 -0.10243 0.01111 -0.10243 0.01111 C -0.13003 0.0206 -0.16111 0.02269 -0.18923 0.02384 C -0.2125 0.03426 -0.28906 0.02222 -0.325 0.01922 C -0.32934 0.01736 -0.33385 0.01644 -0.33819 0.01435 C -0.35087 0.00787 -0.33229 0.01435 -0.34531 0.0081 C -0.34844 0.00672 -0.35486 0.00486 -0.35486 0.00486 C -0.35642 0.00371 -0.35937 0.00394 -0.35955 0.00162 C -0.36007 -0.0044 -0.36076 -0.03727 -0.35243 -0.04583 C -0.35052 -0.04791 -0.34097 -0.04977 -0.33819 -0.05069 C -0.33611 -0.05879 -0.3342 -0.05602 -0.32864 -0.05856 C -0.2908 -0.05764 -0.26892 -0.05671 -0.23576 -0.05393 C -0.20225 -0.04699 -0.17239 -0.05023 -0.13819 -0.04907 C -0.10451 -0.04977 -0.07708 -0.03889 -0.05 -0.06018 C -0.04913 -0.06389 -0.04965 -0.06875 -0.04757 -0.07129 C -0.04548 -0.07384 -0.04166 -0.07129 -0.03923 -0.07291 C -0.0375 -0.07407 -0.03732 -0.07778 -0.03576 -0.07916 C -0.03333 -0.08148 -0.03003 -0.08194 -0.02743 -0.08403 C -0.02048 -0.08935 -0.01354 -0.09653 -0.00712 -0.10301 C -1.38888999999965E-006 -0.12245 -0.00833 -0.10602 0.00243 -0.11412 C 0.00712 -0.11759 0.01545 -0.12685 0.01545 -0.12685 C 0.01719 -0.1331 0.01771 -0.14004 0.02014 -0.14583 C 0.02136 -0.14884 0.02361 -0.15092 0.025 -0.15393 C 0.02604 -0.15625 0.02639 -0.15926 0.02743 -0.1618 C 0.02882 -0.16504 0.03056 -0.16805 0.03212 -0.17129 C 0.03525 -0.19606 0.04636 -0.21458 0.05712 -0.23472 C 0.05886 -0.25555 0.06858 -0.28565 0.07743 -0.30301 C 0.07813 -0.31041 0.07882 -0.31782 0.07969 -0.32523 C 0.08038 -0.33171 0.08212 -0.34444 0.08212 -0.34444 C 0.08177 -0.36921 0.08195 -0.39421 0.0809 -0.41898 C 0.08073 -0.42129 0.07917 -0.42315 0.07847 -0.42523 C 0.06997 -0.45208 0.05608 -0.47338 0.03802 -0.49028 C 0.03351 -0.49444 0.02847 -0.49768 0.02379 -0.50139 C 0.01493 -0.5081 0.00486 -0.51458 -0.00364 -0.52222 C -0.00555 -0.52384 -0.00642 -0.52685 -0.00833 -0.52847 C -0.01232 -0.53171 -0.01736 -0.53171 -0.02153 -0.53472 C -0.02552 -0.53773 -0.02899 -0.54259 -0.03333 -0.54444 C -0.03802 -0.54653 -0.04757 -0.55069 -0.04757 -0.55069 C -0.05052 -0.56273 -0.06094 -0.56342 -0.0691 -0.56504 C -0.09791 -0.56366 -0.10712 -0.56134 -0.13212 -0.55555 C -0.14323 -0.54444 -0.13142 -0.5544 -0.1559 -0.54907 C -0.15729 -0.54884 -0.15816 -0.54629 -0.15955 -0.54583 C -0.16267 -0.54467 -0.16597 -0.54491 -0.1691 -0.54444 C -0.17691 -0.54097 -0.18472 -0.53819 -0.19288 -0.53634 C -0.20156 -0.52778 -0.20816 -0.52569 -0.2191 -0.52222 C -0.22361 -0.51805 -0.22847 -0.51574 -0.23333 -0.5125 C -0.23663 -0.50625 -0.23698 -0.50694 -0.23698 -0.49676 C -0.23698 -0.47708 -0.23646 -0.45764 -0.23576 -0.43796 C -0.23559 -0.43125 -0.23073 -0.42731 -0.22743 -0.42361 C -0.22014 -0.41528 -0.21319 -0.40625 -0.20364 -0.40301 C -0.19305 -0.38958 -0.17656 -0.39815 -0.16319 -0.4 C -0.13975 -0.41782 -0.16371 -0.40139 -0.09878 -0.40625 C -0.0967 -0.40648 -0.09496 -0.40926 -0.09288 -0.40949 C -0.08507 -0.41088 -0.07708 -0.41065 -0.0691 -0.41111 C -0.05173 -0.41782 -0.03472 -0.42315 -0.01666 -0.42523 C -0.00486 -0.43055 0.0059 -0.43866 0.01788 -0.44282 C 0.02101 -0.44699 0.02344 -0.45278 0.02743 -0.45555 C 0.03212 -0.45879 0.04167 -0.46504 0.04167 -0.46504 C 0.04861 -0.47662 0.05087 -0.47893 0.06181 -0.48403 C 0.06337 -0.48657 0.06528 -0.48912 0.06667 -0.4919 C 0.06806 -0.49491 0.06771 -0.5 0.07014 -0.50139 C 0.07604 -0.50463 0.08924 -0.50463 0.08924 -0.50463 C 0.09913 -0.5206 0.09792 -0.52778 0.11424 -0.53333 C 0.11927 -0.53981 0.12031 -0.54259 0.12743 -0.54444 C 0.12778 -0.54653 0.12726 -0.54907 0.12847 -0.55069 C 0.12969 -0.55231 0.13195 -0.55116 0.13334 -0.55231 C 0.13594 -0.5544 0.13785 -0.55787 0.14045 -0.56018 C 0.14271 -0.56921 0.14097 -0.57523 0.13681 -0.58241 C 0.13247 -0.60301 0.12222 -0.6206 0.11302 -0.63796 C 0.10886 -0.6456 0.10851 -0.65671 0.10347 -0.66342 C 0.09775 -0.67106 0.08611 -0.67477 0.07847 -0.67616 C 0.07014 -0.68032 0.06129 -0.68125 0.05243 -0.68403 C 0.01702 -0.68264 -0.01232 -0.68102 -0.04653 -0.67129 C -0.08055 -0.66157 -0.11771 -0.66759 -0.15243 -0.66504 C -0.16562 -0.65879 -0.15139 -0.66504 -0.18576 -0.6618 C -0.19028 -0.66134 -0.19444 -0.65856 -0.19878 -0.65694 C -0.21059 -0.65278 -0.22257 -0.64907 -0.23455 -0.64583 C -0.23975 -0.64166 -0.24548 -0.63889 -0.25121 -0.63634 C -0.25278 -0.63333 -0.25712 -0.63217 -0.25712 -0.62847 C -0.25816 -0.53333 -0.26458 -0.55671 -0.25121 -0.51574 C -0.24913 -0.49953 -0.2467 -0.48472 -0.24166 -0.46967 C -0.24045 -0.45787 -0.2375 -0.44953 -0.23455 -0.43796 C -0.23246 -0.43009 -0.23264 -0.41991 -0.22986 -0.4125 C -0.22969 -0.41227 -0.22257 -0.39676 -0.22031 -0.3919 C -0.2191 -0.38935 -0.21788 -0.38657 -0.21666 -0.38403 C -0.21545 -0.38148 -0.21319 -0.37616 -0.21319 -0.37616 C -0.2092 -0.35486 -0.20104 -0.33981 -0.19166 -0.32222 C -0.18993 -0.31273 -0.18576 -0.29583 -0.18212 -0.28727 C -0.17951 -0.28102 -0.17517 -0.27592 -0.17257 -0.26967 C -0.16632 -0.25486 -0.16094 -0.24074 -0.15364 -0.22685 C -0.15191 -0.21828 -0.15278 -0.22083 -0.14878 -0.21111 C -0.146 -0.20463 -0.14045 -0.1919 -0.14045 -0.1919 C -0.13785 -0.16828 -0.13177 -0.15509 -0.12378 -0.13472 C -0.12205 -0.13009 -0.12135 -0.12477 -0.1191 -0.1206 C -0.09791 -0.08009 -0.121 -0.12708 -0.1 -0.0919 C -0.09132 -0.07731 -0.0934 -0.07569 -0.07986 -0.06666 C -0.06701 -0.04722 -0.05104 -0.03472 -0.03576 -0.01898 C -0.0191 -0.00185 -0.02969 -0.00741 -0.02031 -0.00301 C -0.01823 -0.00092 -0.01649 0.00139 -0.01423 0.00324 C -0.01007 0.00672 -0.00538 0.00903 -0.00121 0.01273 C 0.0007 0.01435 0.00174 0.01736 0.00347 0.01922 C 0.00608 0.02176 0.0092 0.02315 0.01181 0.02547 C 0.0191 0.03195 0.02465 0.04005 0.03334 0.04306 C 0.0408 0.04884 0.04132 0.04977 0.05 0.04769 C 0.05278 0.04236 0.05347 0.0382 0.05469 0.03195 C 0.054 0.02778 0.05417 0.02292 0.05243 0.01922 C 0.05156 0.01736 0.04983 0.01621 0.04879 0.01435 C 0.04601 0.00996 0.04393 0.00486 0.04167 -3.33333E-006 C 0.03959 -0.00416 0.03906 -0.01088 0.03802 -0.01574 C 0.0375 -0.01782 0.03681 -0.02222 0.03681 -0.02222 L -1.38889E-006 -3.33333E-006 Z">
                                      <p:cBhvr>
                                        <p:cTn id="121" dur="5000" fill="hold"/>
                                        <p:tgtEl>
                                          <p:spTgt spid="70"/>
                                        </p:tgtEl>
                                      </p:cBhvr>
                                    </p:animMotion>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0">
                                  <p:stCondLst>
                                    <p:cond delay="0"/>
                                  </p:stCondLst>
                                  <p:childTnLst>
                                    <p:animMotion origin="layout" path="M -4.44444E-006 0.00023 C -0.00712 -0.00602 -0.01545 -0.00926 -0.02413 -0.01088 C -0.03437 -0.01574 -0.01597 -0.00741 -0.03698 -0.01389 C -0.04514 -0.01667 -0.0526 -0.02246 -0.06076 -0.02523 C -0.07361 -0.03658 -0.09045 -0.04167 -0.10486 -0.04908 C -0.11093 -0.05718 -0.11857 -0.06273 -0.12621 -0.06783 C -0.13021 -0.07616 -0.13038 -0.07917 -0.12621 -0.08704 C -0.1033 -0.17847 -0.12014 -0.29329 -0.12864 -0.39352 C -0.12847 -0.42546 -0.13611 -0.63727 -0.125 -0.73935 C -0.12448 -0.76528 -0.12621 -0.78889 -0.11562 -0.81088 C -0.11076 -0.83681 -0.10278 -0.84398 -0.08107 -0.8456 C -0.02795 -0.84954 -0.05243 -0.84815 -0.00729 -0.85046 C 0.00191 -0.85255 0.01129 -0.85324 0.02014 -0.85695 C 0.03507 -0.8632 0.03195 -0.86458 0.05104 -0.86644 C 0.06962 -0.87477 0.09115 -0.87593 0.11042 -0.87732 C 0.13768 -0.87639 0.16441 -0.87616 0.19167 -0.87292 C 0.21563 -0.87384 0.2382 -0.87708 0.26181 -0.87894 C 0.27761 -0.88588 0.31077 -0.88333 0.32136 -0.8838 C 0.33976 -0.8875 0.35868 -0.8838 0.37709 -0.88218 C 0.3967 -0.88287 0.41615 -0.8831 0.43559 -0.8838 C 0.43854 -0.88426 0.43976 -0.88658 0.44271 -0.88704 C 0.46632 -0.89121 0.49028 -0.89352 0.51424 -0.89491 C 0.52604 -0.89931 0.53768 -0.90023 0.55 -0.90116 C 0.6132 -0.9007 0.66667 -0.90833 0.725 -0.89491 C 0.72934 -0.8919 0.73351 -0.89074 0.73802 -0.88866 C 0.75278 -0.87408 0.73334 -0.8919 0.74757 -0.88218 C 0.75677 -0.87616 0.75174 -0.87639 0.75938 -0.87292 C 0.76389 -0.8706 0.76841 -0.87014 0.77257 -0.86644 C 0.77657 -0.8625 0.77795 -0.85718 0.78212 -0.85371 C 0.78334 -0.83727 0.78507 -0.82315 0.78212 -0.80602 C 0.78177 -0.80371 0.77882 -0.8044 0.77726 -0.80301 C 0.7724 -0.79884 0.76962 -0.79329 0.76424 -0.79005 C 0.74549 -0.77894 0.72518 -0.7706 0.70469 -0.76806 C 0.70347 -0.76759 0.70226 -0.76621 0.70104 -0.76621 C 0.63177 -0.76458 0.56198 -0.76296 0.49254 -0.76158 C 0.45972 -0.75787 0.42674 -0.76065 0.39393 -0.76458 C 0.38785 -0.76621 0.38542 -0.76991 0.37952 -0.77292 C 0.37639 -0.77431 0.37309 -0.77454 0.36997 -0.77593 C 0.34045 -0.80671 0.25834 -0.79468 0.21893 -0.79514 C 0.13212 -0.79607 0.04514 -0.79607 -0.04166 -0.79653 C -0.04531 -0.79699 -0.04913 -0.79607 -0.05243 -0.79815 C -0.05364 -0.79908 -0.05034 -0.80116 -0.04896 -0.80139 C -0.04305 -0.80255 -0.03698 -0.80255 -0.03107 -0.80301 C -0.03073 -0.80486 -0.02847 -0.80833 -0.02986 -0.80903 C -0.03177 -0.81065 -0.03368 -0.80695 -0.03576 -0.80602 C -0.03889 -0.80533 -0.04218 -0.80486 -0.04531 -0.80463 C -0.06475 -0.79607 -0.07795 -0.79468 -0.1 -0.79329 C -0.11146 -0.78727 -0.12274 -0.78357 -0.13455 -0.77894 C -0.1401 -0.77384 -0.14618 -0.76991 -0.15243 -0.76621 C -0.15087 -0.7463 -0.15295 -0.73195 -0.14288 -0.71875 C -0.13437 -0.69607 -0.12465 -0.67315 -0.11909 -0.64884 C -0.11909 -0.64884 -0.11493 -0.63218 -0.11441 -0.63148 C -0.11232 -0.62755 -0.10833 -0.62014 -0.10833 -0.62014 C -0.10607 -0.60996 -0.1092 -0.62153 -0.10364 -0.61088 C -0.10208 -0.60764 -0.10156 -0.60417 -0.1 -0.60139 C -0.09791 -0.59097 -0.09375 -0.58148 -0.08941 -0.57292 C -0.08732 -0.56042 -0.08177 -0.55371 -0.07621 -0.54421 C -0.07361 -0.53033 -0.0776 -0.54445 -0.07031 -0.53472 C -0.06944 -0.53357 -0.06996 -0.53102 -0.06909 -0.52963 C -0.06788 -0.52778 -0.06597 -0.52685 -0.06441 -0.525 C -0.06284 -0.51898 -0.05833 -0.50764 -0.05833 -0.50764 C -0.05729 -0.49306 -0.05503 -0.49144 -0.05243 -0.47917 C -0.04843 -0.45972 -0.04201 -0.43611 -0.02986 -0.42338 C -0.02656 -0.41505 -0.02743 -0.40648 -0.025 -0.39792 C -0.02291 -0.39074 -0.01857 -0.38449 -0.01441 -0.37917 C -0.01302 -0.37222 -0.00989 -0.36945 -0.00833 -0.36296 C -0.00642 -0.34306 -0.0026 -0.32408 0.00104 -0.30463 C 0.00295 -0.29468 0.00243 -0.28496 0.00573 -0.2757 C 0.00764 -0.26505 0.01059 -0.25232 0.01424 -0.24236 C 0.01459 -0.2382 0.01441 -0.2338 0.01545 -0.22963 C 0.01597 -0.22755 0.01823 -0.22685 0.01893 -0.22523 C 0.02743 -0.20208 0.01198 -0.23171 0.02379 -0.21088 C 0.02535 -0.20046 0.02535 -0.18773 0.02969 -0.17917 C 0.03316 -0.16158 0.03143 -0.14306 0.03438 -0.12523 C 0.03386 -0.10903 0.03264 -0.09329 0.03212 -0.07755 C 0.03143 -0.05718 0.03282 -0.03727 0.03091 -0.01736 C 0.03091 -0.01644 0.01372 -0.00671 0.01181 -0.00602 C 0.01094 -0.00463 0.01059 -0.00255 0.00938 -0.00139 C 0.00712 0.00046 0.00226 0.00185 0.00226 0.00185 C -0.00486 1.48148000000004E-006 -0.00573 0.00023 -4.44444E-006 0.00023 Z">
                                      <p:cBhvr>
                                        <p:cTn id="125" dur="3000" fill="hold"/>
                                        <p:tgtEl>
                                          <p:spTgt spid="69"/>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5">
                                  <p:stCondLst>
                                    <p:cond delay="0"/>
                                  </p:stCondLst>
                                  <p:childTnLst>
                                    <p:set>
                                      <p:cBhvr>
                                        <p:cTn id="129" dur="1" fill="hold">
                                          <p:stCondLst>
                                            <p:cond delay="0"/>
                                          </p:stCondLst>
                                        </p:cTn>
                                        <p:tgtEl>
                                          <p:spTgt spid="71"/>
                                        </p:tgtEl>
                                        <p:attrNameLst>
                                          <p:attrName>style.visibility</p:attrName>
                                        </p:attrNameLst>
                                      </p:cBhvr>
                                      <p:to>
                                        <p:strVal val="visible"/>
                                      </p:to>
                                    </p:set>
                                    <p:animEffect filter="fade" transition="in">
                                      <p:cBhvr additive="repl">
                                        <p:cTn id="130" dur="2000"/>
                                        <p:tgtEl>
                                          <p:spTgt spid="71"/>
                                        </p:tgtEl>
                                      </p:cBhvr>
                                    </p:animEffect>
                                    <p:anim calcmode="lin" valueType="num">
                                      <p:cBhvr additive="repl">
                                        <p:cTn id="131" dur="2000" fill="hold"/>
                                        <p:tgtEl>
                                          <p:spTgt spid="71"/>
                                        </p:tgtEl>
                                        <p:attrNameLst>
                                          <p:attrName>r</p:attrName>
                                        </p:attrNameLst>
                                      </p:cBhvr>
                                      <p:tavLst>
                                        <p:tav tm="0">
                                          <p:val>
                                            <p:strVal val="720"/>
                                          </p:val>
                                        </p:tav>
                                        <p:tav tm="100000">
                                          <p:val>
                                            <p:strVal val="0"/>
                                          </p:val>
                                        </p:tav>
                                      </p:tavLst>
                                    </p:anim>
                                    <p:anim calcmode="lin" valueType="num">
                                      <p:cBhvr additive="repl">
                                        <p:cTn id="132" dur="2000" fill="hold"/>
                                        <p:tgtEl>
                                          <p:spTgt spid="71"/>
                                        </p:tgtEl>
                                        <p:attrNameLst>
                                          <p:attrName>ppt_h</p:attrName>
                                        </p:attrNameLst>
                                      </p:cBhvr>
                                      <p:tavLst>
                                        <p:tav tm="0">
                                          <p:val>
                                            <p:fltVal val="0"/>
                                          </p:val>
                                        </p:tav>
                                        <p:tav tm="100000">
                                          <p:val>
                                            <p:strVal val="#ppt_h"/>
                                          </p:val>
                                        </p:tav>
                                      </p:tavLst>
                                    </p:anim>
                                    <p:anim calcmode="lin" valueType="num">
                                      <p:cBhvr additive="repl">
                                        <p:cTn id="133" dur="2000" fill="hold"/>
                                        <p:tgtEl>
                                          <p:spTgt spid="71"/>
                                        </p:tgtEl>
                                        <p:attrNameLst>
                                          <p:attrName>ppt_w</p:attrName>
                                        </p:attrNameLst>
                                      </p:cBhvr>
                                      <p:tavLst>
                                        <p:tav tm="0">
                                          <p:val>
                                            <p:fltVal val="0"/>
                                          </p:val>
                                        </p:tav>
                                        <p:tav tm="100000">
                                          <p:val>
                                            <p:strVal val="#ppt_w"/>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72">
                                            <p:txEl>
                                              <p:pRg st="0" end="0"/>
                                            </p:txEl>
                                          </p:spTgt>
                                        </p:tgtEl>
                                        <p:attrNameLst>
                                          <p:attrName>style.visibility</p:attrName>
                                        </p:attrNameLst>
                                      </p:cBhvr>
                                      <p:to>
                                        <p:strVal val="visible"/>
                                      </p:to>
                                    </p:set>
                                    <p:animScale>
                                      <p:cBhvr>
                                        <p:cTn id="138" dur="1000" fill="hold">
                                          <p:stCondLst>
                                            <p:cond delay="0"/>
                                          </p:stCondLst>
                                        </p:cTn>
                                        <p:tgtEl>
                                          <p:spTgt spid="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72">
                                            <p:txEl>
                                              <p:pRg st="0" end="0"/>
                                            </p:txEl>
                                          </p:spTgt>
                                        </p:tgtEl>
                                      </p:cBhvr>
                                    </p:animMotion>
                                    <p:animEffect filter="fade" transition="in">
                                      <p:cBhvr additive="repl">
                                        <p:cTn id="140" dur="1000"/>
                                        <p:tgtEl>
                                          <p:spTgt spid="72">
                                            <p:txEl>
                                              <p:pRg st="0" end="0"/>
                                            </p:txEl>
                                          </p:spTgt>
                                        </p:tgtEl>
                                      </p:cBhvr>
                                    </p:animEffect>
                                  </p:childTnLst>
                                </p:cTn>
                              </p:par>
                              <p:par>
                                <p:cTn id="141" nodeType="withEffect" fill="hold" presetClass="entr" presetID="52">
                                  <p:stCondLst>
                                    <p:cond delay="0"/>
                                  </p:stCondLst>
                                  <p:childTnLst>
                                    <p:set>
                                      <p:cBhvr>
                                        <p:cTn id="142" dur="1" fill="hold">
                                          <p:stCondLst>
                                            <p:cond delay="0"/>
                                          </p:stCondLst>
                                        </p:cTn>
                                        <p:tgtEl>
                                          <p:spTgt spid="72">
                                            <p:txEl>
                                              <p:pRg st="1" end="1"/>
                                            </p:txEl>
                                          </p:spTgt>
                                        </p:tgtEl>
                                        <p:attrNameLst>
                                          <p:attrName>style.visibility</p:attrName>
                                        </p:attrNameLst>
                                      </p:cBhvr>
                                      <p:to>
                                        <p:strVal val="visible"/>
                                      </p:to>
                                    </p:set>
                                    <p:animScale>
                                      <p:cBhvr>
                                        <p:cTn id="143" dur="1000" fill="hold">
                                          <p:stCondLst>
                                            <p:cond delay="0"/>
                                          </p:stCondLst>
                                        </p:cTn>
                                        <p:tgtEl>
                                          <p:spTgt spid="7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72">
                                            <p:txEl>
                                              <p:pRg st="1" end="1"/>
                                            </p:txEl>
                                          </p:spTgt>
                                        </p:tgtEl>
                                      </p:cBhvr>
                                    </p:animMotion>
                                    <p:animEffect filter="fade" transition="in">
                                      <p:cBhvr additive="repl">
                                        <p:cTn id="145" dur="1000"/>
                                        <p:tgtEl>
                                          <p:spTgt spid="72">
                                            <p:txEl>
                                              <p:pRg st="1" end="1"/>
                                            </p:txEl>
                                          </p:spTgt>
                                        </p:tgtEl>
                                      </p:cBhvr>
                                    </p:animEffect>
                                  </p:childTnLst>
                                </p:cTn>
                              </p:par>
                              <p:par>
                                <p:cTn id="146" nodeType="withEffect" fill="hold" presetClass="entr" presetID="52">
                                  <p:stCondLst>
                                    <p:cond delay="0"/>
                                  </p:stCondLst>
                                  <p:childTnLst>
                                    <p:set>
                                      <p:cBhvr>
                                        <p:cTn id="147" dur="1" fill="hold">
                                          <p:stCondLst>
                                            <p:cond delay="0"/>
                                          </p:stCondLst>
                                        </p:cTn>
                                        <p:tgtEl>
                                          <p:spTgt spid="72">
                                            <p:txEl>
                                              <p:pRg st="2" end="2"/>
                                            </p:txEl>
                                          </p:spTgt>
                                        </p:tgtEl>
                                        <p:attrNameLst>
                                          <p:attrName>style.visibility</p:attrName>
                                        </p:attrNameLst>
                                      </p:cBhvr>
                                      <p:to>
                                        <p:strVal val="visible"/>
                                      </p:to>
                                    </p:set>
                                    <p:animScale>
                                      <p:cBhvr>
                                        <p:cTn id="148" dur="1000" fill="hold">
                                          <p:stCondLst>
                                            <p:cond delay="0"/>
                                          </p:stCondLst>
                                        </p:cTn>
                                        <p:tgtEl>
                                          <p:spTgt spid="7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72">
                                            <p:txEl>
                                              <p:pRg st="2" end="2"/>
                                            </p:txEl>
                                          </p:spTgt>
                                        </p:tgtEl>
                                      </p:cBhvr>
                                    </p:animMotion>
                                    <p:animEffect filter="fade" transition="in">
                                      <p:cBhvr additive="repl">
                                        <p:cTn id="150"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fferences were there between expectations for boys vs. girls?</a:t>
            </a:r>
            <a:endParaRPr b="0" lang="en-US" sz="4000" spc="-1" strike="noStrike">
              <a:solidFill>
                <a:srgbClr val="000000"/>
              </a:solidFill>
              <a:latin typeface="Arial"/>
            </a:endParaRPr>
          </a:p>
        </p:txBody>
      </p:sp>
      <p:sp>
        <p:nvSpPr>
          <p:cNvPr id="74"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young girls, boys had a few qualities for their own imagin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worked as apprentices outside the home, practicing skills such as carpentry, farm work, and craf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also allowed to explore the outdoors, hunting and fishing. On the other hand, girls were expected to tend to the house, helping their mother’s cook, wash, clean, and sew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4" descr="Scotts"/>
          <p:cNvPicPr/>
          <p:nvPr/>
        </p:nvPicPr>
        <p:blipFill>
          <a:blip r:embed="rId1"/>
          <a:stretch/>
        </p:blipFill>
        <p:spPr>
          <a:xfrm>
            <a:off x="7162920" y="5130720"/>
            <a:ext cx="1981080" cy="1727280"/>
          </a:xfrm>
          <a:prstGeom prst="rect">
            <a:avLst/>
          </a:prstGeom>
          <a:ln w="0">
            <a:noFill/>
          </a:ln>
        </p:spPr>
      </p:pic>
    </p:spTree>
  </p:cSld>
  <p:transition>
    <p:push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5.55556E-007 7.40741E-007 C -0.01025 0.0088 -0.02309 0.00324 -0.03455 7.40741E-007 C -0.04618 -0.0081 -0.06077 -0.01296 -0.07379 -0.01597 C -0.075 -0.01643 -0.07622 -0.01689 -0.07726 -0.01759 C -0.07848 -0.01852 -0.07952 -0.02014 -0.08091 -0.02083 C -0.08681 -0.02407 -0.0941 -0.02453 -0.1 -0.0287 C -0.1073 -0.03379 -0.11233 -0.0412 -0.12014 -0.04444 C -0.12379 -0.0493 -0.12605 -0.05208 -0.13091 -0.05416 C -0.13785 -0.06643 -0.1408 -0.0706 -0.14879 -0.08102 C -0.15226 -0.09514 -0.15521 -0.10115 -0.16546 -0.1081 C -0.16945 -0.11828 -0.17223 -0.13264 -0.18091 -0.13657 C -0.18577 -0.14629 -0.19289 -0.15231 -0.20139 -0.15555 C -0.20521 -0.15509 -0.20938 -0.15602 -0.21302 -0.15416 C -0.21424 -0.1537 -0.21424 -0.15092 -0.21424 -0.1493 C -0.21424 -0.14213 -0.21233 -0.13611 -0.20955 -0.13032 C -0.20747 -0.11597 -0.20625 -0.11898 -0.19514 -0.12083 C -0.19341 -0.12731 -0.19254 -0.13125 -0.18802 -0.13495 C -0.18577 -0.14699 -0.18386 -0.15972 -0.18091 -0.17152 C -0.18125 -0.18055 -0.17639 -0.19398 -0.18212 -0.19861 C -0.19028 -0.20509 -0.21059 -0.19537 -0.21059 -0.19537 C -0.21302 -0.19467 -0.21997 -0.19305 -0.22014 -0.19213 C -0.22066 -0.18958 -0.22014 -0.18634 -0.21893 -0.18426 C -0.21719 -0.18125 -0.21181 -0.17777 -0.21181 -0.17777 C -0.20695 -0.18009 -0.20243 -0.18264 -0.19879 -0.1875 C -0.19514 -0.19236 -0.19757 -0.19259 -0.19289 -0.19699 C -0.18993 -0.19977 -0.18646 -0.20092 -0.18334 -0.20324 C -0.17952 -0.21157 -0.17535 -0.21458 -0.17014 -0.22083 C -0.16719 -0.2243 -0.16181 -0.23194 -0.16181 -0.23194 C -0.15556 -0.24907 -0.1566 -0.26921 -0.16059 -0.2875 C -0.16823 -0.28402 -0.16459 -0.27731 -0.16684 -0.26828 C -0.16615 -0.25694 -0.16945 -0.24213 -0.16059 -0.23819 C -0.15886 -0.24652 -0.15573 -0.25578 -0.15122 -0.26203 C -0.14844 -0.27338 -0.15018 -0.26875 -0.14636 -0.27639 C -0.14514 -0.28217 -0.14323 -0.28657 -0.14167 -0.29213 C -0.1408 -0.30023 -0.13959 -0.3081 -0.13802 -0.31597 C -0.13733 -0.32291 -0.13611 -0.32963 -0.13559 -0.33657 C -0.13421 -0.35231 -0.13716 -0.35602 -0.12848 -0.36365 C -0.12257 -0.36319 -0.1165 -0.36319 -0.11059 -0.36203 C -0.10157 -0.36041 -0.09375 -0.35555 -0.08455 -0.35416 C -0.075 -0.3493 -0.0665 -0.34375 -0.05712 -0.33819 C -0.05157 -0.33078 -0.04861 -0.32546 -0.04393 -0.31759 C -0.04427 -0.30902 -0.04445 -0.30069 -0.04514 -0.29213 C -0.04566 -0.28564 -0.05035 -0.28078 -0.05226 -0.27477 C -0.05417 -0.26875 -0.05296 -0.26041 -0.05834 -0.25717 C -0.06216 -0.25486 -0.07205 -0.25347 -0.07622 -0.25254 C -0.09879 -0.25463 -0.1073 -0.25 -0.12257 -0.26365 C -0.12414 -0.27129 -0.12622 -0.27639 -0.12969 -0.28264 C -0.13438 -0.30671 -0.13177 -0.29375 -0.16546 -0.29213 C -0.1757 -0.29328 -0.18629 -0.29259 -0.19636 -0.29537 C -0.19775 -0.29583 -0.19462 -0.29838 -0.19393 -0.3 C -0.19306 -0.30162 -0.19236 -0.30324 -0.19167 -0.30486 C -0.18855 -0.31227 -0.18716 -0.31551 -0.18212 -0.32083 C -0.18143 -0.32338 -0.17917 -0.33217 -0.17848 -0.33333 C -0.17657 -0.33611 -0.17136 -0.33981 -0.17136 -0.33981 C -0.16893 -0.34444 -0.16546 -0.34791 -0.16302 -0.35254 C -0.16025 -0.35764 -0.1599 -0.36365 -0.15608 -0.36828 C -0.15382 -0.37083 -0.15105 -0.37245 -0.14879 -0.37477 C -0.14393 -0.37963 -0.1408 -0.3875 -0.13681 -0.39375 C -0.13143 -0.41273 -0.12657 -0.41296 -0.11302 -0.42083 C -0.11094 -0.43703 -0.11025 -0.43958 -0.09879 -0.44606 C -0.09427 -0.46134 -0.09966 -0.44814 -0.08802 -0.46041 C -0.08646 -0.46203 -0.08594 -0.46481 -0.08455 -0.46666 C -0.08351 -0.46805 -0.08212 -0.46875 -0.08091 -0.4699 C -0.08004 -0.47152 -0.07952 -0.47338 -0.07848 -0.47477 C -0.07743 -0.47615 -0.07587 -0.47639 -0.075 -0.47777 C -0.07414 -0.47916 -0.07448 -0.48125 -0.07379 -0.48264 C -0.07153 -0.48727 -0.06181 -0.49699 -0.05834 -0.5 C -0.05296 -0.50463 -0.0441 -0.50532 -0.03802 -0.50648 C -0.0198 -0.51527 -0.00018 -0.51458 0.01909 -0.51597 C 0.04618 -0.52685 0.02777 -0.52129 0.06909 -0.52384 C 0.09687 -0.52546 0.12465 -0.52893 0.15243 -0.53194 C 0.16232 -0.52939 0.17187 -0.53148 0.17743 -0.52083 C 0.17639 -0.51018 0.17829 -0.49791 0.17378 -0.48889 C 0.16909 -0.47963 0.16215 -0.4706 0.15833 -0.46041 C 0.15677 -0.45648 0.15659 -0.45162 0.15486 -0.44768 C 0.15416 -0.44606 0.15225 -0.44583 0.15121 -0.44444 C 0.14531 -0.43657 0.14236 -0.42754 0.13576 -0.42083 C 0.13281 -0.41481 0.12882 -0.41157 0.125 -0.40648 C 0.11753 -0.39652 0.11423 -0.38912 0.10364 -0.38426 C 0.09531 -0.37314 0.08524 -0.36736 0.075 -0.36041 C 0.06961 -0.35324 0.06545 -0.34676 0.05833 -0.34305 C 0.05486 -0.3412 0.04774 -0.33819 0.04774 -0.33819 C 0.04514 -0.33472 0.04323 -0.33032 0.04045 -0.32708 C 0.0368 -0.32291 0.03159 -0.32106 0.02864 -0.31597 C 0.02361 -0.30717 0.02673 -0.31111 0.01909 -0.30486 C 0.01545 -0.29768 0.01128 -0.29259 0.00607 -0.2875 C 0.00277 -0.28102 -0.00469 -0.27801 0.00486 -0.28426 C 0.00451 -0.28588 0.00486 -0.28865 0.00364 -0.28889 C -0.00191 -0.28981 -0.00747 -0.28564 -0.01302 -0.28426 C -0.02101 -0.27708 -0.01146 -0.28495 -0.02622 -0.27777 C -0.03073 -0.27569 -0.03473 -0.27222 -0.03924 -0.2699 C -0.0474 -0.26134 -0.05573 -0.25833 -0.06546 -0.25416 C -0.0724 -0.24444 -0.0783 -0.24467 -0.08802 -0.24143 C -0.09931 -0.23773 -0.09861 -0.23379 -0.11181 -0.23194 C -0.12396 -0.22477 -0.12257 -0.22245 -0.13681 -0.22083 C -0.14705 -0.21481 -0.15695 -0.21111 -0.16789 -0.2081 C -0.18455 -0.19676 -0.16302 -0.21018 -0.18924 -0.2 C -0.1915 -0.19907 -0.19289 -0.19629 -0.19514 -0.19537 C -0.19861 -0.19398 -0.20226 -0.19421 -0.20591 -0.19375 C -0.22205 -0.1875 -0.2382 -0.18078 -0.25469 -0.17777 C -0.26754 -0.17291 -0.28455 -0.17291 -0.29757 -0.17152 C -0.31407 -0.16967 -0.32986 -0.16666 -0.34636 -0.16527 C -0.39063 -0.16759 -0.43438 -0.17037 -0.47848 -0.17314 C -0.50903 -0.18055 -0.53976 -0.18703 -0.57014 -0.19537 C -0.58108 -0.20254 -0.59098 -0.20926 -0.60122 -0.21759 C -0.60643 -0.22801 -0.61111 -0.2375 -0.61789 -0.24606 C -0.61962 -0.25347 -0.62066 -0.26111 -0.62257 -0.26828 C -0.62223 -0.28889 -0.62257 -0.30972 -0.62136 -0.33032 C -0.61962 -0.35856 -0.61337 -0.35625 -0.59879 -0.3699 C -0.59601 -0.36944 -0.59271 -0.3706 -0.59046 -0.36828 C -0.58855 -0.3662 -0.58889 -0.36203 -0.58802 -0.35879 C -0.58629 -0.35162 -0.58125 -0.3449 -0.57726 -0.33981 C -0.57275 -0.32708 -0.56875 -0.31504 -0.56546 -0.30162 C -0.56355 -0.2706 -0.5632 -0.25439 -0.56424 -0.21921 C -0.56476 -0.19907 -0.56511 -0.18541 -0.56667 -0.16666 C -0.56736 -0.15879 -0.56546 -0.14953 -0.56893 -0.14305 C -0.57587 -0.13032 -0.57327 -0.13588 -0.57726 -0.12708 C -0.579 -0.13842 -0.57917 -0.13148 -0.57622 -0.14143 C -0.57535 -0.14444 -0.57379 -0.15092 -0.57379 -0.15092 C -0.57257 -0.17083 -0.56962 -0.18611 -0.56546 -0.20486 C -0.56441 -0.20926 -0.56355 -0.22014 -0.56181 -0.22384 C -0.55799 -0.23194 -0.55539 -0.23287 -0.55 -0.23657 C -0.5448 -0.24583 -0.54601 -0.25231 -0.53802 -0.25717 C -0.53646 -0.2493 -0.53455 -0.23333 -0.53455 -0.23333 C -0.53629 -0.20602 -0.53646 -0.21967 -0.53802 -0.23032 C -0.54289 -0.22592 -0.54271 -0.22129 -0.54514 -0.21435 C -0.5448 -0.20856 -0.54549 -0.20231 -0.54393 -0.19699 C -0.54306 -0.19398 -0.54358 -0.20347 -0.54289 -0.20648 C -0.54236 -0.20833 -0.54115 -0.20949 -0.54046 -0.21111 C -0.53594 -0.22129 -0.53629 -0.23194 -0.53091 -0.24143 C -0.52761 -0.2537 -0.52552 -0.26365 -0.51546 -0.26666 C -0.51216 -0.2581 -0.51181 -0.2493 -0.51059 -0.23981 C -0.51094 -0.22384 -0.51111 -0.2081 -0.51181 -0.19213 C -0.51198 -0.18842 -0.5132 -0.17731 -0.51302 -0.18102 C -0.5125 -0.19953 -0.51632 -0.22037 -0.50955 -0.23657 C -0.50486 -0.24768 -0.49566 -0.26805 -0.48802 -0.27477 C -0.4816 -0.27176 -0.4816 -0.26504 -0.47969 -0.25717 C -0.47848 -0.22986 -0.48299 -0.22407 -0.46546 -0.21597 C -0.46094 -0.2199 -0.45452 -0.22477 -0.45122 -0.23032 C -0.44497 -0.24097 -0.4448 -0.24699 -0.44046 -0.25717 C -0.43664 -0.26597 -0.4316 -0.27384 -0.42622 -0.28102 C -0.42535 -0.28356 -0.4257 -0.28773 -0.42379 -0.28889 C -0.42257 -0.28981 -0.42205 -0.28588 -0.42136 -0.28426 C -0.4191 -0.27824 -0.41858 -0.27014 -0.41789 -0.26365 C -0.41823 -0.25578 -0.41806 -0.24768 -0.41893 -0.23981 C -0.4191 -0.23819 -0.41997 -0.24282 -0.42014 -0.24444 C -0.42084 -0.25092 -0.42032 -0.2574 -0.42136 -0.26365 C -0.42171 -0.26551 -0.42292 -0.26666 -0.42379 -0.26828 C -0.42986 -0.26296 -0.43247 -0.24953 -0.43559 -0.24143 C -0.43733 -0.23703 -0.4408 -0.23426 -0.44289 -0.23032 C -0.44601 -0.2243 -0.44827 -0.21666 -0.45 -0.20972 C -0.4474 -0.19606 -0.44723 -0.20787 -0.44393 -0.21435 C -0.44289 -0.2243 -0.43872 -0.23865 -0.43212 -0.24444 C -0.43091 -0.24722 -0.42952 -0.24977 -0.42848 -0.25254 C -0.42796 -0.25393 -0.42726 -0.25879 -0.42726 -0.25717 C -0.42726 -0.25347 -0.42813 -0.24977 -0.42848 -0.24606 C -0.4316 -0.20764 -0.42674 -0.22176 -0.43334 -0.20486 C -0.43403 -0.19537 -0.43577 -0.18426 -0.43334 -0.17477 C -0.43247 -0.17106 -0.42848 -0.16527 -0.42848 -0.16527 C -0.42361 -0.16944 -0.42309 -0.17546 -0.41893 -0.18102 C -0.41667 -0.18402 -0.41407 -0.18611 -0.41181 -0.18889 C -0.40799 -0.20254 -0.40087 -0.21319 -0.39514 -0.22546 C -0.39271 -0.2449 -0.38629 -0.26227 -0.37726 -0.27777 C -0.37691 -0.27986 -0.37674 -0.28217 -0.37622 -0.28426 C -0.3757 -0.28657 -0.37431 -0.28819 -0.37379 -0.29051 C -0.37309 -0.29421 -0.37309 -0.29791 -0.37257 -0.30162 C -0.3724 -0.30324 -0.37171 -0.30486 -0.37136 -0.30648 C -0.37171 -0.31435 -0.37153 -0.32245 -0.37257 -0.33032 C -0.37275 -0.33194 -0.37344 -0.32708 -0.37379 -0.32546 C -0.37431 -0.32291 -0.37448 -0.32014 -0.375 -0.31759 C -0.37639 -0.30972 -0.37587 -0.31227 -0.37848 -0.30486 C -0.38004 -0.27639 -0.38316 -0.25717 -0.39289 -0.23194 C -0.39393 -0.22083 -0.39497 -0.20787 -0.39636 -0.19699 C -0.39671 -0.19375 -0.39879 -0.1875 -0.39879 -0.1875 C -0.39844 -0.18264 -0.40122 -0.17245 -0.39757 -0.17314 C -0.39323 -0.17407 -0.39427 -0.18426 -0.39167 -0.18889 C -0.38646 -0.19814 -0.38976 -0.19421 -0.38091 -0.2 C -0.37587 -0.20694 -0.37171 -0.21875 -0.36667 -0.22384 C -0.34931 -0.24166 -0.36146 -0.22569 -0.35122 -0.23981 C -0.34914 -0.24768 -0.34393 -0.25208 -0.34046 -0.25879 C -0.33733 -0.27129 -0.33837 -0.26504 -0.33681 -0.27777 C -0.3375 -0.30463 -0.329 -0.34074 -0.35 -0.32222 C -0.35313 -0.30995 -0.35938 -0.30115 -0.36424 -0.29051 C -0.37535 -0.26574 -0.37778 -0.23611 -0.38091 -0.2081 C -0.38056 -0.19328 -0.38056 -0.17847 -0.37969 -0.16365 C -0.37934 -0.15926 -0.37726 -0.15092 -0.37726 -0.15092 C -0.37136 -0.16296 -0.37361 -0.17824 -0.37136 -0.19213 C -0.3698 -0.20115 -0.3698 -0.20023 -0.36667 -0.21111 C -0.36546 -0.21551 -0.36198 -0.21805 -0.36059 -0.22222 C -0.35504 -0.23981 -0.35243 -0.24768 -0.34046 -0.25879 C -0.33959 -0.24514 -0.33872 -0.23773 -0.33559 -0.22546 C -0.33421 -0.22014 -0.3323 -0.21504 -0.33091 -0.20972 C -0.33039 -0.20764 -0.32796 -0.20324 -0.32969 -0.20324 C -0.33125 -0.20324 -0.33247 -0.21273 -0.33334 -0.21435 C -0.33542 -0.21782 -0.34046 -0.22384 -0.34046 -0.22384 C -0.34184 -0.23356 -0.34514 -0.23981 -0.35226 -0.24305 C -0.35955 -0.23657 -0.36198 -0.22106 -0.36424 -0.20972 C -0.36337 -0.18819 -0.36528 -0.17662 -0.35712 -0.16041 C -0.35087 -0.17291 -0.34775 -0.1875 -0.34167 -0.2 C -0.34132 -0.20486 -0.3441 -0.21435 -0.34046 -0.21435 C -0.33681 -0.21435 -0.34098 -0.20416 -0.33924 -0.2 C -0.33837 -0.19745 -0.33855 -0.20532 -0.33802 -0.2081 C -0.33768 -0.20972 -0.33733 -0.21134 -0.33681 -0.21273 C -0.33438 -0.21944 -0.32952 -0.22268 -0.32622 -0.2287 C -0.32414 -0.23935 -0.32622 -0.23333 -0.31789 -0.24444 C -0.31528 -0.24791 -0.31528 -0.25347 -0.31302 -0.25717 C -0.31025 -0.26157 -0.30608 -0.2625 -0.30226 -0.26365 C -0.29861 -0.25578 -0.30035 -0.24745 -0.29636 -0.23981 C -0.29341 -0.21319 -0.29671 -0.18541 -0.3 -0.15879 C -0.30052 -0.15439 -0.30226 -0.15046 -0.30226 -0.14606 C -0.30226 -0.14375 -0.30087 -0.15046 -0.3 -0.15254 C -0.29931 -0.15416 -0.29809 -0.15555 -0.29757 -0.15717 C -0.29219 -0.17268 -0.2908 -0.18379 -0.28212 -0.19537 C -0.28056 -0.20277 -0.28039 -0.21111 -0.27726 -0.21759 C -0.27171 -0.22893 -0.26372 -0.23796 -0.26059 -0.25092 C -0.25747 -0.26319 -0.25834 -0.27592 -0.24879 -0.28264 C -0.23542 -0.27662 -0.24167 -0.28125 -0.24636 -0.23819 C -0.24688 -0.23356 -0.24966 -0.22986 -0.25122 -0.22546 C -0.25539 -0.21342 -0.25955 -0.20139 -0.26302 -0.18889 C -0.26528 -0.17176 -0.26528 -0.17291 -0.26424 -0.15092 C -0.25955 -0.15231 -0.2533 -0.15069 -0.25 -0.15555 C -0.24792 -0.15879 -0.2474 -0.16365 -0.24514 -0.16666 C -0.24289 -0.16967 -0.23924 -0.17037 -0.23681 -0.17314 C -0.23299 -0.17731 -0.22969 -0.18264 -0.22622 -0.1875 C -0.22466 -0.19004 -0.22327 -0.19305 -0.22136 -0.19537 C -0.21875 -0.19838 -0.21302 -0.20324 -0.21302 -0.20324 C -0.21077 -0.21227 -0.20903 -0.22083 -0.21059 -0.2 C -0.275 -0.20185 -0.33768 -0.20393 -0.40122 -0.20972 C -0.41007 -0.2118 -0.41823 -0.21713 -0.42726 -0.21921 C -0.42309 -0.23078 -0.42743 -0.22222 -0.41546 -0.23032 C -0.4066 -0.23634 -0.40035 -0.24537 -0.39046 -0.2493 C -0.37483 -0.25555 -0.35868 -0.25879 -0.34289 -0.26365 C -0.32813 -0.27361 -0.31424 -0.28611 -0.29879 -0.29375 C -0.24896 -0.31805 -0.19549 -0.32477 -0.14514 -0.34606 C -0.11945 -0.35694 -0.09549 -0.37361 -0.07014 -0.38588 C -0.0415 -0.39953 -0.0125 -0.41203 0.01666 -0.42384 C 0.04114 -0.43379 0.06632 -0.43981 0.09045 -0.45092 C 0.10659 -0.45833 0.12083 -0.47222 0.13698 -0.47939 C 0.15034 -0.48541 0.16475 -0.48657 0.17864 -0.49051 C 0.18385 -0.49189 0.18889 -0.49398 0.19409 -0.49537 C 0.19652 -0.49606 0.20347 -0.49791 0.20121 -0.49699 C 0.18073 -0.48935 0.15711 -0.48564 0.13941 -0.46828 C 0.12795 -0.45694 0.11736 -0.4375 0.10711 -0.42384 C 0.10711 -0.42314 0.10625 -0.41203 0.10486 -0.40972 C 0.10191 -0.40509 0.09791 -0.40277 0.09531 -0.39699 C 0.09045 -0.38611 0.09062 -0.37268 0.08576 -0.36203 C 0.08177 -0.35324 0.07604 -0.34629 0.07152 -0.33819 C 0.06493 -0.32615 0.07152 -0.33032 0.06441 -0.32708 C 0.05642 -0.31689 0.05416 -0.30463 0.04878 -0.29213 C 0.04791 -0.29027 0.04618 -0.28935 0.04531 -0.2875 C 0.03194 -0.25972 0.04826 -0.28958 0.03698 -0.26203 C 0.01805 -0.21574 0.03177 -0.2574 0.02274 -0.2287 C 0.0217 -0.21435 0.02118 -0.20879 0.01666 -0.19699 C 0.01632 -0.19282 0.01632 -0.18842 0.01545 -0.18426 C 0.0151 -0.1824 0.01354 -0.18125 0.01319 -0.17939 C 0.01198 -0.17314 0.01232 -0.16643 0.01076 -0.16041 C 0.01041 -0.15879 0.00989 -0.15717 0.00954 -0.15555 C 0.00746 -0.13125 0.01007 -0.10648 0.00607 -0.08264 C 0.00764 -0.07361 0.00746 -0.06597 0.00121 -0.06041 C 0.00225 -0.05162 0.00225 -0.04398 0.00607 -0.03657 C 0.00746 -0.02824 0.00694 -0.02083 0.00486 -0.01273 C 0.00555 -0.00578 0.00538 0.00139 0.00711 0.00787 C 0.01111 0.02246 0.02118 0.0301 0.01198 0.02223 C 0.01163 0.02061 0.01163 0.01852 0.01076 0.01736 C 0.00764 0.0132 0.00486 0.01945 0.00486 0.00787 E">
                                      <p:cBhvr>
                                        <p:cTn id="156" dur="5000" fill="hold"/>
                                        <p:tgtEl>
                                          <p:spTgt spid="75"/>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73"/>
                                        </p:tgtEl>
                                        <p:attrNameLst>
                                          <p:attrName>style.visibility</p:attrName>
                                        </p:attrNameLst>
                                      </p:cBhvr>
                                      <p:to>
                                        <p:strVal val="visible"/>
                                      </p:to>
                                    </p:set>
                                    <p:animEffect filter="fade" transition="in">
                                      <p:cBhvr additive="repl">
                                        <p:cTn id="161" dur="2000"/>
                                        <p:tgtEl>
                                          <p:spTgt spid="7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74">
                                            <p:txEl>
                                              <p:pRg st="0" end="0"/>
                                            </p:txEl>
                                          </p:spTgt>
                                        </p:tgtEl>
                                        <p:attrNameLst>
                                          <p:attrName>style.visibility</p:attrName>
                                        </p:attrNameLst>
                                      </p:cBhvr>
                                      <p:to>
                                        <p:strVal val="visible"/>
                                      </p:to>
                                    </p:set>
                                    <p:animEffect filter="fade" transition="in">
                                      <p:cBhvr additive="repl">
                                        <p:cTn id="166" dur="2000"/>
                                        <p:tgtEl>
                                          <p:spTgt spid="74">
                                            <p:txEl>
                                              <p:pRg st="0" end="0"/>
                                            </p:txEl>
                                          </p:spTgt>
                                        </p:tgtEl>
                                      </p:cBhvr>
                                    </p:animEffect>
                                    <p:anim calcmode="lin" valueType="num">
                                      <p:cBhvr additive="repl">
                                        <p:cTn id="167" dur="2000" fill="hold"/>
                                        <p:tgtEl>
                                          <p:spTgt spid="74">
                                            <p:txEl>
                                              <p:pRg st="0" end="0"/>
                                            </p:txEl>
                                          </p:spTgt>
                                        </p:tgtEl>
                                        <p:attrNameLst>
                                          <p:attrName>r</p:attrName>
                                        </p:attrNameLst>
                                      </p:cBhvr>
                                      <p:tavLst>
                                        <p:tav tm="0">
                                          <p:val>
                                            <p:strVal val="720"/>
                                          </p:val>
                                        </p:tav>
                                        <p:tav tm="100000">
                                          <p:val>
                                            <p:strVal val="0"/>
                                          </p:val>
                                        </p:tav>
                                      </p:tavLst>
                                    </p:anim>
                                    <p:anim calcmode="lin" valueType="num">
                                      <p:cBhvr additive="repl">
                                        <p:cTn id="168" dur="2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74">
                                            <p:txEl>
                                              <p:pRg st="0" end="0"/>
                                            </p:txEl>
                                          </p:spTgt>
                                        </p:tgtEl>
                                        <p:attrNameLst>
                                          <p:attrName>ppt_w</p:attrName>
                                        </p:attrNameLst>
                                      </p:cBhvr>
                                      <p:tavLst>
                                        <p:tav tm="0">
                                          <p:val>
                                            <p:fltVal val="0"/>
                                          </p:val>
                                        </p:tav>
                                        <p:tav tm="100000">
                                          <p:val>
                                            <p:strVal val="#ppt_w"/>
                                          </p:val>
                                        </p:tav>
                                      </p:tavLst>
                                    </p:anim>
                                  </p:childTnLst>
                                </p:cTn>
                              </p:par>
                              <p:par>
                                <p:cTn id="170" nodeType="withEffect" fill="hold" presetClass="entr" presetID="35">
                                  <p:stCondLst>
                                    <p:cond delay="0"/>
                                  </p:stCondLst>
                                  <p:childTnLst>
                                    <p:set>
                                      <p:cBhvr>
                                        <p:cTn id="171" dur="1" fill="hold">
                                          <p:stCondLst>
                                            <p:cond delay="0"/>
                                          </p:stCondLst>
                                        </p:cTn>
                                        <p:tgtEl>
                                          <p:spTgt spid="74">
                                            <p:txEl>
                                              <p:pRg st="1" end="1"/>
                                            </p:txEl>
                                          </p:spTgt>
                                        </p:tgtEl>
                                        <p:attrNameLst>
                                          <p:attrName>style.visibility</p:attrName>
                                        </p:attrNameLst>
                                      </p:cBhvr>
                                      <p:to>
                                        <p:strVal val="visible"/>
                                      </p:to>
                                    </p:set>
                                    <p:animEffect filter="fade" transition="in">
                                      <p:cBhvr additive="repl">
                                        <p:cTn id="172" dur="2000"/>
                                        <p:tgtEl>
                                          <p:spTgt spid="74">
                                            <p:txEl>
                                              <p:pRg st="1" end="1"/>
                                            </p:txEl>
                                          </p:spTgt>
                                        </p:tgtEl>
                                      </p:cBhvr>
                                    </p:animEffect>
                                    <p:anim calcmode="lin" valueType="num">
                                      <p:cBhvr additive="repl">
                                        <p:cTn id="173" dur="2000" fill="hold"/>
                                        <p:tgtEl>
                                          <p:spTgt spid="74">
                                            <p:txEl>
                                              <p:pRg st="1" end="1"/>
                                            </p:txEl>
                                          </p:spTgt>
                                        </p:tgtEl>
                                        <p:attrNameLst>
                                          <p:attrName>r</p:attrName>
                                        </p:attrNameLst>
                                      </p:cBhvr>
                                      <p:tavLst>
                                        <p:tav tm="0">
                                          <p:val>
                                            <p:strVal val="720"/>
                                          </p:val>
                                        </p:tav>
                                        <p:tav tm="100000">
                                          <p:val>
                                            <p:strVal val="0"/>
                                          </p:val>
                                        </p:tav>
                                      </p:tavLst>
                                    </p:anim>
                                    <p:anim calcmode="lin" valueType="num">
                                      <p:cBhvr additive="repl">
                                        <p:cTn id="174" dur="2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175" dur="2000" fill="hold"/>
                                        <p:tgtEl>
                                          <p:spTgt spid="74">
                                            <p:txEl>
                                              <p:pRg st="1" end="1"/>
                                            </p:txEl>
                                          </p:spTgt>
                                        </p:tgtEl>
                                        <p:attrNameLst>
                                          <p:attrName>ppt_w</p:attrName>
                                        </p:attrNameLst>
                                      </p:cBhvr>
                                      <p:tavLst>
                                        <p:tav tm="0">
                                          <p:val>
                                            <p:fltVal val="0"/>
                                          </p:val>
                                        </p:tav>
                                        <p:tav tm="100000">
                                          <p:val>
                                            <p:strVal val="#ppt_w"/>
                                          </p:val>
                                        </p:tav>
                                      </p:tavLst>
                                    </p:anim>
                                  </p:childTnLst>
                                </p:cTn>
                              </p:par>
                              <p:par>
                                <p:cTn id="176" nodeType="withEffect" fill="hold" presetClass="entr" presetID="35">
                                  <p:stCondLst>
                                    <p:cond delay="0"/>
                                  </p:stCondLst>
                                  <p:childTnLst>
                                    <p:set>
                                      <p:cBhvr>
                                        <p:cTn id="177" dur="1" fill="hold">
                                          <p:stCondLst>
                                            <p:cond delay="0"/>
                                          </p:stCondLst>
                                        </p:cTn>
                                        <p:tgtEl>
                                          <p:spTgt spid="74">
                                            <p:txEl>
                                              <p:pRg st="2" end="2"/>
                                            </p:txEl>
                                          </p:spTgt>
                                        </p:tgtEl>
                                        <p:attrNameLst>
                                          <p:attrName>style.visibility</p:attrName>
                                        </p:attrNameLst>
                                      </p:cBhvr>
                                      <p:to>
                                        <p:strVal val="visible"/>
                                      </p:to>
                                    </p:set>
                                    <p:animEffect filter="fade" transition="in">
                                      <p:cBhvr additive="repl">
                                        <p:cTn id="178" dur="2000"/>
                                        <p:tgtEl>
                                          <p:spTgt spid="74">
                                            <p:txEl>
                                              <p:pRg st="2" end="2"/>
                                            </p:txEl>
                                          </p:spTgt>
                                        </p:tgtEl>
                                      </p:cBhvr>
                                    </p:animEffect>
                                    <p:anim calcmode="lin" valueType="num">
                                      <p:cBhvr additive="repl">
                                        <p:cTn id="179" dur="2000" fill="hold"/>
                                        <p:tgtEl>
                                          <p:spTgt spid="74">
                                            <p:txEl>
                                              <p:pRg st="2" end="2"/>
                                            </p:txEl>
                                          </p:spTgt>
                                        </p:tgtEl>
                                        <p:attrNameLst>
                                          <p:attrName>r</p:attrName>
                                        </p:attrNameLst>
                                      </p:cBhvr>
                                      <p:tavLst>
                                        <p:tav tm="0">
                                          <p:val>
                                            <p:strVal val="720"/>
                                          </p:val>
                                        </p:tav>
                                        <p:tav tm="100000">
                                          <p:val>
                                            <p:strVal val="0"/>
                                          </p:val>
                                        </p:tav>
                                      </p:tavLst>
                                    </p:anim>
                                    <p:anim calcmode="lin" valueType="num">
                                      <p:cBhvr additive="repl">
                                        <p:cTn id="180" dur="2000" fill="hold"/>
                                        <p:tgtEl>
                                          <p:spTgt spid="74">
                                            <p:txEl>
                                              <p:pRg st="2" end="2"/>
                                            </p:txEl>
                                          </p:spTgt>
                                        </p:tgtEl>
                                        <p:attrNameLst>
                                          <p:attrName>ppt_h</p:attrName>
                                        </p:attrNameLst>
                                      </p:cBhvr>
                                      <p:tavLst>
                                        <p:tav tm="0">
                                          <p:val>
                                            <p:fltVal val="0"/>
                                          </p:val>
                                        </p:tav>
                                        <p:tav tm="100000">
                                          <p:val>
                                            <p:strVal val="#ppt_h"/>
                                          </p:val>
                                        </p:tav>
                                      </p:tavLst>
                                    </p:anim>
                                    <p:anim calcmode="lin" valueType="num">
                                      <p:cBhvr additive="repl">
                                        <p:cTn id="181" dur="2000" fill="hold"/>
                                        <p:tgtEl>
                                          <p:spTgt spid="74">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children during this time period educated? </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ildren learned to read, but most houses owned only the Bible and other religious things including a few that described evil spirits and witch work in a lot of wor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a few books written for children, but these often warned about bad attitude and there was punishment. </a:t>
            </a:r>
            <a:endParaRPr b="0" lang="en-US" sz="2800" spc="-1" strike="noStrike">
              <a:solidFill>
                <a:srgbClr val="000000"/>
              </a:solidFill>
              <a:latin typeface="Arial"/>
            </a:endParaRPr>
          </a:p>
        </p:txBody>
      </p:sp>
      <p:pic>
        <p:nvPicPr>
          <p:cNvPr id="78" name="Picture 4" descr="j0217698"/>
          <p:cNvPicPr/>
          <p:nvPr/>
        </p:nvPicPr>
        <p:blipFill>
          <a:blip r:embed="rId1"/>
          <a:stretch/>
        </p:blipFill>
        <p:spPr>
          <a:xfrm>
            <a:off x="7391520" y="5029200"/>
            <a:ext cx="1595160" cy="1546200"/>
          </a:xfrm>
          <a:prstGeom prst="rect">
            <a:avLst/>
          </a:prstGeom>
          <a:ln w="0">
            <a:noFill/>
          </a:ln>
        </p:spPr>
      </p:pic>
    </p:spTree>
  </p:cSld>
  <p:transition>
    <p:push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path" presetID="0">
                                  <p:stCondLst>
                                    <p:cond delay="0"/>
                                  </p:stCondLst>
                                  <p:childTnLst>
                                    <p:animMotion origin="layout" path="M -3.05556E-006 5.92593E-006 C -0.00451 0.00163 -0.00868 0.00418 -0.0132 0.00626 C -0.06962 0.0051 -0.12587 0.00464 -0.18229 0.00302 C -0.20295 0.00232 -0.21892 0.00093 -0.2382 -0.00161 C -0.24635 -0.00277 -0.26215 -0.00485 -0.26215 -0.00485 C -0.28299 -0.0111 -0.30469 -0.01434 -0.32622 -0.01596 C -0.34948 -0.02499 -0.37587 -0.02337 -0.4 -0.02707 C -0.41042 -0.0317 -0.42049 -0.03633 -0.43108 -0.03981 C -0.44566 -0.05439 -0.45104 -0.05555 -0.4691 -0.05717 C -0.47153 -0.05832 -0.47396 -0.05902 -0.47622 -0.06041 C -0.47882 -0.06203 -0.48333 -0.06666 -0.48333 -0.06666 C -0.50156 -0.09907 -0.49115 -0.04721 -0.49288 -0.14606 C -0.49097 -0.16828 -0.49097 -0.17337 -0.48229 -0.18888 C -0.48004 -0.19768 -0.47483 -0.20069 -0.47031 -0.20647 C -0.46892 -0.20832 -0.4684 -0.21133 -0.46667 -0.21272 C -0.46458 -0.21457 -0.45955 -0.21596 -0.45955 -0.21596 C -0.42222 -0.21481 -0.40347 -0.21203 -0.37031 -0.20647 C -0.34479 -0.19768 -0.2901 -0.20439 -0.27517 -0.20485 C -0.25885 -0.2111 -0.24288 -0.2111 -0.22622 -0.21272 C -0.16823 -0.22869 -0.02813 -0.22036 0.01545 -0.22082 C 0.02986 -0.2243 0.04392 -0.23055 0.05833 -0.23332 C 0.06371 -0.24073 0.06892 -0.24374 0.07604 -0.24768 C 0.08229 -0.25832 0.08837 -0.27244 0.09635 -0.28101 C 0.10017 -0.28518 0.10451 -0.28795 0.10833 -0.29212 C 0.11024 -0.2942 0.11233 -0.29652 0.11424 -0.2986 C 0.11753 -0.30948 0.12066 -0.32476 0.12726 -0.33332 C 0.13038 -0.33749 0.13785 -0.34444 0.13785 -0.34444 C 0.14115 -0.35092 0.14427 -0.3574 0.14757 -0.36365 C 0.14861 -0.36573 0.14983 -0.36782 0.15104 -0.3699 C 0.15226 -0.37198 0.15469 -0.37638 0.15469 -0.37638 C 0.1566 -0.3861 0.15955 -0.39582 0.16302 -0.40485 C 0.16424 -0.41596 0.16562 -0.41619 0.16771 -0.42545 C 0.16701 -0.44559 0.16684 -0.46573 0.16545 -0.48587 C 0.16493 -0.4942 0.15712 -0.50809 0.15712 -0.50809 C 0.15278 -0.53032 0.14375 -0.5567 0.12951 -0.57152 C 0.12378 -0.57777 0.11649 -0.5817 0.11059 -0.58749 C 0.10712 -0.59073 0.10573 -0.59698 0.10226 -0.59999 C 0.09583 -0.60532 0.08455 -0.61018 0.07726 -0.61434 C 0.06823 -0.61944 0.05937 -0.628 0.05 -0.63194 C 0.03646 -0.63749 0.02396 -0.63749 0.01059 -0.64143 C -0.00434 -0.64582 -0.0184 -0.65161 -0.03333 -0.65555 C -0.05365 -0.66087 -0.07361 -0.6655 -0.0941 -0.66828 C -0.1132 -0.67082 -0.13212 -0.67638 -0.15139 -0.67939 C -0.1901 -0.68564 -0.13108 -0.67569 -0.17031 -0.68425 C -0.19306 -0.68911 -0.21667 -0.68772 -0.23958 -0.68888 C -0.28108 -0.68842 -0.32274 -0.68888 -0.36441 -0.68749 C -0.3658 -0.68749 -0.36667 -0.68494 -0.36788 -0.68425 C -0.36945 -0.68332 -0.37118 -0.68309 -0.37274 -0.68263 C -0.3882 -0.67198 -0.41962 -0.6743 -0.43576 -0.67314 C -0.48507 -0.6567 -0.60625 -0.66666 -0.6132 -0.66666 C -0.62326 -0.66272 -0.60747 -0.67036 -0.6191 -0.65555 C -0.62344 -0.65022 -0.6257 -0.64374 -0.62986 -0.63819 C -0.63021 -0.63657 -0.63021 -0.63448 -0.63108 -0.63332 C -0.63316 -0.63055 -0.6382 -0.62707 -0.6382 -0.62707 C -0.6401 -0.61967 -0.6434 -0.61064 -0.64896 -0.60809 C -0.65295 -0.59351 -0.65052 -0.59907 -0.65486 -0.5905 C -0.65521 -0.58795 -0.65556 -0.58518 -0.65608 -0.58263 C -0.65677 -0.57893 -0.65833 -0.57152 -0.65833 -0.57152 C -0.65938 -0.52777 -0.66042 -0.52916 -0.65833 -0.49212 C -0.65781 -0.48263 -0.65781 -0.47152 -0.65365 -0.46365 C -0.64879 -0.44444 -0.6382 -0.42823 -0.62865 -0.41272 C -0.62622 -0.40856 -0.62413 -0.40393 -0.62153 -0.39999 C -0.61892 -0.39606 -0.6132 -0.38888 -0.6132 -0.38888 C -0.61129 -0.38309 -0.6099 -0.37684 -0.60729 -0.37152 C -0.60451 -0.36573 -0.60017 -0.36319 -0.59653 -0.35879 C -0.5816 -0.3405 -0.56476 -0.32731 -0.54896 -0.3111 C -0.54583 -0.30786 -0.5276 -0.28911 -0.5191 -0.28425 C -0.51285 -0.28078 -0.5 -0.27476 -0.5 -0.27476 C -0.48524 -0.26041 -0.48611 -0.26272 -0.47031 -0.25555 C -0.46875 -0.25346 -0.46667 -0.25184 -0.46563 -0.2493 C -0.46354 -0.2442 -0.46372 -0.23749 -0.46076 -0.23332 C -0.45885 -0.23055 -0.45521 -0.2317 -0.45243 -0.23032 C -0.44757 -0.22777 -0.43281 -0.22036 -0.42622 -0.21596 C -0.4066 -0.20277 -0.38976 -0.18194 -0.36788 -0.17476 C -0.35347 -0.16133 -0.33472 -0.15601 -0.31788 -0.15092 C -0.3092 -0.14837 -0.30139 -0.14305 -0.29288 -0.13981 C -0.28299 -0.13055 -0.25868 -0.12962 -0.24774 -0.12869 C -0.23403 -0.12337 -0.22188 -0.12268 -0.20729 -0.12082 C -0.19375 -0.11596 -0.18368 -0.11272 -0.17031 -0.10971 C -0.16129 -0.10346 -0.14931 -0.103 -0.13941 -0.0986 C -0.13733 -0.09652 -0.13576 -0.09351 -0.13333 -0.09212 C -0.13073 -0.09073 -0.12795 -0.09143 -0.125 -0.0905 C -0.11632 -0.08749 -0.10799 -0.08309 -0.09896 -0.08101 C -0.09323 -0.07592 -0.08524 -0.07453 -0.07865 -0.07152 C -0.07604 -0.07036 -0.07396 -0.06782 -0.07153 -0.06666 C -0.06615 -0.05971 -0.05938 -0.05879 -0.05243 -0.05555 C -0.04306 -0.05115 -0.03438 -0.04397 -0.025 -0.03981 C -0.01858 -0.03379 -0.01076 -0.03263 -0.00365 -0.02869 C -0.00191 -0.02522 0.00278 -0.00786 0.00226 -0.00323 C 0.00208 -0.00184 0.00069 -0.00115 -3.05556E-006 5.92593E-006 Z">
                                      <p:cBhvr>
                                        <p:cTn id="187" dur="5000" fill="hold"/>
                                        <p:tgtEl>
                                          <p:spTgt spid="78"/>
                                        </p:tgtEl>
                                      </p:cBhvr>
                                    </p:animMotion>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7" presetSubtype="4">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base">
                                        <p:cTn id="192" dur="2000" fill="hold"/>
                                        <p:tgtEl>
                                          <p:spTgt spid="76"/>
                                        </p:tgtEl>
                                        <p:attrNameLst>
                                          <p:attrName>ppt_x</p:attrName>
                                        </p:attrNameLst>
                                      </p:cBhvr>
                                      <p:tavLst>
                                        <p:tav tm="0">
                                          <p:val>
                                            <p:strVal val="#ppt_x"/>
                                          </p:val>
                                        </p:tav>
                                        <p:tav tm="100000">
                                          <p:val>
                                            <p:strVal val="#ppt_x"/>
                                          </p:val>
                                        </p:tav>
                                      </p:tavLst>
                                    </p:anim>
                                    <p:anim calcmode="lin" valueType="num">
                                      <p:cBhvr additive="base">
                                        <p:cTn id="193"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76"/>
                                        </p:tgtEl>
                                        <p:attrNameLst>
                                          <p:attrName>style.visibility</p:attrName>
                                        </p:attrNameLst>
                                      </p:cBhvr>
                                      <p:to>
                                        <p:strVal val="visible"/>
                                      </p:to>
                                    </p:set>
                                    <p:animEffect filter="checkerboard(across)" transition="in">
                                      <p:cBhvr additive="repl">
                                        <p:cTn id="198" dur="5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77">
                                            <p:txEl>
                                              <p:pRg st="0" end="0"/>
                                            </p:txEl>
                                          </p:spTgt>
                                        </p:tgtEl>
                                        <p:attrNameLst>
                                          <p:attrName>style.visibility</p:attrName>
                                        </p:attrNameLst>
                                      </p:cBhvr>
                                      <p:to>
                                        <p:strVal val="visible"/>
                                      </p:to>
                                    </p:set>
                                    <p:animEffect filter="checkerboard(across)" transition="in">
                                      <p:cBhvr additive="repl">
                                        <p:cTn id="203" dur="500"/>
                                        <p:tgtEl>
                                          <p:spTgt spid="77">
                                            <p:txEl>
                                              <p:pRg st="0" end="0"/>
                                            </p:txEl>
                                          </p:spTgt>
                                        </p:tgtEl>
                                      </p:cBhvr>
                                    </p:animEffect>
                                  </p:childTnLst>
                                </p:cTn>
                              </p:par>
                              <p:par>
                                <p:cTn id="204" nodeType="withEffect" fill="hold" presetClass="entr" presetID="5" presetSubtype="10">
                                  <p:stCondLst>
                                    <p:cond delay="0"/>
                                  </p:stCondLst>
                                  <p:childTnLst>
                                    <p:set>
                                      <p:cBhvr>
                                        <p:cTn id="205" dur="1" fill="hold">
                                          <p:stCondLst>
                                            <p:cond delay="0"/>
                                          </p:stCondLst>
                                        </p:cTn>
                                        <p:tgtEl>
                                          <p:spTgt spid="77">
                                            <p:txEl>
                                              <p:pRg st="1" end="1"/>
                                            </p:txEl>
                                          </p:spTgt>
                                        </p:tgtEl>
                                        <p:attrNameLst>
                                          <p:attrName>style.visibility</p:attrName>
                                        </p:attrNameLst>
                                      </p:cBhvr>
                                      <p:to>
                                        <p:strVal val="visible"/>
                                      </p:to>
                                    </p:set>
                                    <p:animEffect filter="checkerboard(across)" transition="in">
                                      <p:cBhvr additive="repl">
                                        <p:cTn id="206"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30592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Three: Religion</a:t>
            </a:r>
            <a:endParaRPr b="0" lang="en-US" sz="96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were expected to live by a moral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all sins stealing murdering, should be punished by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thought that Satan was as powerful as G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was the concentration of the 71th century.</a:t>
            </a:r>
            <a:endParaRPr b="0" lang="en-US" sz="3200" spc="-1" strike="noStrike">
              <a:solidFill>
                <a:srgbClr val="000000"/>
              </a:solidFill>
              <a:latin typeface="Arial"/>
            </a:endParaRPr>
          </a:p>
        </p:txBody>
      </p:sp>
    </p:spTree>
  </p:cSld>
  <p:transition>
    <p:push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9">
                                  <p:stCondLst>
                                    <p:cond delay="0"/>
                                  </p:stCondLst>
                                  <p:iterate type="lt">
                                    <p:tmAbs val="80"/>
                                  </p:iterate>
                                  <p:childTnLst>
                                    <p:set>
                                      <p:cBhvr>
                                        <p:cTn id="212" dur="1" fill="hold">
                                          <p:stCondLst>
                                            <p:cond delay="0"/>
                                          </p:stCondLst>
                                        </p:cTn>
                                        <p:tgtEl>
                                          <p:spTgt spid="80"/>
                                        </p:tgtEl>
                                        <p:attrNameLst>
                                          <p:attrName>style.visibility</p:attrName>
                                        </p:attrNameLst>
                                      </p:cBhvr>
                                      <p:to>
                                        <p:strVal val="visible"/>
                                      </p:to>
                                    </p:set>
                                    <p:anim calcmode="lin" valueType="num">
                                      <p:cBhvr additive="base">
                                        <p:cTn id="213" dur="800" fill="hold">
                                          <p:stCondLst>
                                            <p:cond delay="0"/>
                                          </p:stCondLst>
                                        </p:cTn>
                                        <p:tgtEl>
                                          <p:spTgt spid="80"/>
                                        </p:tgtEl>
                                        <p:attrNameLst>
                                          <p:attrName>ppt_x</p:attrName>
                                        </p:attrNameLst>
                                      </p:cBhvr>
                                      <p:tavLst>
                                        <p:tav tm="0">
                                          <p:val>
                                            <p:strVal val="0-#ppt_w/2"/>
                                          </p:val>
                                        </p:tav>
                                        <p:tav tm="100000">
                                          <p:val>
                                            <p:strVal val="#ppt_x"/>
                                          </p:val>
                                        </p:tav>
                                      </p:tavLst>
                                    </p:anim>
                                    <p:anim calcmode="lin" valueType="num">
                                      <p:cBhvr additive="base">
                                        <p:cTn id="214" dur="800" fill="hold">
                                          <p:stCondLst>
                                            <p:cond delay="0"/>
                                          </p:stCondLst>
                                        </p:cTn>
                                        <p:tgtEl>
                                          <p:spTgt spid="80"/>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dur="1" fill="hold">
                                          <p:stCondLst>
                                            <p:cond delay="0"/>
                                          </p:stCondLst>
                                        </p:cTn>
                                        <p:tgtEl>
                                          <p:spTgt spid="81">
                                            <p:txEl>
                                              <p:pRg st="1" end="1"/>
                                            </p:txEl>
                                          </p:spTgt>
                                        </p:tgtEl>
                                        <p:attrNameLst>
                                          <p:attrName>style.visibility</p:attrName>
                                        </p:attrNameLst>
                                      </p:cBhvr>
                                      <p:to>
                                        <p:strVal val="visible"/>
                                      </p:to>
                                    </p:set>
                                    <p:animEffect filter="fade" transition="in">
                                      <p:cBhvr additive="repl">
                                        <p:cTn id="219" dur="1000"/>
                                        <p:tgtEl>
                                          <p:spTgt spid="81">
                                            <p:txEl>
                                              <p:pRg st="1" end="1"/>
                                            </p:txEl>
                                          </p:spTgt>
                                        </p:tgtEl>
                                      </p:cBhvr>
                                    </p:animEffect>
                                    <p:anim calcmode="lin" valueType="num">
                                      <p:cBhvr additive="repl">
                                        <p:cTn id="220" dur="1000" fill="hold"/>
                                        <p:tgtEl>
                                          <p:spTgt spid="81">
                                            <p:txEl>
                                              <p:pRg st="1" end="1"/>
                                            </p:txEl>
                                          </p:spTgt>
                                        </p:tgtEl>
                                        <p:attrNameLst>
                                          <p:attrName>ppt_x</p:attrName>
                                        </p:attrNameLst>
                                      </p:cBhvr>
                                      <p:tavLst>
                                        <p:tav tm="0">
                                          <p:val>
                                            <p:strVal val="#ppt_x-.1"/>
                                          </p:val>
                                        </p:tav>
                                        <p:tav tm="100000">
                                          <p:val>
                                            <p:strVal val="#ppt_x"/>
                                          </p:val>
                                        </p:tav>
                                      </p:tavLst>
                                    </p:anim>
                                    <p:anim calcmode="lin" valueType="num">
                                      <p:cBhvr additive="repl">
                                        <p:cTn id="221"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dur="1" fill="hold">
                                          <p:stCondLst>
                                            <p:cond delay="0"/>
                                          </p:stCondLst>
                                        </p:cTn>
                                        <p:tgtEl>
                                          <p:spTgt spid="81">
                                            <p:txEl>
                                              <p:pRg st="2" end="2"/>
                                            </p:txEl>
                                          </p:spTgt>
                                        </p:tgtEl>
                                        <p:attrNameLst>
                                          <p:attrName>style.visibility</p:attrName>
                                        </p:attrNameLst>
                                      </p:cBhvr>
                                      <p:to>
                                        <p:strVal val="visible"/>
                                      </p:to>
                                    </p:set>
                                    <p:animEffect filter="fade" transition="in">
                                      <p:cBhvr additive="repl">
                                        <p:cTn id="226" dur="1000"/>
                                        <p:tgtEl>
                                          <p:spTgt spid="81">
                                            <p:txEl>
                                              <p:pRg st="2" end="2"/>
                                            </p:txEl>
                                          </p:spTgt>
                                        </p:tgtEl>
                                      </p:cBhvr>
                                    </p:animEffect>
                                    <p:anim calcmode="lin" valueType="num">
                                      <p:cBhvr additive="repl">
                                        <p:cTn id="227" dur="1000" fill="hold"/>
                                        <p:tgtEl>
                                          <p:spTgt spid="81">
                                            <p:txEl>
                                              <p:pRg st="2" end="2"/>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81">
                                            <p:txEl>
                                              <p:pRg st="3" end="3"/>
                                            </p:txEl>
                                          </p:spTgt>
                                        </p:tgtEl>
                                        <p:attrNameLst>
                                          <p:attrName>style.visibility</p:attrName>
                                        </p:attrNameLst>
                                      </p:cBhvr>
                                      <p:to>
                                        <p:strVal val="visible"/>
                                      </p:to>
                                    </p:set>
                                    <p:animEffect filter="fade" transition="in">
                                      <p:cBhvr additive="repl">
                                        <p:cTn id="233" dur="1000"/>
                                        <p:tgtEl>
                                          <p:spTgt spid="81">
                                            <p:txEl>
                                              <p:pRg st="3" end="3"/>
                                            </p:txEl>
                                          </p:spTgt>
                                        </p:tgtEl>
                                      </p:cBhvr>
                                    </p:animEffect>
                                    <p:anim calcmode="lin" valueType="num">
                                      <p:cBhvr additive="repl">
                                        <p:cTn id="234" dur="1000" fill="hold"/>
                                        <p:tgtEl>
                                          <p:spTgt spid="81">
                                            <p:txEl>
                                              <p:pRg st="3" end="3"/>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81">
                                            <p:txEl>
                                              <p:pRg st="4" end="4"/>
                                            </p:txEl>
                                          </p:spTgt>
                                        </p:tgtEl>
                                        <p:attrNameLst>
                                          <p:attrName>style.visibility</p:attrName>
                                        </p:attrNameLst>
                                      </p:cBhvr>
                                      <p:to>
                                        <p:strVal val="visible"/>
                                      </p:to>
                                    </p:set>
                                    <p:animEffect filter="fade" transition="in">
                                      <p:cBhvr additive="repl">
                                        <p:cTn id="240" dur="1000"/>
                                        <p:tgtEl>
                                          <p:spTgt spid="81">
                                            <p:txEl>
                                              <p:pRg st="4" end="4"/>
                                            </p:txEl>
                                          </p:spTgt>
                                        </p:tgtEl>
                                      </p:cBhvr>
                                    </p:animEffect>
                                    <p:anim calcmode="lin" valueType="num">
                                      <p:cBhvr additive="repl">
                                        <p:cTn id="241" dur="1000" fill="hold"/>
                                        <p:tgtEl>
                                          <p:spTgt spid="81">
                                            <p:txEl>
                                              <p:pRg st="4" end="4"/>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84040"/>
            <a:ext cx="8229600" cy="944640"/>
          </a:xfrm>
          <a:prstGeom prst="rect">
            <a:avLst/>
          </a:prstGeom>
          <a:noFill/>
          <a:ln w="0">
            <a:noFill/>
          </a:ln>
        </p:spPr>
        <p:txBody>
          <a:bodyPr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3" name="PlaceHolder 2"/>
          <p:cNvSpPr>
            <a:spLocks noGrp="1"/>
          </p:cNvSpPr>
          <p:nvPr>
            <p:ph/>
          </p:nvPr>
        </p:nvSpPr>
        <p:spPr>
          <a:xfrm>
            <a:off x="60948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worst crimes was witchcra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ere accused  by wicthcraft you would be put to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100 alleged witches had been tried and hanged in England in the 16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ther crimes were sleep in the church, steal, or steal f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0">
                                  <p:stCondLst>
                                    <p:cond delay="0"/>
                                  </p:stCondLst>
                                  <p:iterate type="lt">
                                    <p:tmAbs val="100"/>
                                  </p:iterate>
                                  <p:childTnLst>
                                    <p:set>
                                      <p:cBhvr>
                                        <p:cTn id="248" dur="1" fill="hold">
                                          <p:stCondLst>
                                            <p:cond delay="0"/>
                                          </p:stCondLst>
                                        </p:cTn>
                                        <p:tgtEl>
                                          <p:spTgt spid="82"/>
                                        </p:tgtEl>
                                        <p:attrNameLst>
                                          <p:attrName>style.visibility</p:attrName>
                                        </p:attrNameLst>
                                      </p:cBhvr>
                                      <p:to>
                                        <p:strVal val="visible"/>
                                      </p:to>
                                    </p:set>
                                    <p:animEffect filter="fade" transition="in">
                                      <p:cBhvr additive="repl">
                                        <p:cTn id="249" dur="1000">
                                          <p:stCondLst>
                                            <p:cond delay="0"/>
                                          </p:stCondLst>
                                        </p:cTn>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iterate type="lt">
                                    <p:tmAbs val="50"/>
                                  </p:iterate>
                                  <p:childTnLst>
                                    <p:set>
                                      <p:cBhvr>
                                        <p:cTn id="253" dur="1" fill="hold">
                                          <p:stCondLst>
                                            <p:cond delay="0"/>
                                          </p:stCondLst>
                                        </p:cTn>
                                        <p:tgtEl>
                                          <p:spTgt spid="83">
                                            <p:txEl>
                                              <p:pRg st="0" end="0"/>
                                            </p:txEl>
                                          </p:spTgt>
                                        </p:tgtEl>
                                        <p:attrNameLst>
                                          <p:attrName>style.visibility</p:attrName>
                                        </p:attrNameLst>
                                      </p:cBhvr>
                                      <p:to>
                                        <p:strVal val="visible"/>
                                      </p:to>
                                    </p:set>
                                    <p:animEffect filter="fade" transition="in">
                                      <p:cBhvr additive="repl">
                                        <p:cTn id="254" dur="500">
                                          <p:stCondLst>
                                            <p:cond delay="0"/>
                                          </p:stCondLst>
                                        </p:cTn>
                                        <p:tgtEl>
                                          <p:spTgt spid="8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iterate type="lt">
                                    <p:tmAbs val="50"/>
                                  </p:iterate>
                                  <p:childTnLst>
                                    <p:set>
                                      <p:cBhvr>
                                        <p:cTn id="258" dur="1" fill="hold">
                                          <p:stCondLst>
                                            <p:cond delay="0"/>
                                          </p:stCondLst>
                                        </p:cTn>
                                        <p:tgtEl>
                                          <p:spTgt spid="83">
                                            <p:txEl>
                                              <p:pRg st="1" end="1"/>
                                            </p:txEl>
                                          </p:spTgt>
                                        </p:tgtEl>
                                        <p:attrNameLst>
                                          <p:attrName>style.visibility</p:attrName>
                                        </p:attrNameLst>
                                      </p:cBhvr>
                                      <p:to>
                                        <p:strVal val="visible"/>
                                      </p:to>
                                    </p:set>
                                    <p:animEffect filter="fade" transition="in">
                                      <p:cBhvr additive="repl">
                                        <p:cTn id="259" dur="500">
                                          <p:stCondLst>
                                            <p:cond delay="0"/>
                                          </p:stCondLst>
                                        </p:cTn>
                                        <p:tgtEl>
                                          <p:spTgt spid="83">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iterate type="lt">
                                    <p:tmAbs val="50"/>
                                  </p:iterate>
                                  <p:childTnLst>
                                    <p:set>
                                      <p:cBhvr>
                                        <p:cTn id="263" dur="1" fill="hold">
                                          <p:stCondLst>
                                            <p:cond delay="0"/>
                                          </p:stCondLst>
                                        </p:cTn>
                                        <p:tgtEl>
                                          <p:spTgt spid="83">
                                            <p:txEl>
                                              <p:pRg st="2" end="2"/>
                                            </p:txEl>
                                          </p:spTgt>
                                        </p:tgtEl>
                                        <p:attrNameLst>
                                          <p:attrName>style.visibility</p:attrName>
                                        </p:attrNameLst>
                                      </p:cBhvr>
                                      <p:to>
                                        <p:strVal val="visible"/>
                                      </p:to>
                                    </p:set>
                                    <p:animEffect filter="fade" transition="in">
                                      <p:cBhvr additive="repl">
                                        <p:cTn id="264" dur="500">
                                          <p:stCondLst>
                                            <p:cond delay="0"/>
                                          </p:stCondLst>
                                        </p:cTn>
                                        <p:tgtEl>
                                          <p:spTgt spid="83">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iterate type="lt">
                                    <p:tmAbs val="50"/>
                                  </p:iterate>
                                  <p:childTnLst>
                                    <p:set>
                                      <p:cBhvr>
                                        <p:cTn id="268" dur="1" fill="hold">
                                          <p:stCondLst>
                                            <p:cond delay="0"/>
                                          </p:stCondLst>
                                        </p:cTn>
                                        <p:tgtEl>
                                          <p:spTgt spid="83">
                                            <p:txEl>
                                              <p:pRg st="3" end="3"/>
                                            </p:txEl>
                                          </p:spTgt>
                                        </p:tgtEl>
                                        <p:attrNameLst>
                                          <p:attrName>style.visibility</p:attrName>
                                        </p:attrNameLst>
                                      </p:cBhvr>
                                      <p:to>
                                        <p:strVal val="visible"/>
                                      </p:to>
                                    </p:set>
                                    <p:animEffect filter="fade" transition="in">
                                      <p:cBhvr additive="repl">
                                        <p:cTn id="269" dur="500">
                                          <p:stCondLst>
                                            <p:cond delay="0"/>
                                          </p:stCondLst>
                                        </p:cTn>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of Salem</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left England for religious tole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lifestyle was restrained, the people were supposed to work hard and attend church, or there would be severe con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God would punish sin, </a:t>
            </a:r>
            <a:endParaRPr b="0" lang="en-US" sz="32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One: Salem Witch Trials</a:t>
            </a:r>
            <a:endParaRPr b="0" lang="en-US" sz="9600" spc="-1" strike="noStrike">
              <a:solidFill>
                <a:srgbClr val="000000"/>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3059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Four: History of Salem Village</a:t>
            </a:r>
            <a:endParaRPr b="0" lang="en-US" sz="96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story"/>
          <p:cNvPicPr/>
          <p:nvPr/>
        </p:nvPicPr>
        <p:blipFill>
          <a:blip r:embed="rId1"/>
          <a:stretch/>
        </p:blipFill>
        <p:spPr>
          <a:xfrm>
            <a:off x="0" y="0"/>
            <a:ext cx="9144000" cy="6858000"/>
          </a:xfrm>
          <a:prstGeom prst="rect">
            <a:avLst/>
          </a:prstGeom>
          <a:ln w="0">
            <a:noFill/>
          </a:ln>
        </p:spPr>
      </p:pic>
      <p:sp>
        <p:nvSpPr>
          <p:cNvPr id="90" name="Text Box 5"/>
          <p:cNvSpPr/>
          <p:nvPr/>
        </p:nvSpPr>
        <p:spPr>
          <a:xfrm>
            <a:off x="2819520" y="228600"/>
            <a:ext cx="3429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istory of Salem Village</a:t>
            </a:r>
            <a:endParaRPr b="0" lang="en-US" sz="4000" spc="-1" strike="noStrike">
              <a:solidFill>
                <a:srgbClr val="000000"/>
              </a:solidFill>
              <a:latin typeface="Arial"/>
            </a:endParaRPr>
          </a:p>
        </p:txBody>
      </p:sp>
      <p:sp>
        <p:nvSpPr>
          <p:cNvPr id="91" name="Text Box 6"/>
          <p:cNvSpPr/>
          <p:nvPr/>
        </p:nvSpPr>
        <p:spPr>
          <a:xfrm>
            <a:off x="2666880" y="213372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re were  different divisions of families. There were divisions tied to wealth at the port of Salem and those who depended on agriculture.    </a:t>
            </a:r>
            <a:endParaRPr b="0" lang="en-US" sz="2000" spc="-1" strike="noStrike">
              <a:solidFill>
                <a:srgbClr val="000000"/>
              </a:solidFill>
              <a:latin typeface="Arial"/>
            </a:endParaRPr>
          </a:p>
        </p:txBody>
      </p:sp>
      <p:sp>
        <p:nvSpPr>
          <p:cNvPr id="92" name="Text Box 7"/>
          <p:cNvSpPr/>
          <p:nvPr/>
        </p:nvSpPr>
        <p:spPr>
          <a:xfrm>
            <a:off x="3048120" y="2057400"/>
            <a:ext cx="3047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8"/>
          <p:cNvSpPr/>
          <p:nvPr/>
        </p:nvSpPr>
        <p:spPr>
          <a:xfrm>
            <a:off x="2666880" y="3733920"/>
            <a:ext cx="381024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There were 2 clans of people called the Putmans and the Porters. They  were competing for control of the village and the pulpit (a raised platform or stand used for preaching). </a:t>
            </a:r>
            <a:endParaRPr b="0" lang="en-US" sz="2000" spc="-1" strike="noStrike">
              <a:solidFill>
                <a:srgbClr val="000000"/>
              </a:solidFill>
              <a:latin typeface="Arial"/>
            </a:endParaRPr>
          </a:p>
        </p:txBody>
      </p:sp>
    </p:spTree>
  </p:cSld>
  <p:transition>
    <p:comb dir="horz"/>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5">
                                  <p:stCondLst>
                                    <p:cond delay="0"/>
                                  </p:stCondLst>
                                  <p:childTnLst>
                                    <p:set>
                                      <p:cBhvr>
                                        <p:cTn id="275" dur="1" fill="hold">
                                          <p:stCondLst>
                                            <p:cond delay="0"/>
                                          </p:stCondLst>
                                        </p:cTn>
                                        <p:tgtEl>
                                          <p:spTgt spid="90">
                                            <p:txEl>
                                              <p:pRg st="0" end="0"/>
                                            </p:txEl>
                                          </p:spTgt>
                                        </p:tgtEl>
                                        <p:attrNameLst>
                                          <p:attrName>style.visibility</p:attrName>
                                        </p:attrNameLst>
                                      </p:cBhvr>
                                      <p:to>
                                        <p:strVal val="visible"/>
                                      </p:to>
                                    </p:set>
                                    <p:anim calcmode="lin" valueType="num">
                                      <p:cBhvr additive="repl">
                                        <p:cTn id="276" dur="500" fill="hold">
                                          <p:stCondLst>
                                            <p:cond delay="0"/>
                                          </p:stCondLst>
                                        </p:cTn>
                                        <p:tgtEl>
                                          <p:spTgt spid="90">
                                            <p:txEl>
                                              <p:pRg st="0" end="0"/>
                                            </p:txEl>
                                          </p:spTgt>
                                        </p:tgtEl>
                                        <p:attrNameLst>
                                          <p:attrName>r</p:attrName>
                                        </p:attrNameLst>
                                      </p:cBhvr>
                                      <p:tavLst>
                                        <p:tav tm="0">
                                          <p:val>
                                            <p:strVal val="-90"/>
                                          </p:val>
                                        </p:tav>
                                        <p:tav tm="100000">
                                          <p:val>
                                            <p:strVal val="0"/>
                                          </p:val>
                                        </p:tav>
                                      </p:tavLst>
                                    </p:anim>
                                    <p:anim calcmode="lin" valueType="num">
                                      <p:cBhvr additive="repl">
                                        <p:cTn id="277" dur="500" fill="hold">
                                          <p:stCondLst>
                                            <p:cond delay="0"/>
                                          </p:stCondLst>
                                        </p:cTn>
                                        <p:tgtEl>
                                          <p:spTgt spid="90">
                                            <p:txEl>
                                              <p:pRg st="0" end="0"/>
                                            </p:txEl>
                                          </p:spTgt>
                                        </p:tgtEl>
                                        <p:attrNameLst>
                                          <p:attrName>ppt_w</p:attrName>
                                        </p:attrNameLst>
                                      </p:cBhvr>
                                      <p:tavLst>
                                        <p:tav tm="0">
                                          <p:val>
                                            <p:strVal val="#ppt_w"/>
                                          </p:val>
                                        </p:tav>
                                        <p:tav tm="100000">
                                          <p:val>
                                            <p:strVal val="#ppt_w*.05"/>
                                          </p:val>
                                        </p:tav>
                                      </p:tavLst>
                                    </p:anim>
                                    <p:anim calcmode="lin" valueType="num">
                                      <p:cBhvr additive="repl">
                                        <p:cTn id="278" dur="500" fill="hold">
                                          <p:stCondLst>
                                            <p:cond delay="500"/>
                                          </p:stCondLst>
                                        </p:cTn>
                                        <p:tgtEl>
                                          <p:spTgt spid="90">
                                            <p:txEl>
                                              <p:pRg st="0" end="0"/>
                                            </p:txEl>
                                          </p:spTgt>
                                        </p:tgtEl>
                                        <p:attrNameLst>
                                          <p:attrName>ppt_w</p:attrName>
                                        </p:attrNameLst>
                                      </p:cBhvr>
                                      <p:tavLst>
                                        <p:tav tm="0">
                                          <p:val>
                                            <p:strVal val="#ppt_w*.05"/>
                                          </p:val>
                                        </p:tav>
                                        <p:tav tm="100000">
                                          <p:val>
                                            <p:strVal val="#ppt_w"/>
                                          </p:val>
                                        </p:tav>
                                      </p:tavLst>
                                    </p:anim>
                                    <p:anim calcmode="lin" valueType="num">
                                      <p:cBhvr additive="repl">
                                        <p:cTn id="279" dur="1000" fill="hold"/>
                                        <p:tgtEl>
                                          <p:spTgt spid="90">
                                            <p:txEl>
                                              <p:pRg st="0" end="0"/>
                                            </p:txEl>
                                          </p:spTgt>
                                        </p:tgtEl>
                                        <p:attrNameLst>
                                          <p:attrName>ppt_h</p:attrName>
                                        </p:attrNameLst>
                                      </p:cBhvr>
                                      <p:tavLst>
                                        <p:tav tm="0">
                                          <p:val>
                                            <p:strVal val="#ppt_h"/>
                                          </p:val>
                                        </p:tav>
                                        <p:tav tm="100000">
                                          <p:val>
                                            <p:strVal val="#ppt_h"/>
                                          </p:val>
                                        </p:tav>
                                      </p:tavLst>
                                    </p:anim>
                                    <p:anim calcmode="lin" valueType="num">
                                      <p:cBhvr additive="repl">
                                        <p:cTn id="280" dur="500" fill="hold">
                                          <p:stCondLst>
                                            <p:cond delay="0"/>
                                          </p:stCondLst>
                                        </p:cTn>
                                        <p:tgtEl>
                                          <p:spTgt spid="90">
                                            <p:txEl>
                                              <p:pRg st="0" end="0"/>
                                            </p:txEl>
                                          </p:spTgt>
                                        </p:tgtEl>
                                        <p:attrNameLst>
                                          <p:attrName>ppt_x</p:attrName>
                                        </p:attrNameLst>
                                      </p:cBhvr>
                                      <p:tavLst>
                                        <p:tav tm="0">
                                          <p:val>
                                            <p:strVal val="#ppt_x+.4"/>
                                          </p:val>
                                        </p:tav>
                                        <p:tav tm="100000">
                                          <p:val>
                                            <p:strVal val="#ppt_x"/>
                                          </p:val>
                                        </p:tav>
                                      </p:tavLst>
                                    </p:anim>
                                    <p:anim calcmode="lin" valueType="num">
                                      <p:cBhvr additive="repl">
                                        <p:cTn id="281" dur="500" fill="hold">
                                          <p:stCondLst>
                                            <p:cond delay="0"/>
                                          </p:stCondLst>
                                        </p:cTn>
                                        <p:tgtEl>
                                          <p:spTgt spid="90">
                                            <p:txEl>
                                              <p:pRg st="0" end="0"/>
                                            </p:txEl>
                                          </p:spTgt>
                                        </p:tgtEl>
                                        <p:attrNameLst>
                                          <p:attrName>ppt_y</p:attrName>
                                        </p:attrNameLst>
                                      </p:cBhvr>
                                      <p:tavLst>
                                        <p:tav tm="0">
                                          <p:val>
                                            <p:strVal val="#ppt_y-.2"/>
                                          </p:val>
                                        </p:tav>
                                        <p:tav tm="100000">
                                          <p:val>
                                            <p:strVal val="#ppt_y+.1"/>
                                          </p:val>
                                        </p:tav>
                                      </p:tavLst>
                                    </p:anim>
                                    <p:anim calcmode="lin" valueType="num">
                                      <p:cBhvr additive="repl">
                                        <p:cTn id="282" dur="500" fill="hold">
                                          <p:stCondLst>
                                            <p:cond delay="500"/>
                                          </p:stCondLst>
                                        </p:cTn>
                                        <p:tgtEl>
                                          <p:spTgt spid="90">
                                            <p:txEl>
                                              <p:pRg st="0" end="0"/>
                                            </p:txEl>
                                          </p:spTgt>
                                        </p:tgtEl>
                                        <p:attrNameLst>
                                          <p:attrName>ppt_y</p:attrName>
                                        </p:attrNameLst>
                                      </p:cBhvr>
                                      <p:tavLst>
                                        <p:tav tm="0">
                                          <p:val>
                                            <p:strVal val="#ppt_y+.1"/>
                                          </p:val>
                                        </p:tav>
                                        <p:tav tm="100000">
                                          <p:val>
                                            <p:strVal val="#ppt_y"/>
                                          </p:val>
                                        </p:tav>
                                      </p:tavLst>
                                    </p:anim>
                                    <p:animEffect filter="fade" transition="in">
                                      <p:cBhvr additive="repl">
                                        <p:cTn id="283" dur="1000">
                                          <p:stCondLst>
                                            <p:cond delay="0"/>
                                          </p:stCondLst>
                                        </p:cTn>
                                        <p:tgtEl>
                                          <p:spTgt spid="90">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91">
                                            <p:txEl>
                                              <p:pRg st="0" end="0"/>
                                            </p:txEl>
                                          </p:spTgt>
                                        </p:tgtEl>
                                        <p:attrNameLst>
                                          <p:attrName>style.visibility</p:attrName>
                                        </p:attrNameLst>
                                      </p:cBhvr>
                                      <p:to>
                                        <p:strVal val="visible"/>
                                      </p:to>
                                    </p:set>
                                    <p:anim calcmode="lin" valueType="num">
                                      <p:cBhvr additive="base">
                                        <p:cTn id="28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5">
                                  <p:stCondLst>
                                    <p:cond delay="0"/>
                                  </p:stCondLst>
                                  <p:childTnLst>
                                    <p:set>
                                      <p:cBhvr>
                                        <p:cTn id="293" dur="1" fill="hold">
                                          <p:stCondLst>
                                            <p:cond delay="0"/>
                                          </p:stCondLst>
                                        </p:cTn>
                                        <p:tgtEl>
                                          <p:spTgt spid="93">
                                            <p:txEl>
                                              <p:pRg st="0" end="0"/>
                                            </p:txEl>
                                          </p:spTgt>
                                        </p:tgtEl>
                                        <p:attrNameLst>
                                          <p:attrName>style.visibility</p:attrName>
                                        </p:attrNameLst>
                                      </p:cBhvr>
                                      <p:to>
                                        <p:strVal val="visible"/>
                                      </p:to>
                                    </p:set>
                                    <p:animEffect filter="fade" transition="in">
                                      <p:cBhvr additive="repl">
                                        <p:cTn id="294" dur="2000"/>
                                        <p:tgtEl>
                                          <p:spTgt spid="93">
                                            <p:txEl>
                                              <p:pRg st="0" end="0"/>
                                            </p:txEl>
                                          </p:spTgt>
                                        </p:tgtEl>
                                      </p:cBhvr>
                                    </p:animEffect>
                                    <p:anim calcmode="lin" valueType="num">
                                      <p:cBhvr additive="repl">
                                        <p:cTn id="295" dur="2000" fill="hold"/>
                                        <p:tgtEl>
                                          <p:spTgt spid="93">
                                            <p:txEl>
                                              <p:pRg st="0" end="0"/>
                                            </p:txEl>
                                          </p:spTgt>
                                        </p:tgtEl>
                                        <p:attrNameLst>
                                          <p:attrName>r</p:attrName>
                                        </p:attrNameLst>
                                      </p:cBhvr>
                                      <p:tavLst>
                                        <p:tav tm="0">
                                          <p:val>
                                            <p:strVal val="720"/>
                                          </p:val>
                                        </p:tav>
                                        <p:tav tm="100000">
                                          <p:val>
                                            <p:strVal val="0"/>
                                          </p:val>
                                        </p:tav>
                                      </p:tavLst>
                                    </p:anim>
                                    <p:anim calcmode="lin" valueType="num">
                                      <p:cBhvr additive="repl">
                                        <p:cTn id="296" dur="2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97" dur="2000" fill="hold"/>
                                        <p:tgtEl>
                                          <p:spTgt spid="9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story of Salem Villag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Salem Village also was divided between people  who wanted to separate from the village and those who didn’t.</a:t>
            </a:r>
            <a:endParaRPr b="0" lang="en-US" sz="24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alem was under British control because they were waiting for a new governor. But, when the new governor arrived, there were already a ton of people in jail after being accused of being witches.</a:t>
            </a:r>
            <a:endParaRPr b="0" lang="en-US" sz="2400" spc="-1" strike="noStrike">
              <a:solidFill>
                <a:srgbClr val="000000"/>
              </a:solidFill>
              <a:latin typeface="Arial"/>
            </a:endParaRPr>
          </a:p>
          <a:p>
            <a:pPr marL="343080" indent="-34308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Having no governor impacted Salem because no one could restore order and get people to realize that killing people after accusing them of being witches was not right.</a:t>
            </a:r>
            <a:endParaRPr b="0" lang="en-US" sz="2400" spc="-1" strike="noStrike">
              <a:solidFill>
                <a:srgbClr val="000000"/>
              </a:solidFill>
              <a:latin typeface="Arial"/>
            </a:endParaRPr>
          </a:p>
        </p:txBody>
      </p:sp>
    </p:spTree>
  </p:cSld>
  <p:transition>
    <p:pull dir="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39">
                                  <p:stCondLst>
                                    <p:cond delay="0"/>
                                  </p:stCondLst>
                                  <p:childTnLst>
                                    <p:set>
                                      <p:cBhvr>
                                        <p:cTn id="303" dur="1" fill="hold">
                                          <p:stCondLst>
                                            <p:cond delay="0"/>
                                          </p:stCondLst>
                                        </p:cTn>
                                        <p:tgtEl>
                                          <p:spTgt spid="94"/>
                                        </p:tgtEl>
                                        <p:attrNameLst>
                                          <p:attrName>style.visibility</p:attrName>
                                        </p:attrNameLst>
                                      </p:cBhvr>
                                      <p:to>
                                        <p:strVal val="visible"/>
                                      </p:to>
                                    </p:set>
                                    <p:anim calcmode="lin" valueType="num">
                                      <p:cBhvr additive="repl">
                                        <p:cTn id="304"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autoRev="1" nodeType="clickEffect" fill="hold" presetClass="emph" presetID="6">
                                  <p:stCondLst>
                                    <p:cond delay="0"/>
                                  </p:stCondLst>
                                  <p:childTnLst>
                                    <p:animScale>
                                      <p:cBhvr>
                                        <p:cTn id="311" dur="449" fill="hold">
                                          <p:stCondLst>
                                            <p:cond delay="0"/>
                                          </p:stCondLst>
                                        </p:cTn>
                                        <p:tgtEl>
                                          <p:spTgt spid="94"/>
                                        </p:tgtEl>
                                      </p:cBhvr>
                                      <p:to x="150000" y="150000"/>
                                    </p:animScale>
                                  </p:childTnLst>
                                </p:cTn>
                              </p:par>
                              <p:par>
                                <p:cTn id="312" nodeType="withEffect" fill="hold" presetClass="entr" presetID="23" presetSubtype="16">
                                  <p:stCondLst>
                                    <p:cond delay="400"/>
                                  </p:stCondLst>
                                  <p:childTnLst>
                                    <p:set>
                                      <p:cBhvr>
                                        <p:cTn id="313" dur="1" fill="hold">
                                          <p:stCondLst>
                                            <p:cond delay="0"/>
                                          </p:stCondLst>
                                        </p:cTn>
                                        <p:tgtEl>
                                          <p:spTgt spid="95">
                                            <p:txEl>
                                              <p:pRg st="0" end="0"/>
                                            </p:txEl>
                                          </p:spTgt>
                                        </p:tgtEl>
                                        <p:attrNameLst>
                                          <p:attrName>style.visibility</p:attrName>
                                        </p:attrNameLst>
                                      </p:cBhvr>
                                      <p:to>
                                        <p:strVal val="visible"/>
                                      </p:to>
                                    </p:set>
                                    <p:anim calcmode="lin" valueType="num">
                                      <p:cBhvr additive="repl">
                                        <p:cTn id="31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95">
                                            <p:txEl>
                                              <p:pRg st="1" end="1"/>
                                            </p:txEl>
                                          </p:spTgt>
                                        </p:tgtEl>
                                        <p:attrNameLst>
                                          <p:attrName>style.visibility</p:attrName>
                                        </p:attrNameLst>
                                      </p:cBhvr>
                                      <p:to>
                                        <p:strVal val="visible"/>
                                      </p:to>
                                    </p:set>
                                    <p:anim calcmode="lin" valueType="num">
                                      <p:cBhvr additive="repl">
                                        <p:cTn id="32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95">
                                            <p:txEl>
                                              <p:pRg st="2" end="2"/>
                                            </p:txEl>
                                          </p:spTgt>
                                        </p:tgtEl>
                                        <p:attrNameLst>
                                          <p:attrName>style.visibility</p:attrName>
                                        </p:attrNameLst>
                                      </p:cBhvr>
                                      <p:to>
                                        <p:strVal val="visible"/>
                                      </p:to>
                                    </p:set>
                                    <p:anim calcmode="lin" valueType="num">
                                      <p:cBhvr additive="repl">
                                        <p:cTn id="326"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23" presetSubtype="32">
                                  <p:stCondLst>
                                    <p:cond delay="0"/>
                                  </p:stCondLst>
                                  <p:childTnLst>
                                    <p:anim calcmode="lin" valueType="num">
                                      <p:cBhvr additive="repl">
                                        <p:cTn id="331" dur="500" fill="hold"/>
                                        <p:tgtEl>
                                          <p:spTgt spid="94"/>
                                        </p:tgtEl>
                                        <p:attrNameLst>
                                          <p:attrName>ppt_w</p:attrName>
                                        </p:attrNameLst>
                                      </p:cBhvr>
                                      <p:tavLst>
                                        <p:tav tm="0">
                                          <p:val>
                                            <p:strVal val="#ppt_w"/>
                                          </p:val>
                                        </p:tav>
                                        <p:tav tm="100000">
                                          <p:val>
                                            <p:fltVal val="0"/>
                                          </p:val>
                                        </p:tav>
                                      </p:tavLst>
                                    </p:anim>
                                    <p:anim calcmode="lin" valueType="num">
                                      <p:cBhvr additive="repl">
                                        <p:cTn id="332" dur="500" fill="hold"/>
                                        <p:tgtEl>
                                          <p:spTgt spid="94"/>
                                        </p:tgtEl>
                                        <p:attrNameLst>
                                          <p:attrName>ppt_h</p:attrName>
                                        </p:attrNameLst>
                                      </p:cBhvr>
                                      <p:tavLst>
                                        <p:tav tm="0">
                                          <p:val>
                                            <p:strVal val="#ppt_h"/>
                                          </p:val>
                                        </p:tav>
                                        <p:tav tm="100000">
                                          <p:val>
                                            <p:fltVal val="0"/>
                                          </p:val>
                                        </p:tav>
                                      </p:tavLst>
                                    </p:anim>
                                    <p:set>
                                      <p:cBhvr>
                                        <p:cTn id="333" dur="1" fill="hold">
                                          <p:stCondLst>
                                            <p:cond delay="499"/>
                                          </p:stCondLst>
                                        </p:cTn>
                                        <p:tgtEl>
                                          <p:spTgt spid="94"/>
                                        </p:tgtEl>
                                        <p:attrNameLst>
                                          <p:attrName>style.visibility</p:attrName>
                                        </p:attrNameLst>
                                      </p:cBhvr>
                                      <p:to>
                                        <p:strVal val="hidden"/>
                                      </p:to>
                                    </p:set>
                                  </p:childTnLst>
                                </p:cTn>
                              </p:par>
                              <p:par>
                                <p:cTn id="334" nodeType="withEffect" fill="hold" presetClass="exit" presetID="23" presetSubtype="32">
                                  <p:stCondLst>
                                    <p:cond delay="0"/>
                                  </p:stCondLst>
                                  <p:childTnLst>
                                    <p:anim calcmode="lin" valueType="num">
                                      <p:cBhvr additive="repl">
                                        <p:cTn id="335" dur="500" fill="hold"/>
                                        <p:tgtEl>
                                          <p:spTgt spid="95">
                                            <p:txEl>
                                              <p:pRg st="0" end="0"/>
                                            </p:txEl>
                                          </p:spTgt>
                                        </p:tgtEl>
                                        <p:attrNameLst>
                                          <p:attrName>ppt_w</p:attrName>
                                        </p:attrNameLst>
                                      </p:cBhvr>
                                      <p:tavLst>
                                        <p:tav tm="0">
                                          <p:val>
                                            <p:strVal val="#ppt_w"/>
                                          </p:val>
                                        </p:tav>
                                        <p:tav tm="100000">
                                          <p:val>
                                            <p:fltVal val="0"/>
                                          </p:val>
                                        </p:tav>
                                      </p:tavLst>
                                    </p:anim>
                                    <p:anim calcmode="lin" valueType="num">
                                      <p:cBhvr additive="repl">
                                        <p:cTn id="336" dur="500" fill="hold"/>
                                        <p:tgtEl>
                                          <p:spTgt spid="95">
                                            <p:txEl>
                                              <p:pRg st="0" end="0"/>
                                            </p:txEl>
                                          </p:spTgt>
                                        </p:tgtEl>
                                        <p:attrNameLst>
                                          <p:attrName>ppt_h</p:attrName>
                                        </p:attrNameLst>
                                      </p:cBhvr>
                                      <p:tavLst>
                                        <p:tav tm="0">
                                          <p:val>
                                            <p:strVal val="#ppt_h"/>
                                          </p:val>
                                        </p:tav>
                                        <p:tav tm="100000">
                                          <p:val>
                                            <p:fltVal val="0"/>
                                          </p:val>
                                        </p:tav>
                                      </p:tavLst>
                                    </p:anim>
                                    <p:set>
                                      <p:cBhvr>
                                        <p:cTn id="337" dur="1" fill="hold">
                                          <p:stCondLst>
                                            <p:cond delay="499"/>
                                          </p:stCondLst>
                                        </p:cTn>
                                        <p:tgtEl>
                                          <p:spTgt spid="95">
                                            <p:txEl>
                                              <p:pRg st="0" end="0"/>
                                            </p:txEl>
                                          </p:spTgt>
                                        </p:tgtEl>
                                        <p:attrNameLst>
                                          <p:attrName>style.visibility</p:attrName>
                                        </p:attrNameLst>
                                      </p:cBhvr>
                                      <p:to>
                                        <p:strVal val="hidden"/>
                                      </p:to>
                                    </p:set>
                                  </p:childTnLst>
                                </p:cTn>
                              </p:par>
                              <p:par>
                                <p:cTn id="338" nodeType="withEffect" fill="hold" presetClass="exit" presetID="23" presetSubtype="32">
                                  <p:stCondLst>
                                    <p:cond delay="0"/>
                                  </p:stCondLst>
                                  <p:childTnLst>
                                    <p:anim calcmode="lin" valueType="num">
                                      <p:cBhvr additive="repl">
                                        <p:cTn id="339" dur="500" fill="hold"/>
                                        <p:tgtEl>
                                          <p:spTgt spid="95">
                                            <p:txEl>
                                              <p:pRg st="1" end="1"/>
                                            </p:txEl>
                                          </p:spTgt>
                                        </p:tgtEl>
                                        <p:attrNameLst>
                                          <p:attrName>ppt_w</p:attrName>
                                        </p:attrNameLst>
                                      </p:cBhvr>
                                      <p:tavLst>
                                        <p:tav tm="0">
                                          <p:val>
                                            <p:strVal val="#ppt_w"/>
                                          </p:val>
                                        </p:tav>
                                        <p:tav tm="100000">
                                          <p:val>
                                            <p:fltVal val="0"/>
                                          </p:val>
                                        </p:tav>
                                      </p:tavLst>
                                    </p:anim>
                                    <p:anim calcmode="lin" valueType="num">
                                      <p:cBhvr additive="repl">
                                        <p:cTn id="340" dur="500" fill="hold"/>
                                        <p:tgtEl>
                                          <p:spTgt spid="95">
                                            <p:txEl>
                                              <p:pRg st="1" end="1"/>
                                            </p:txEl>
                                          </p:spTgt>
                                        </p:tgtEl>
                                        <p:attrNameLst>
                                          <p:attrName>ppt_h</p:attrName>
                                        </p:attrNameLst>
                                      </p:cBhvr>
                                      <p:tavLst>
                                        <p:tav tm="0">
                                          <p:val>
                                            <p:strVal val="#ppt_h"/>
                                          </p:val>
                                        </p:tav>
                                        <p:tav tm="100000">
                                          <p:val>
                                            <p:fltVal val="0"/>
                                          </p:val>
                                        </p:tav>
                                      </p:tavLst>
                                    </p:anim>
                                    <p:set>
                                      <p:cBhvr>
                                        <p:cTn id="341" dur="1" fill="hold">
                                          <p:stCondLst>
                                            <p:cond delay="499"/>
                                          </p:stCondLst>
                                        </p:cTn>
                                        <p:tgtEl>
                                          <p:spTgt spid="95">
                                            <p:txEl>
                                              <p:pRg st="1" end="1"/>
                                            </p:txEl>
                                          </p:spTgt>
                                        </p:tgtEl>
                                        <p:attrNameLst>
                                          <p:attrName>style.visibility</p:attrName>
                                        </p:attrNameLst>
                                      </p:cBhvr>
                                      <p:to>
                                        <p:strVal val="hidden"/>
                                      </p:to>
                                    </p:set>
                                  </p:childTnLst>
                                </p:cTn>
                              </p:par>
                              <p:par>
                                <p:cTn id="342" nodeType="withEffect" fill="hold" presetClass="exit" presetID="23" presetSubtype="32">
                                  <p:stCondLst>
                                    <p:cond delay="0"/>
                                  </p:stCondLst>
                                  <p:childTnLst>
                                    <p:anim calcmode="lin" valueType="num">
                                      <p:cBhvr additive="repl">
                                        <p:cTn id="343" dur="500" fill="hold"/>
                                        <p:tgtEl>
                                          <p:spTgt spid="95">
                                            <p:txEl>
                                              <p:pRg st="2" end="2"/>
                                            </p:txEl>
                                          </p:spTgt>
                                        </p:tgtEl>
                                        <p:attrNameLst>
                                          <p:attrName>ppt_w</p:attrName>
                                        </p:attrNameLst>
                                      </p:cBhvr>
                                      <p:tavLst>
                                        <p:tav tm="0">
                                          <p:val>
                                            <p:strVal val="#ppt_w"/>
                                          </p:val>
                                        </p:tav>
                                        <p:tav tm="100000">
                                          <p:val>
                                            <p:fltVal val="0"/>
                                          </p:val>
                                        </p:tav>
                                      </p:tavLst>
                                    </p:anim>
                                    <p:anim calcmode="lin" valueType="num">
                                      <p:cBhvr additive="repl">
                                        <p:cTn id="344" dur="500" fill="hold"/>
                                        <p:tgtEl>
                                          <p:spTgt spid="95">
                                            <p:txEl>
                                              <p:pRg st="2" end="2"/>
                                            </p:txEl>
                                          </p:spTgt>
                                        </p:tgtEl>
                                        <p:attrNameLst>
                                          <p:attrName>ppt_h</p:attrName>
                                        </p:attrNameLst>
                                      </p:cBhvr>
                                      <p:tavLst>
                                        <p:tav tm="0">
                                          <p:val>
                                            <p:strVal val="#ppt_h"/>
                                          </p:val>
                                        </p:tav>
                                        <p:tav tm="100000">
                                          <p:val>
                                            <p:fltVal val="0"/>
                                          </p:val>
                                        </p:tav>
                                      </p:tavLst>
                                    </p:anim>
                                    <p:set>
                                      <p:cBhvr>
                                        <p:cTn id="345"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78d6"/>
                </a:solidFill>
                <a:latin typeface="Arial"/>
              </a:rPr>
              <a:t>History of Salem Vill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143000"/>
            <a:ext cx="8229600" cy="4495680"/>
          </a:xfrm>
          <a:prstGeom prst="rect">
            <a:avLst/>
          </a:prstGeom>
          <a:noFill/>
          <a:ln w="0">
            <a:noFill/>
          </a:ln>
        </p:spPr>
        <p:txBody>
          <a:bodyPr anchor="t">
            <a:normAutofit fontScale="88000"/>
          </a:bodyPr>
          <a:p>
            <a:pPr marL="301680" indent="-3016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cas Good was the first child accused of witchcraft. She was put in jail for 8 months even though she was only 4 years old! She also watched her mom being carried off to the gallows to be killed because she was accused of being a witch. The girl then cried her eyes out and went insane. </a:t>
            </a:r>
            <a:endParaRPr b="0" lang="en-US" sz="2400" spc="-1" strike="noStrike">
              <a:solidFill>
                <a:srgbClr val="000000"/>
              </a:solidFill>
              <a:latin typeface="Arial"/>
            </a:endParaRPr>
          </a:p>
          <a:p>
            <a:pPr marL="301680" indent="-3016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all, 38 people died or were killed for being accused of witchcraft. Nineteen people were hung in 1692. One man was pressed to death when failing to plead guilty or not guilty. And, 19 others died in jail in 1692.</a:t>
            </a:r>
            <a:endParaRPr b="0" lang="en-US" sz="2400" spc="-1" strike="noStrike">
              <a:solidFill>
                <a:srgbClr val="000000"/>
              </a:solidFill>
              <a:latin typeface="Arial"/>
            </a:endParaRPr>
          </a:p>
          <a:p>
            <a:pPr marL="301680" indent="-3016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witch cake was made of rye meal mixed with urine from the person thought to be a witch. The cake was fed to a dog, and if the dog displayed actions similar to the accused witch, then the person was said to be bewitched.</a:t>
            </a:r>
            <a:endParaRPr b="0" lang="en-US" sz="2400" spc="-1" strike="noStrike">
              <a:solidFill>
                <a:srgbClr val="000000"/>
              </a:solidFill>
              <a:latin typeface="Arial"/>
            </a:endParaRPr>
          </a:p>
        </p:txBody>
      </p:sp>
    </p:spTree>
  </p:cSld>
  <p:transition>
    <p:push dir="r"/>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 presetSubtype="9">
                                  <p:stCondLst>
                                    <p:cond delay="0"/>
                                  </p:stCondLst>
                                  <p:iterate type="lt">
                                    <p:tmAbs val="80"/>
                                  </p:iterate>
                                  <p:childTnLst>
                                    <p:set>
                                      <p:cBhvr>
                                        <p:cTn id="351" dur="1" fill="hold">
                                          <p:stCondLst>
                                            <p:cond delay="0"/>
                                          </p:stCondLst>
                                        </p:cTn>
                                        <p:tgtEl>
                                          <p:spTgt spid="96"/>
                                        </p:tgtEl>
                                        <p:attrNameLst>
                                          <p:attrName>style.visibility</p:attrName>
                                        </p:attrNameLst>
                                      </p:cBhvr>
                                      <p:to>
                                        <p:strVal val="visible"/>
                                      </p:to>
                                    </p:set>
                                    <p:anim calcmode="lin" valueType="num">
                                      <p:cBhvr additive="base">
                                        <p:cTn id="352" dur="800" fill="hold">
                                          <p:stCondLst>
                                            <p:cond delay="0"/>
                                          </p:stCondLst>
                                        </p:cTn>
                                        <p:tgtEl>
                                          <p:spTgt spid="96"/>
                                        </p:tgtEl>
                                        <p:attrNameLst>
                                          <p:attrName>ppt_x</p:attrName>
                                        </p:attrNameLst>
                                      </p:cBhvr>
                                      <p:tavLst>
                                        <p:tav tm="0">
                                          <p:val>
                                            <p:strVal val="0-#ppt_w/2"/>
                                          </p:val>
                                        </p:tav>
                                        <p:tav tm="100000">
                                          <p:val>
                                            <p:strVal val="#ppt_x"/>
                                          </p:val>
                                        </p:tav>
                                      </p:tavLst>
                                    </p:anim>
                                    <p:anim calcmode="lin" valueType="num">
                                      <p:cBhvr additive="base">
                                        <p:cTn id="353" dur="800" fill="hold">
                                          <p:stCondLst>
                                            <p:cond delay="0"/>
                                          </p:stCondLst>
                                        </p:cTn>
                                        <p:tgtEl>
                                          <p:spTgt spid="96"/>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97">
                                            <p:txEl>
                                              <p:pRg st="0" end="0"/>
                                            </p:txEl>
                                          </p:spTgt>
                                        </p:tgtEl>
                                        <p:attrNameLst>
                                          <p:attrName>style.visibility</p:attrName>
                                        </p:attrNameLst>
                                      </p:cBhvr>
                                      <p:to>
                                        <p:strVal val="visible"/>
                                      </p:to>
                                    </p:set>
                                    <p:animEffect filter="fade" transition="in">
                                      <p:cBhvr additive="repl">
                                        <p:cTn id="358" dur="1000"/>
                                        <p:tgtEl>
                                          <p:spTgt spid="97">
                                            <p:txEl>
                                              <p:pRg st="0" end="0"/>
                                            </p:txEl>
                                          </p:spTgt>
                                        </p:tgtEl>
                                      </p:cBhvr>
                                    </p:animEffect>
                                    <p:anim calcmode="lin" valueType="num">
                                      <p:cBhvr additive="repl">
                                        <p:cTn id="359" dur="1000" fill="hold"/>
                                        <p:tgtEl>
                                          <p:spTgt spid="97">
                                            <p:txEl>
                                              <p:pRg st="0" end="0"/>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0">
                                  <p:stCondLst>
                                    <p:cond delay="0"/>
                                  </p:stCondLst>
                                  <p:iterate type="lt">
                                    <p:tmAbs val="100"/>
                                  </p:iterate>
                                  <p:childTnLst>
                                    <p:set>
                                      <p:cBhvr>
                                        <p:cTn id="364" dur="1" fill="hold">
                                          <p:stCondLst>
                                            <p:cond delay="0"/>
                                          </p:stCondLst>
                                        </p:cTn>
                                        <p:tgtEl>
                                          <p:spTgt spid="97">
                                            <p:txEl>
                                              <p:pRg st="1" end="1"/>
                                            </p:txEl>
                                          </p:spTgt>
                                        </p:tgtEl>
                                        <p:attrNameLst>
                                          <p:attrName>style.visibility</p:attrName>
                                        </p:attrNameLst>
                                      </p:cBhvr>
                                      <p:to>
                                        <p:strVal val="visible"/>
                                      </p:to>
                                    </p:set>
                                    <p:animEffect filter="fade" transition="in">
                                      <p:cBhvr additive="repl">
                                        <p:cTn id="365" dur="1000"/>
                                        <p:tgtEl>
                                          <p:spTgt spid="97">
                                            <p:txEl>
                                              <p:pRg st="1" end="1"/>
                                            </p:txEl>
                                          </p:spTgt>
                                        </p:tgtEl>
                                      </p:cBhvr>
                                    </p:animEffect>
                                    <p:anim calcmode="lin" valueType="num">
                                      <p:cBhvr additive="repl">
                                        <p:cTn id="366" dur="1000" fill="hold"/>
                                        <p:tgtEl>
                                          <p:spTgt spid="97">
                                            <p:txEl>
                                              <p:pRg st="1" end="1"/>
                                            </p:txEl>
                                          </p:spTgt>
                                        </p:tgtEl>
                                        <p:attrNameLst>
                                          <p:attrName>ppt_x</p:attrName>
                                        </p:attrNameLst>
                                      </p:cBhvr>
                                      <p:tavLst>
                                        <p:tav tm="0">
                                          <p:val>
                                            <p:strVal val="#ppt_x-.1"/>
                                          </p:val>
                                        </p:tav>
                                        <p:tav tm="100000">
                                          <p:val>
                                            <p:strVal val="#ppt_x"/>
                                          </p:val>
                                        </p:tav>
                                      </p:tavLst>
                                    </p:anim>
                                    <p:anim calcmode="lin" valueType="num">
                                      <p:cBhvr additive="repl">
                                        <p:cTn id="367" dur="10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0">
                                  <p:stCondLst>
                                    <p:cond delay="0"/>
                                  </p:stCondLst>
                                  <p:iterate type="lt">
                                    <p:tmAbs val="100"/>
                                  </p:iterate>
                                  <p:childTnLst>
                                    <p:set>
                                      <p:cBhvr>
                                        <p:cTn id="371" dur="1" fill="hold">
                                          <p:stCondLst>
                                            <p:cond delay="0"/>
                                          </p:stCondLst>
                                        </p:cTn>
                                        <p:tgtEl>
                                          <p:spTgt spid="97">
                                            <p:txEl>
                                              <p:pRg st="2" end="2"/>
                                            </p:txEl>
                                          </p:spTgt>
                                        </p:tgtEl>
                                        <p:attrNameLst>
                                          <p:attrName>style.visibility</p:attrName>
                                        </p:attrNameLst>
                                      </p:cBhvr>
                                      <p:to>
                                        <p:strVal val="visible"/>
                                      </p:to>
                                    </p:set>
                                    <p:animEffect filter="fade" transition="in">
                                      <p:cBhvr additive="repl">
                                        <p:cTn id="372" dur="1000"/>
                                        <p:tgtEl>
                                          <p:spTgt spid="97">
                                            <p:txEl>
                                              <p:pRg st="2" end="2"/>
                                            </p:txEl>
                                          </p:spTgt>
                                        </p:tgtEl>
                                      </p:cBhvr>
                                    </p:animEffect>
                                    <p:anim calcmode="lin" valueType="num">
                                      <p:cBhvr additive="repl">
                                        <p:cTn id="373" dur="1000" fill="hold"/>
                                        <p:tgtEl>
                                          <p:spTgt spid="97">
                                            <p:txEl>
                                              <p:pRg st="2" end="2"/>
                                            </p:txEl>
                                          </p:spTgt>
                                        </p:tgtEl>
                                        <p:attrNameLst>
                                          <p:attrName>ppt_x</p:attrName>
                                        </p:attrNameLst>
                                      </p:cBhvr>
                                      <p:tavLst>
                                        <p:tav tm="0">
                                          <p:val>
                                            <p:strVal val="#ppt_x-.1"/>
                                          </p:val>
                                        </p:tav>
                                        <p:tav tm="100000">
                                          <p:val>
                                            <p:strVal val="#ppt_x"/>
                                          </p:val>
                                        </p:tav>
                                      </p:tavLst>
                                    </p:anim>
                                    <p:anim calcmode="lin" valueType="num">
                                      <p:cBhvr additive="repl">
                                        <p:cTn id="374" dur="10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ources</a:t>
            </a:r>
            <a:endParaRPr b="0" lang="en-US" sz="4400" spc="-1" strike="noStrike">
              <a:solidFill>
                <a:srgbClr val="000000"/>
              </a:solidFill>
              <a:latin typeface="Arial"/>
            </a:endParaRPr>
          </a:p>
        </p:txBody>
      </p:sp>
      <p:sp>
        <p:nvSpPr>
          <p:cNvPr id="99" name="PlaceHolder 2"/>
          <p:cNvSpPr>
            <a:spLocks noGrp="1"/>
          </p:cNvSpPr>
          <p:nvPr>
            <p:ph/>
          </p:nvPr>
        </p:nvSpPr>
        <p:spPr>
          <a:xfrm>
            <a:off x="609480" y="114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alem Witch Trials: The World Behind the Hysteria</a:t>
            </a:r>
            <a:r>
              <a:rPr b="0" lang="en-US" sz="2000" spc="-1" strike="noStrike">
                <a:solidFill>
                  <a:srgbClr val="000000"/>
                </a:solidFill>
                <a:latin typeface="Arial"/>
              </a:rPr>
              <a:t> provided by Discovery Education </a:t>
            </a:r>
            <a:endParaRPr b="0" lang="en-US" sz="2000" spc="-1" strike="noStrike">
              <a:solidFill>
                <a:srgbClr val="000000"/>
              </a:solidFill>
              <a:latin typeface="Arial"/>
            </a:endParaRPr>
          </a:p>
        </p:txBody>
      </p:sp>
      <p:sp>
        <p:nvSpPr>
          <p:cNvPr id="100" name="Rectangle 4"/>
          <p:cNvSpPr/>
          <p:nvPr/>
        </p:nvSpPr>
        <p:spPr>
          <a:xfrm>
            <a:off x="914400" y="1831680"/>
            <a:ext cx="7238880" cy="52124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mous American Trials: Salem Witchcraft Trials of 1692</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ersons in the Salem Court Recor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About the Word "Wit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craft Hyster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 Trials: A Chronology of Ev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s and Causes of the Salem Witch T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witness to History: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ef History of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Article on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41">
                                  <p:stCondLst>
                                    <p:cond delay="0"/>
                                  </p:stCondLst>
                                  <p:iterate type="lt">
                                    <p:tmAbs val="50"/>
                                  </p:iterate>
                                  <p:childTnLst>
                                    <p:set>
                                      <p:cBhvr>
                                        <p:cTn id="380" dur="1" fill="hold">
                                          <p:stCondLst>
                                            <p:cond delay="0"/>
                                          </p:stCondLst>
                                        </p:cTn>
                                        <p:tgtEl>
                                          <p:spTgt spid="98"/>
                                        </p:tgtEl>
                                        <p:attrNameLst>
                                          <p:attrName>style.visibility</p:attrName>
                                        </p:attrNameLst>
                                      </p:cBhvr>
                                      <p:to>
                                        <p:strVal val="visible"/>
                                      </p:to>
                                    </p:set>
                                    <p:anim calcmode="lin" valueType="num">
                                      <p:cBhvr additive="repl">
                                        <p:cTn id="381"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2" dur="500" fill="hold"/>
                                        <p:tgtEl>
                                          <p:spTgt spid="98"/>
                                        </p:tgtEl>
                                        <p:attrNameLst>
                                          <p:attrName>ppt_y</p:attrName>
                                        </p:attrNameLst>
                                      </p:cBhvr>
                                      <p:tavLst>
                                        <p:tav tm="0">
                                          <p:val>
                                            <p:strVal val="#ppt_y"/>
                                          </p:val>
                                        </p:tav>
                                        <p:tav tm="100000">
                                          <p:val>
                                            <p:strVal val="#ppt_y"/>
                                          </p:val>
                                        </p:tav>
                                      </p:tavLst>
                                    </p:anim>
                                    <p:anim calcmode="lin" valueType="num">
                                      <p:cBhvr additive="repl">
                                        <p:cTn id="383"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5" dur="500"/>
                                        <p:tgtEl>
                                          <p:spTgt spid="98"/>
                                        </p:tgtEl>
                                      </p:cBhvr>
                                    </p:animEffect>
                                  </p:childTnLst>
                                </p:cTn>
                              </p:par>
                            </p:childTnLst>
                          </p:cTn>
                        </p:par>
                        <p:par>
                          <p:cTn id="386" fill="hold">
                            <p:stCondLst>
                              <p:cond delay="800"/>
                            </p:stCondLst>
                            <p:childTnLst>
                              <p:par>
                                <p:cTn id="387" nodeType="afterEffect" fill="hold" presetClass="entr" presetID="18" presetSubtype="12">
                                  <p:stCondLst>
                                    <p:cond delay="0"/>
                                  </p:stCondLst>
                                  <p:childTnLst>
                                    <p:set>
                                      <p:cBhvr>
                                        <p:cTn id="388"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389" dur="500"/>
                                        <p:tgtEl>
                                          <p:spTgt spid="100">
                                            <p:txEl>
                                              <p:pRg st="1" end="1"/>
                                            </p:txEl>
                                          </p:spTgt>
                                        </p:tgtEl>
                                      </p:cBhvr>
                                    </p:animEffect>
                                  </p:childTnLst>
                                </p:cTn>
                              </p:par>
                            </p:childTnLst>
                          </p:cTn>
                        </p:par>
                        <p:par>
                          <p:cTn id="390" fill="hold">
                            <p:stCondLst>
                              <p:cond delay="1300"/>
                            </p:stCondLst>
                            <p:childTnLst>
                              <p:par>
                                <p:cTn id="391" nodeType="afterEffect" fill="hold" presetClass="entr" presetID="19" presetSubtype="10">
                                  <p:stCondLst>
                                    <p:cond delay="0"/>
                                  </p:stCondLst>
                                  <p:childTnLst>
                                    <p:set>
                                      <p:cBhvr>
                                        <p:cTn id="392" dur="1" fill="hold">
                                          <p:stCondLst>
                                            <p:cond delay="0"/>
                                          </p:stCondLst>
                                        </p:cTn>
                                        <p:tgtEl>
                                          <p:spTgt spid="100">
                                            <p:txEl>
                                              <p:pRg st="6" end="6"/>
                                            </p:txEl>
                                          </p:spTgt>
                                        </p:tgtEl>
                                        <p:attrNameLst>
                                          <p:attrName>style.visibility</p:attrName>
                                        </p:attrNameLst>
                                      </p:cBhvr>
                                      <p:to>
                                        <p:strVal val="visible"/>
                                      </p:to>
                                    </p:set>
                                    <p:anim calcmode="lin" valueType="num">
                                      <p:cBhvr additive="repl">
                                        <p:cTn id="393" dur="5000" fill="hold"/>
                                        <p:tgtEl>
                                          <p:spTgt spid="100">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394" dur="5000" fill="hold"/>
                                        <p:tgtEl>
                                          <p:spTgt spid="100">
                                            <p:txEl>
                                              <p:pRg st="6" end="6"/>
                                            </p:txEl>
                                          </p:spTgt>
                                        </p:tgtEl>
                                        <p:attrNameLst>
                                          <p:attrName>ppt_h</p:attrName>
                                        </p:attrNameLst>
                                      </p:cBhvr>
                                      <p:tavLst>
                                        <p:tav tm="0">
                                          <p:val>
                                            <p:strVal val="#ppt_h"/>
                                          </p:val>
                                        </p:tav>
                                        <p:tav tm="100000">
                                          <p:val>
                                            <p:strVal val="#ppt_h"/>
                                          </p:val>
                                        </p:tav>
                                      </p:tavLst>
                                    </p:anim>
                                  </p:childTnLst>
                                </p:cTn>
                              </p:par>
                            </p:childTnLst>
                          </p:cTn>
                        </p:par>
                        <p:par>
                          <p:cTn id="395" fill="hold">
                            <p:stCondLst>
                              <p:cond delay="6300"/>
                            </p:stCondLst>
                            <p:childTnLst>
                              <p:par>
                                <p:cTn id="396" nodeType="afterEffect" fill="hold" presetClass="entr" presetID="2" presetSubtype="4">
                                  <p:stCondLst>
                                    <p:cond delay="0"/>
                                  </p:stCondLst>
                                  <p:childTnLst>
                                    <p:set>
                                      <p:cBhvr>
                                        <p:cTn id="397" dur="1" fill="hold">
                                          <p:stCondLst>
                                            <p:cond delay="0"/>
                                          </p:stCondLst>
                                        </p:cTn>
                                        <p:tgtEl>
                                          <p:spTgt spid="100">
                                            <p:txEl>
                                              <p:pRg st="8" end="8"/>
                                            </p:txEl>
                                          </p:spTgt>
                                        </p:tgtEl>
                                        <p:attrNameLst>
                                          <p:attrName>style.visibility</p:attrName>
                                        </p:attrNameLst>
                                      </p:cBhvr>
                                      <p:to>
                                        <p:strVal val="visible"/>
                                      </p:to>
                                    </p:set>
                                    <p:anim calcmode="lin" valueType="num">
                                      <p:cBhvr additive="base">
                                        <p:cTn id="398"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00">
                                            <p:txEl>
                                              <p:pRg st="8" end="8"/>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6800"/>
                            </p:stCondLst>
                            <p:childTnLst>
                              <p:par>
                                <p:cTn id="401" nodeType="afterEffect" fill="hold" presetClass="entr" presetID="21" presetSubtype="4">
                                  <p:stCondLst>
                                    <p:cond delay="0"/>
                                  </p:stCondLst>
                                  <p:childTnLst>
                                    <p:set>
                                      <p:cBhvr>
                                        <p:cTn id="402" dur="1" fill="hold">
                                          <p:stCondLst>
                                            <p:cond delay="0"/>
                                          </p:stCondLst>
                                        </p:cTn>
                                        <p:tgtEl>
                                          <p:spTgt spid="100">
                                            <p:txEl>
                                              <p:pRg st="10" end="10"/>
                                            </p:txEl>
                                          </p:spTgt>
                                        </p:tgtEl>
                                        <p:attrNameLst>
                                          <p:attrName>style.visibility</p:attrName>
                                        </p:attrNameLst>
                                      </p:cBhvr>
                                      <p:to>
                                        <p:strVal val="visible"/>
                                      </p:to>
                                    </p:set>
                                    <p:animEffect filter="wheel(4)" transition="in">
                                      <p:cBhvr additive="repl">
                                        <p:cTn id="403" dur="2000"/>
                                        <p:tgtEl>
                                          <p:spTgt spid="100">
                                            <p:txEl>
                                              <p:pRg st="10" end="10"/>
                                            </p:txEl>
                                          </p:spTgt>
                                        </p:tgtEl>
                                      </p:cBhvr>
                                    </p:animEffect>
                                  </p:childTnLst>
                                </p:cTn>
                              </p:par>
                            </p:childTnLst>
                          </p:cTn>
                        </p:par>
                        <p:par>
                          <p:cTn id="404" fill="hold">
                            <p:stCondLst>
                              <p:cond delay="8800"/>
                            </p:stCondLst>
                            <p:childTnLst>
                              <p:par>
                                <p:cTn id="405" nodeType="afterEffect" fill="hold" presetClass="entr" presetID="41">
                                  <p:stCondLst>
                                    <p:cond delay="0"/>
                                  </p:stCondLst>
                                  <p:iterate type="lt">
                                    <p:tmAbs val="50"/>
                                  </p:iterate>
                                  <p:childTnLst>
                                    <p:set>
                                      <p:cBhvr>
                                        <p:cTn id="406" dur="1" fill="hold">
                                          <p:stCondLst>
                                            <p:cond delay="0"/>
                                          </p:stCondLst>
                                        </p:cTn>
                                        <p:tgtEl>
                                          <p:spTgt spid="100">
                                            <p:txEl>
                                              <p:pRg st="12" end="12"/>
                                            </p:txEl>
                                          </p:spTgt>
                                        </p:tgtEl>
                                        <p:attrNameLst>
                                          <p:attrName>style.visibility</p:attrName>
                                        </p:attrNameLst>
                                      </p:cBhvr>
                                      <p:to>
                                        <p:strVal val="visible"/>
                                      </p:to>
                                    </p:set>
                                    <p:anim calcmode="lin" valueType="num">
                                      <p:cBhvr additive="repl">
                                        <p:cTn id="407" dur="500" fill="hold"/>
                                        <p:tgtEl>
                                          <p:spTgt spid="100">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8" dur="500" fill="hold"/>
                                        <p:tgtEl>
                                          <p:spTgt spid="100">
                                            <p:txEl>
                                              <p:pRg st="12" end="12"/>
                                            </p:txEl>
                                          </p:spTgt>
                                        </p:tgtEl>
                                        <p:attrNameLst>
                                          <p:attrName>ppt_y</p:attrName>
                                        </p:attrNameLst>
                                      </p:cBhvr>
                                      <p:tavLst>
                                        <p:tav tm="0">
                                          <p:val>
                                            <p:strVal val="#ppt_y"/>
                                          </p:val>
                                        </p:tav>
                                        <p:tav tm="100000">
                                          <p:val>
                                            <p:strVal val="#ppt_y"/>
                                          </p:val>
                                        </p:tav>
                                      </p:tavLst>
                                    </p:anim>
                                    <p:anim calcmode="lin" valueType="num">
                                      <p:cBhvr additive="repl">
                                        <p:cTn id="409" dur="500" fill="hold"/>
                                        <p:tgtEl>
                                          <p:spTgt spid="100">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 dur="500" fill="hold"/>
                                        <p:tgtEl>
                                          <p:spTgt spid="100">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 dur="500"/>
                                        <p:tgtEl>
                                          <p:spTgt spid="100">
                                            <p:txEl>
                                              <p:pRg st="12" end="12"/>
                                            </p:txEl>
                                          </p:spTgt>
                                        </p:tgtEl>
                                      </p:cBhvr>
                                    </p:animEffect>
                                  </p:childTnLst>
                                </p:cTn>
                              </p:par>
                            </p:childTnLst>
                          </p:cTn>
                        </p:par>
                        <p:par>
                          <p:cTn id="412" fill="hold">
                            <p:stCondLst>
                              <p:cond delay="11050"/>
                            </p:stCondLst>
                            <p:childTnLst>
                              <p:par>
                                <p:cTn id="413" nodeType="afterEffect" fill="hold" presetClass="entr" presetID="30">
                                  <p:stCondLst>
                                    <p:cond delay="0"/>
                                  </p:stCondLst>
                                  <p:childTnLst>
                                    <p:set>
                                      <p:cBhvr>
                                        <p:cTn id="414" dur="1" fill="hold">
                                          <p:stCondLst>
                                            <p:cond delay="0"/>
                                          </p:stCondLst>
                                        </p:cTn>
                                        <p:tgtEl>
                                          <p:spTgt spid="100">
                                            <p:txEl>
                                              <p:pRg st="14" end="14"/>
                                            </p:txEl>
                                          </p:spTgt>
                                        </p:tgtEl>
                                        <p:attrNameLst>
                                          <p:attrName>style.visibility</p:attrName>
                                        </p:attrNameLst>
                                      </p:cBhvr>
                                      <p:to>
                                        <p:strVal val="visible"/>
                                      </p:to>
                                    </p:set>
                                    <p:animEffect filter="fade" transition="in">
                                      <p:cBhvr additive="repl">
                                        <p:cTn id="415" dur="800"/>
                                        <p:tgtEl>
                                          <p:spTgt spid="100">
                                            <p:txEl>
                                              <p:pRg st="14" end="14"/>
                                            </p:txEl>
                                          </p:spTgt>
                                        </p:tgtEl>
                                      </p:cBhvr>
                                    </p:animEffect>
                                    <p:anim calcmode="lin" valueType="num">
                                      <p:cBhvr additive="repl">
                                        <p:cTn id="416" dur="800" fill="hold"/>
                                        <p:tgtEl>
                                          <p:spTgt spid="100">
                                            <p:txEl>
                                              <p:pRg st="14" end="14"/>
                                            </p:txEl>
                                          </p:spTgt>
                                        </p:tgtEl>
                                        <p:attrNameLst>
                                          <p:attrName>r</p:attrName>
                                        </p:attrNameLst>
                                      </p:cBhvr>
                                      <p:tavLst>
                                        <p:tav tm="0">
                                          <p:val>
                                            <p:strVal val="-90"/>
                                          </p:val>
                                        </p:tav>
                                        <p:tav tm="100000">
                                          <p:val>
                                            <p:strVal val="0"/>
                                          </p:val>
                                        </p:tav>
                                      </p:tavLst>
                                    </p:anim>
                                    <p:anim calcmode="lin" valueType="num">
                                      <p:cBhvr additive="repl">
                                        <p:cTn id="417" dur="800" fill="hold"/>
                                        <p:tgtEl>
                                          <p:spTgt spid="100">
                                            <p:txEl>
                                              <p:pRg st="14" end="14"/>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100">
                                            <p:txEl>
                                              <p:pRg st="14" end="14"/>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00">
                                            <p:txEl>
                                              <p:pRg st="14" end="14"/>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00">
                                            <p:txEl>
                                              <p:pRg st="14" end="14"/>
                                            </p:txEl>
                                          </p:spTgt>
                                        </p:tgtEl>
                                        <p:attrNameLst>
                                          <p:attrName>ppt_y</p:attrName>
                                        </p:attrNameLst>
                                      </p:cBhvr>
                                      <p:tavLst>
                                        <p:tav tm="0">
                                          <p:val>
                                            <p:strVal val="#ppt_y+0.1"/>
                                          </p:val>
                                        </p:tav>
                                        <p:tav tm="100000">
                                          <p:val>
                                            <p:strVal val="#ppt_y"/>
                                          </p:val>
                                        </p:tav>
                                      </p:tavLst>
                                    </p:anim>
                                  </p:childTnLst>
                                </p:cTn>
                              </p:par>
                            </p:childTnLst>
                          </p:cTn>
                        </p:par>
                        <p:par>
                          <p:cTn id="421" fill="hold">
                            <p:stCondLst>
                              <p:cond delay="12050"/>
                            </p:stCondLst>
                            <p:childTnLst>
                              <p:par>
                                <p:cTn id="422" nodeType="afterEffect" fill="hold" presetClass="entr" presetID="26">
                                  <p:stCondLst>
                                    <p:cond delay="0"/>
                                  </p:stCondLst>
                                  <p:childTnLst>
                                    <p:set>
                                      <p:cBhvr>
                                        <p:cTn id="423" dur="1" fill="hold">
                                          <p:stCondLst>
                                            <p:cond delay="0"/>
                                          </p:stCondLst>
                                        </p:cTn>
                                        <p:tgtEl>
                                          <p:spTgt spid="100">
                                            <p:txEl>
                                              <p:pRg st="16" end="16"/>
                                            </p:txEl>
                                          </p:spTgt>
                                        </p:tgtEl>
                                        <p:attrNameLst>
                                          <p:attrName>style.visibility</p:attrName>
                                        </p:attrNameLst>
                                      </p:cBhvr>
                                      <p:to>
                                        <p:strVal val="visible"/>
                                      </p:to>
                                    </p:set>
                                    <p:animEffect filter="wipe(down)" transition="in">
                                      <p:cBhvr additive="repl">
                                        <p:cTn id="424" dur="580">
                                          <p:stCondLst>
                                            <p:cond delay="0"/>
                                          </p:stCondLst>
                                        </p:cTn>
                                        <p:tgtEl>
                                          <p:spTgt spid="100">
                                            <p:txEl>
                                              <p:pRg st="16" end="16"/>
                                            </p:txEl>
                                          </p:spTgt>
                                        </p:tgtEl>
                                      </p:cBhvr>
                                    </p:animEffect>
                                    <p:anim calcmode="lin" valueType="num">
                                      <p:cBhvr additive="repl">
                                        <p:cTn id="425" dur="1822">
                                          <p:stCondLst>
                                            <p:cond delay="0"/>
                                          </p:stCondLst>
                                        </p:cTn>
                                        <p:tgtEl>
                                          <p:spTgt spid="100">
                                            <p:txEl>
                                              <p:pRg st="16" end="16"/>
                                            </p:txEl>
                                          </p:spTgt>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100">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100">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100">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100">
                                            <p:txEl>
                                              <p:pRg st="16" end="16"/>
                                            </p:txEl>
                                          </p:spTgt>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100">
                                            <p:txEl>
                                              <p:pRg st="16" end="16"/>
                                            </p:txEl>
                                          </p:spTgt>
                                        </p:tgtEl>
                                      </p:cBhvr>
                                      <p:to x="100000" y="60000"/>
                                    </p:animScale>
                                    <p:animScale>
                                      <p:cBhvr>
                                        <p:cTn id="431" dur="166" fill="hold">
                                          <p:stCondLst>
                                            <p:cond delay="676"/>
                                          </p:stCondLst>
                                        </p:cTn>
                                        <p:tgtEl>
                                          <p:spTgt spid="100">
                                            <p:txEl>
                                              <p:pRg st="16" end="16"/>
                                            </p:txEl>
                                          </p:spTgt>
                                        </p:tgtEl>
                                      </p:cBhvr>
                                      <p:to x="100000" y="100000"/>
                                    </p:animScale>
                                    <p:animScale>
                                      <p:cBhvr>
                                        <p:cTn id="432" dur="26" fill="hold">
                                          <p:stCondLst>
                                            <p:cond delay="1312"/>
                                          </p:stCondLst>
                                        </p:cTn>
                                        <p:tgtEl>
                                          <p:spTgt spid="100">
                                            <p:txEl>
                                              <p:pRg st="16" end="16"/>
                                            </p:txEl>
                                          </p:spTgt>
                                        </p:tgtEl>
                                      </p:cBhvr>
                                      <p:to x="100000" y="80000"/>
                                    </p:animScale>
                                    <p:animScale>
                                      <p:cBhvr>
                                        <p:cTn id="433" dur="166" fill="hold">
                                          <p:stCondLst>
                                            <p:cond delay="1338"/>
                                          </p:stCondLst>
                                        </p:cTn>
                                        <p:tgtEl>
                                          <p:spTgt spid="100">
                                            <p:txEl>
                                              <p:pRg st="16" end="16"/>
                                            </p:txEl>
                                          </p:spTgt>
                                        </p:tgtEl>
                                      </p:cBhvr>
                                      <p:to x="100000" y="100000"/>
                                    </p:animScale>
                                    <p:animScale>
                                      <p:cBhvr>
                                        <p:cTn id="434" dur="26" fill="hold">
                                          <p:stCondLst>
                                            <p:cond delay="1642"/>
                                          </p:stCondLst>
                                        </p:cTn>
                                        <p:tgtEl>
                                          <p:spTgt spid="100">
                                            <p:txEl>
                                              <p:pRg st="16" end="16"/>
                                            </p:txEl>
                                          </p:spTgt>
                                        </p:tgtEl>
                                      </p:cBhvr>
                                      <p:to x="100000" y="90000"/>
                                    </p:animScale>
                                    <p:animScale>
                                      <p:cBhvr>
                                        <p:cTn id="435" dur="166" fill="hold">
                                          <p:stCondLst>
                                            <p:cond delay="1668"/>
                                          </p:stCondLst>
                                        </p:cTn>
                                        <p:tgtEl>
                                          <p:spTgt spid="100">
                                            <p:txEl>
                                              <p:pRg st="16" end="16"/>
                                            </p:txEl>
                                          </p:spTgt>
                                        </p:tgtEl>
                                      </p:cBhvr>
                                      <p:to x="100000" y="100000"/>
                                    </p:animScale>
                                    <p:animScale>
                                      <p:cBhvr>
                                        <p:cTn id="436" dur="26" fill="hold">
                                          <p:stCondLst>
                                            <p:cond delay="1808"/>
                                          </p:stCondLst>
                                        </p:cTn>
                                        <p:tgtEl>
                                          <p:spTgt spid="100">
                                            <p:txEl>
                                              <p:pRg st="16" end="16"/>
                                            </p:txEl>
                                          </p:spTgt>
                                        </p:tgtEl>
                                      </p:cBhvr>
                                      <p:to x="100000" y="95000"/>
                                    </p:animScale>
                                    <p:animScale>
                                      <p:cBhvr>
                                        <p:cTn id="437" dur="166" fill="hold">
                                          <p:stCondLst>
                                            <p:cond delay="1834"/>
                                          </p:stCondLst>
                                        </p:cTn>
                                        <p:tgtEl>
                                          <p:spTgt spid="100">
                                            <p:txEl>
                                              <p:pRg st="16" end="16"/>
                                            </p:txEl>
                                          </p:spTgt>
                                        </p:tgtEl>
                                      </p:cBhvr>
                                      <p:to x="100000" y="100000"/>
                                    </p:animScale>
                                  </p:childTnLst>
                                </p:cTn>
                              </p:par>
                            </p:childTnLst>
                          </p:cTn>
                        </p:par>
                        <p:par>
                          <p:cTn id="438" fill="hold">
                            <p:stCondLst>
                              <p:cond delay="14050"/>
                            </p:stCondLst>
                            <p:childTnLst>
                              <p:par>
                                <p:cTn id="439" nodeType="afterEffect" fill="hold" presetClass="entr" presetID="56">
                                  <p:stCondLst>
                                    <p:cond delay="0"/>
                                  </p:stCondLst>
                                  <p:iterate type="lt">
                                    <p:tmAbs val="100"/>
                                  </p:iterate>
                                  <p:childTnLst>
                                    <p:set>
                                      <p:cBhvr>
                                        <p:cTn id="440" dur="1" fill="hold">
                                          <p:stCondLst>
                                            <p:cond delay="0"/>
                                          </p:stCondLst>
                                        </p:cTn>
                                        <p:tgtEl>
                                          <p:spTgt spid="100">
                                            <p:txEl>
                                              <p:pRg st="18" end="18"/>
                                            </p:txEl>
                                          </p:spTgt>
                                        </p:tgtEl>
                                        <p:attrNameLst>
                                          <p:attrName>style.visibility</p:attrName>
                                        </p:attrNameLst>
                                      </p:cBhvr>
                                      <p:to>
                                        <p:strVal val="visible"/>
                                      </p:to>
                                    </p:set>
                                    <p:anim calcmode="lin" valueType="num" by="(-#ppt_w*2)">
                                      <p:cBhvr additive="repl">
                                        <p:cTn id="441" dur="500" autoRev="1" fill="hold">
                                          <p:stCondLst>
                                            <p:cond delay="0"/>
                                          </p:stCondLst>
                                        </p:cTn>
                                        <p:tgtEl>
                                          <p:spTgt spid="100">
                                            <p:txEl>
                                              <p:pRg st="18" end="18"/>
                                            </p:txEl>
                                          </p:spTgt>
                                        </p:tgtEl>
                                        <p:attrNameLst>
                                          <p:attrName>ppt_w</p:attrName>
                                        </p:attrNameLst>
                                      </p:cBhvr>
                                    </p:anim>
                                    <p:anim calcmode="lin" valueType="num" by="(#ppt_w*0.50)">
                                      <p:cBhvr additive="repl">
                                        <p:cTn id="442" dur="500" autoRev="1" fill="hold">
                                          <p:stCondLst>
                                            <p:cond delay="0"/>
                                          </p:stCondLst>
                                        </p:cTn>
                                        <p:tgtEl>
                                          <p:spTgt spid="100">
                                            <p:txEl>
                                              <p:pRg st="18" end="18"/>
                                            </p:txEl>
                                          </p:spTgt>
                                        </p:tgtEl>
                                        <p:attrNameLst>
                                          <p:attrName>ppt_x</p:attrName>
                                        </p:attrNameLst>
                                      </p:cBhvr>
                                    </p:anim>
                                    <p:anim calcmode="lin" valueType="num" from="(-#ppt_h/2)" to="(#ppt_y)">
                                      <p:cBhvr additive="repl">
                                        <p:cTn id="443" dur="1000" fill="hold">
                                          <p:stCondLst>
                                            <p:cond delay="0"/>
                                          </p:stCondLst>
                                        </p:cTn>
                                        <p:tgtEl>
                                          <p:spTgt spid="100">
                                            <p:txEl>
                                              <p:pRg st="18" end="18"/>
                                            </p:txEl>
                                          </p:spTgt>
                                        </p:tgtEl>
                                        <p:attrNameLst>
                                          <p:attrName>ppt_y</p:attrName>
                                        </p:attrNameLst>
                                      </p:cBhvr>
                                    </p:anim>
                                    <p:animRot by="21600000">
                                      <p:cBhvr>
                                        <p:cTn id="444" dur="1000" fill="hold">
                                          <p:stCondLst>
                                            <p:cond delay="0"/>
                                          </p:stCondLst>
                                        </p:cTn>
                                        <p:tgtEl>
                                          <p:spTgt spid="100">
                                            <p:txEl>
                                              <p:pRg st="18" end="18"/>
                                            </p:txEl>
                                          </p:spTgt>
                                        </p:tgtEl>
                                        <p:attrNameLst>
                                          <p:attrName>r</p:attrName>
                                        </p:attrNameLst>
                                      </p:cBhvr>
                                    </p:animRot>
                                  </p:childTnLst>
                                </p:cTn>
                              </p:par>
                            </p:childTnLst>
                          </p:cTn>
                        </p:par>
                        <p:par>
                          <p:cTn id="445" fill="hold">
                            <p:stCondLst>
                              <p:cond delay="18350"/>
                            </p:stCondLst>
                            <p:childTnLst>
                              <p:par>
                                <p:cTn id="446" nodeType="afterEffect" fill="hold" presetClass="entr" presetID="48">
                                  <p:stCondLst>
                                    <p:cond delay="0"/>
                                  </p:stCondLst>
                                  <p:childTnLst>
                                    <p:set>
                                      <p:cBhvr>
                                        <p:cTn id="447" dur="1" fill="hold">
                                          <p:stCondLst>
                                            <p:cond delay="0"/>
                                          </p:stCondLst>
                                        </p:cTn>
                                        <p:tgtEl>
                                          <p:spTgt spid="100"/>
                                        </p:tgtEl>
                                        <p:attrNameLst>
                                          <p:attrName>style.visibility</p:attrName>
                                        </p:attrNameLst>
                                      </p:cBhvr>
                                      <p:to>
                                        <p:strVal val="visible"/>
                                      </p:to>
                                    </p:set>
                                    <p:anim calcmode="lin" valueType="num">
                                      <p:cBhvr additive="repl">
                                        <p:cTn id="448"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9" dur="1000" fill="hold"/>
                                        <p:tgtEl>
                                          <p:spTgt spid="1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0" dur="1000" fill="hold"/>
                                        <p:tgtEl>
                                          <p:spTgt spid="100"/>
                                        </p:tgtEl>
                                        <p:attrNameLst>
                                          <p:attrName>ppt_y</p:attrName>
                                        </p:attrNameLst>
                                      </p:cBhvr>
                                      <p:tavLst>
                                        <p:tav tm="0">
                                          <p:val>
                                            <p:strVal val="#ppt_y"/>
                                          </p:val>
                                        </p:tav>
                                        <p:tav tm="100000">
                                          <p:val>
                                            <p:strVal val="#ppt_y"/>
                                          </p:val>
                                        </p:tav>
                                      </p:tavLst>
                                    </p:anim>
                                    <p:animEffect filter="fade" transition="in">
                                      <p:cBhvr additive="repl">
                                        <p:cTn id="45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People</a:t>
            </a:r>
            <a:r>
              <a:rPr b="0" lang="en-US" sz="4400" spc="-1" strike="noStrike">
                <a:solidFill>
                  <a:srgbClr val="000000"/>
                </a:solidFill>
                <a:latin typeface="Arial"/>
              </a:rPr>
              <a:t> </a:t>
            </a:r>
            <a:r>
              <a:rPr b="0" lang="en-US" sz="4400" spc="-1" strike="noStrike">
                <a:solidFill>
                  <a:srgbClr val="33cc33"/>
                </a:solidFill>
                <a:latin typeface="Arial"/>
              </a:rPr>
              <a:t>Who</a:t>
            </a:r>
            <a:r>
              <a:rPr b="0" lang="en-US" sz="4400" spc="-1" strike="noStrike">
                <a:solidFill>
                  <a:srgbClr val="000000"/>
                </a:solidFill>
                <a:latin typeface="Arial"/>
              </a:rPr>
              <a:t> </a:t>
            </a:r>
            <a:r>
              <a:rPr b="0" lang="en-US" sz="4400" spc="-1" strike="noStrike">
                <a:solidFill>
                  <a:srgbClr val="0000ff"/>
                </a:solidFill>
                <a:latin typeface="Arial"/>
              </a:rPr>
              <a:t>Created</a:t>
            </a:r>
            <a:r>
              <a:rPr b="0" lang="en-US" sz="4400" spc="-1" strike="noStrike">
                <a:solidFill>
                  <a:srgbClr val="000000"/>
                </a:solidFill>
                <a:latin typeface="Arial"/>
              </a:rPr>
              <a:t> </a:t>
            </a:r>
            <a:r>
              <a:rPr b="0" lang="en-US" sz="4400" spc="-1" strike="noStrike">
                <a:solidFill>
                  <a:srgbClr val="fc78d6"/>
                </a:solidFill>
                <a:latin typeface="Arial"/>
              </a:rPr>
              <a:t>This</a:t>
            </a:r>
            <a:r>
              <a:rPr b="0" lang="en-US" sz="4400" spc="-1" strike="noStrike">
                <a:solidFill>
                  <a:srgbClr val="000000"/>
                </a:solidFill>
                <a:latin typeface="Arial"/>
              </a:rPr>
              <a:t> </a:t>
            </a:r>
            <a:r>
              <a:rPr b="0" lang="en-US" sz="4400" spc="-1" strike="noStrike">
                <a:solidFill>
                  <a:srgbClr val="fc78d6"/>
                </a:solidFill>
                <a:latin typeface="Arial"/>
              </a:rPr>
              <a:t>PPT</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Mille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Jonatha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yat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78d6"/>
                </a:solidFill>
                <a:latin typeface="Arial"/>
              </a:rPr>
              <a:t>Be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Big Foot Productions</a:t>
            </a:r>
            <a:endParaRPr b="0" lang="en-US" sz="3600" spc="-1" strike="noStrike">
              <a:solidFill>
                <a:srgbClr val="000000"/>
              </a:solidFill>
              <a:latin typeface="Arial"/>
            </a:endParaRPr>
          </a:p>
        </p:txBody>
      </p:sp>
      <p:pic>
        <p:nvPicPr>
          <p:cNvPr id="103" name="Picture 4" descr="MCj04160140000[1]"/>
          <p:cNvPicPr/>
          <p:nvPr/>
        </p:nvPicPr>
        <p:blipFill>
          <a:blip r:embed="rId1"/>
          <a:stretch/>
        </p:blipFill>
        <p:spPr>
          <a:xfrm>
            <a:off x="-5257800" y="2228760"/>
            <a:ext cx="3962520" cy="2971800"/>
          </a:xfrm>
          <a:prstGeom prst="rect">
            <a:avLst/>
          </a:prstGeom>
          <a:ln w="0">
            <a:noFill/>
          </a:ln>
        </p:spPr>
      </p:pic>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6">
                                  <p:stCondLst>
                                    <p:cond delay="0"/>
                                  </p:stCondLst>
                                  <p:childTnLst>
                                    <p:set>
                                      <p:cBhvr>
                                        <p:cTn id="457" dur="1" fill="hold">
                                          <p:stCondLst>
                                            <p:cond delay="0"/>
                                          </p:stCondLst>
                                        </p:cTn>
                                        <p:tgtEl>
                                          <p:spTgt spid="101"/>
                                        </p:tgtEl>
                                        <p:attrNameLst>
                                          <p:attrName>style.visibility</p:attrName>
                                        </p:attrNameLst>
                                      </p:cBhvr>
                                      <p:to>
                                        <p:strVal val="visible"/>
                                      </p:to>
                                    </p:set>
                                    <p:animEffect filter="wipe(down)" transition="in">
                                      <p:cBhvr additive="repl">
                                        <p:cTn id="458" dur="580">
                                          <p:stCondLst>
                                            <p:cond delay="0"/>
                                          </p:stCondLst>
                                        </p:cTn>
                                        <p:tgtEl>
                                          <p:spTgt spid="101"/>
                                        </p:tgtEl>
                                      </p:cBhvr>
                                    </p:animEffect>
                                    <p:anim calcmode="lin" valueType="num">
                                      <p:cBhvr additive="repl">
                                        <p:cTn id="459"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460"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461"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462"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463"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464" dur="26" fill="hold">
                                          <p:stCondLst>
                                            <p:cond delay="650"/>
                                          </p:stCondLst>
                                        </p:cTn>
                                        <p:tgtEl>
                                          <p:spTgt spid="101"/>
                                        </p:tgtEl>
                                      </p:cBhvr>
                                      <p:to x="100000" y="60000"/>
                                    </p:animScale>
                                    <p:animScale>
                                      <p:cBhvr>
                                        <p:cTn id="465" dur="166" fill="hold">
                                          <p:stCondLst>
                                            <p:cond delay="676"/>
                                          </p:stCondLst>
                                        </p:cTn>
                                        <p:tgtEl>
                                          <p:spTgt spid="101"/>
                                        </p:tgtEl>
                                      </p:cBhvr>
                                      <p:to x="100000" y="100000"/>
                                    </p:animScale>
                                    <p:animScale>
                                      <p:cBhvr>
                                        <p:cTn id="466" dur="26" fill="hold">
                                          <p:stCondLst>
                                            <p:cond delay="1312"/>
                                          </p:stCondLst>
                                        </p:cTn>
                                        <p:tgtEl>
                                          <p:spTgt spid="101"/>
                                        </p:tgtEl>
                                      </p:cBhvr>
                                      <p:to x="100000" y="80000"/>
                                    </p:animScale>
                                    <p:animScale>
                                      <p:cBhvr>
                                        <p:cTn id="467" dur="166" fill="hold">
                                          <p:stCondLst>
                                            <p:cond delay="1338"/>
                                          </p:stCondLst>
                                        </p:cTn>
                                        <p:tgtEl>
                                          <p:spTgt spid="101"/>
                                        </p:tgtEl>
                                      </p:cBhvr>
                                      <p:to x="100000" y="100000"/>
                                    </p:animScale>
                                    <p:animScale>
                                      <p:cBhvr>
                                        <p:cTn id="468" dur="26" fill="hold">
                                          <p:stCondLst>
                                            <p:cond delay="1642"/>
                                          </p:stCondLst>
                                        </p:cTn>
                                        <p:tgtEl>
                                          <p:spTgt spid="101"/>
                                        </p:tgtEl>
                                      </p:cBhvr>
                                      <p:to x="100000" y="90000"/>
                                    </p:animScale>
                                    <p:animScale>
                                      <p:cBhvr>
                                        <p:cTn id="469" dur="166" fill="hold">
                                          <p:stCondLst>
                                            <p:cond delay="1668"/>
                                          </p:stCondLst>
                                        </p:cTn>
                                        <p:tgtEl>
                                          <p:spTgt spid="101"/>
                                        </p:tgtEl>
                                      </p:cBhvr>
                                      <p:to x="100000" y="100000"/>
                                    </p:animScale>
                                    <p:animScale>
                                      <p:cBhvr>
                                        <p:cTn id="470" dur="26" fill="hold">
                                          <p:stCondLst>
                                            <p:cond delay="1808"/>
                                          </p:stCondLst>
                                        </p:cTn>
                                        <p:tgtEl>
                                          <p:spTgt spid="101"/>
                                        </p:tgtEl>
                                      </p:cBhvr>
                                      <p:to x="100000" y="95000"/>
                                    </p:animScale>
                                    <p:animScale>
                                      <p:cBhvr>
                                        <p:cTn id="471" dur="166" fill="hold">
                                          <p:stCondLst>
                                            <p:cond delay="1834"/>
                                          </p:stCondLst>
                                        </p:cTn>
                                        <p:tgtEl>
                                          <p:spTgt spid="101"/>
                                        </p:tgtEl>
                                      </p:cBhvr>
                                      <p:to x="100000" y="100000"/>
                                    </p:animScale>
                                  </p:childTnLst>
                                </p:cTn>
                              </p:par>
                            </p:childTnLst>
                          </p:cTn>
                        </p:par>
                        <p:par>
                          <p:cTn id="472" fill="hold">
                            <p:stCondLst>
                              <p:cond delay="2000"/>
                            </p:stCondLst>
                            <p:childTnLst>
                              <p:par>
                                <p:cTn id="473" nodeType="afterEffect" fill="hold" presetClass="entr" presetID="28">
                                  <p:stCondLst>
                                    <p:cond delay="0"/>
                                  </p:stCondLst>
                                  <p:childTnLst>
                                    <p:set>
                                      <p:cBhvr>
                                        <p:cTn id="474" dur="1" fill="hold">
                                          <p:stCondLst>
                                            <p:cond delay="0"/>
                                          </p:stCondLst>
                                        </p:cTn>
                                        <p:tgtEl>
                                          <p:spTgt spid="102">
                                            <p:txEl>
                                              <p:pRg st="1" end="1"/>
                                            </p:txEl>
                                          </p:spTgt>
                                        </p:tgtEl>
                                        <p:attrNameLst>
                                          <p:attrName>style.visibility</p:attrName>
                                        </p:attrNameLst>
                                      </p:cBhvr>
                                      <p:to>
                                        <p:strVal val="visible"/>
                                      </p:to>
                                    </p:set>
                                    <p:anim calcmode="lin" valueType="num">
                                      <p:cBhvr additive="repl">
                                        <p:cTn id="475" dur="5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76" dur="5000" fill="hold"/>
                                        <p:tgtEl>
                                          <p:spTgt spid="102">
                                            <p:txEl>
                                              <p:pRg st="1" end="1"/>
                                            </p:txEl>
                                          </p:spTgt>
                                        </p:tgtEl>
                                        <p:attrNameLst>
                                          <p:attrName>ppt_y</p:attrName>
                                        </p:attrNameLst>
                                      </p:cBhvr>
                                      <p:tavLst>
                                        <p:tav tm="0">
                                          <p:val>
                                            <p:strVal val="#ppt_y+1"/>
                                          </p:val>
                                        </p:tav>
                                        <p:tav tm="100000">
                                          <p:val>
                                            <p:strVal val="#ppt_y-1"/>
                                          </p:val>
                                        </p:tav>
                                      </p:tavLst>
                                    </p:anim>
                                  </p:childTnLst>
                                </p:cTn>
                              </p:par>
                            </p:childTnLst>
                          </p:cTn>
                        </p:par>
                        <p:par>
                          <p:cTn id="477" fill="hold">
                            <p:stCondLst>
                              <p:cond delay="7000"/>
                            </p:stCondLst>
                            <p:childTnLst>
                              <p:par>
                                <p:cTn id="478" nodeType="afterEffect" fill="hold" presetClass="entr" presetID="28">
                                  <p:stCondLst>
                                    <p:cond delay="0"/>
                                  </p:stCondLst>
                                  <p:childTnLst>
                                    <p:set>
                                      <p:cBhvr>
                                        <p:cTn id="479" dur="1" fill="hold">
                                          <p:stCondLst>
                                            <p:cond delay="0"/>
                                          </p:stCondLst>
                                        </p:cTn>
                                        <p:tgtEl>
                                          <p:spTgt spid="102">
                                            <p:txEl>
                                              <p:pRg st="2" end="2"/>
                                            </p:txEl>
                                          </p:spTgt>
                                        </p:tgtEl>
                                        <p:attrNameLst>
                                          <p:attrName>style.visibility</p:attrName>
                                        </p:attrNameLst>
                                      </p:cBhvr>
                                      <p:to>
                                        <p:strVal val="visible"/>
                                      </p:to>
                                    </p:set>
                                    <p:anim calcmode="lin" valueType="num">
                                      <p:cBhvr additive="repl">
                                        <p:cTn id="480" dur="5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81" dur="5000" fill="hold"/>
                                        <p:tgtEl>
                                          <p:spTgt spid="102">
                                            <p:txEl>
                                              <p:pRg st="2" end="2"/>
                                            </p:txEl>
                                          </p:spTgt>
                                        </p:tgtEl>
                                        <p:attrNameLst>
                                          <p:attrName>ppt_y</p:attrName>
                                        </p:attrNameLst>
                                      </p:cBhvr>
                                      <p:tavLst>
                                        <p:tav tm="0">
                                          <p:val>
                                            <p:strVal val="#ppt_y+1"/>
                                          </p:val>
                                        </p:tav>
                                        <p:tav tm="100000">
                                          <p:val>
                                            <p:strVal val="#ppt_y-1"/>
                                          </p:val>
                                        </p:tav>
                                      </p:tavLst>
                                    </p:anim>
                                  </p:childTnLst>
                                </p:cTn>
                              </p:par>
                            </p:childTnLst>
                          </p:cTn>
                        </p:par>
                        <p:par>
                          <p:cTn id="482" fill="hold">
                            <p:stCondLst>
                              <p:cond delay="12000"/>
                            </p:stCondLst>
                            <p:childTnLst>
                              <p:par>
                                <p:cTn id="483" nodeType="afterEffect" fill="hold" presetClass="entr" presetID="28">
                                  <p:stCondLst>
                                    <p:cond delay="0"/>
                                  </p:stCondLst>
                                  <p:childTnLst>
                                    <p:set>
                                      <p:cBhvr>
                                        <p:cTn id="484" dur="1" fill="hold">
                                          <p:stCondLst>
                                            <p:cond delay="0"/>
                                          </p:stCondLst>
                                        </p:cTn>
                                        <p:tgtEl>
                                          <p:spTgt spid="102">
                                            <p:txEl>
                                              <p:pRg st="3" end="3"/>
                                            </p:txEl>
                                          </p:spTgt>
                                        </p:tgtEl>
                                        <p:attrNameLst>
                                          <p:attrName>style.visibility</p:attrName>
                                        </p:attrNameLst>
                                      </p:cBhvr>
                                      <p:to>
                                        <p:strVal val="visible"/>
                                      </p:to>
                                    </p:set>
                                    <p:anim calcmode="lin" valueType="num">
                                      <p:cBhvr additive="repl">
                                        <p:cTn id="485" dur="5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86" dur="5000" fill="hold"/>
                                        <p:tgtEl>
                                          <p:spTgt spid="102">
                                            <p:txEl>
                                              <p:pRg st="3" end="3"/>
                                            </p:txEl>
                                          </p:spTgt>
                                        </p:tgtEl>
                                        <p:attrNameLst>
                                          <p:attrName>ppt_y</p:attrName>
                                        </p:attrNameLst>
                                      </p:cBhvr>
                                      <p:tavLst>
                                        <p:tav tm="0">
                                          <p:val>
                                            <p:strVal val="#ppt_y+1"/>
                                          </p:val>
                                        </p:tav>
                                        <p:tav tm="100000">
                                          <p:val>
                                            <p:strVal val="#ppt_y-1"/>
                                          </p:val>
                                        </p:tav>
                                      </p:tavLst>
                                    </p:anim>
                                  </p:childTnLst>
                                </p:cTn>
                              </p:par>
                            </p:childTnLst>
                          </p:cTn>
                        </p:par>
                        <p:par>
                          <p:cTn id="487" fill="hold">
                            <p:stCondLst>
                              <p:cond delay="17000"/>
                            </p:stCondLst>
                            <p:childTnLst>
                              <p:par>
                                <p:cTn id="488" nodeType="afterEffect" fill="hold" presetClass="entr" presetID="28">
                                  <p:stCondLst>
                                    <p:cond delay="0"/>
                                  </p:stCondLst>
                                  <p:childTnLst>
                                    <p:set>
                                      <p:cBhvr>
                                        <p:cTn id="489" dur="1" fill="hold">
                                          <p:stCondLst>
                                            <p:cond delay="0"/>
                                          </p:stCondLst>
                                        </p:cTn>
                                        <p:tgtEl>
                                          <p:spTgt spid="102">
                                            <p:txEl>
                                              <p:pRg st="4" end="4"/>
                                            </p:txEl>
                                          </p:spTgt>
                                        </p:tgtEl>
                                        <p:attrNameLst>
                                          <p:attrName>style.visibility</p:attrName>
                                        </p:attrNameLst>
                                      </p:cBhvr>
                                      <p:to>
                                        <p:strVal val="visible"/>
                                      </p:to>
                                    </p:set>
                                    <p:anim calcmode="lin" valueType="num">
                                      <p:cBhvr additive="repl">
                                        <p:cTn id="490" dur="5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491" dur="5000" fill="hold"/>
                                        <p:tgtEl>
                                          <p:spTgt spid="102">
                                            <p:txEl>
                                              <p:pRg st="4" end="4"/>
                                            </p:txEl>
                                          </p:spTgt>
                                        </p:tgtEl>
                                        <p:attrNameLst>
                                          <p:attrName>ppt_y</p:attrName>
                                        </p:attrNameLst>
                                      </p:cBhvr>
                                      <p:tavLst>
                                        <p:tav tm="0">
                                          <p:val>
                                            <p:strVal val="#ppt_y+1"/>
                                          </p:val>
                                        </p:tav>
                                        <p:tav tm="100000">
                                          <p:val>
                                            <p:strVal val="#ppt_y-1"/>
                                          </p:val>
                                        </p:tav>
                                      </p:tavLst>
                                    </p:anim>
                                  </p:childTnLst>
                                </p:cTn>
                              </p:par>
                            </p:childTnLst>
                          </p:cTn>
                        </p:par>
                        <p:par>
                          <p:cTn id="492" fill="hold">
                            <p:stCondLst>
                              <p:cond delay="22000"/>
                            </p:stCondLst>
                            <p:childTnLst>
                              <p:par>
                                <p:cTn id="493" nodeType="afterEffect" fill="hold" presetClass="entr" presetID="28">
                                  <p:stCondLst>
                                    <p:cond delay="0"/>
                                  </p:stCondLst>
                                  <p:childTnLst>
                                    <p:set>
                                      <p:cBhvr>
                                        <p:cTn id="494" dur="1" fill="hold">
                                          <p:stCondLst>
                                            <p:cond delay="0"/>
                                          </p:stCondLst>
                                        </p:cTn>
                                        <p:tgtEl>
                                          <p:spTgt spid="102">
                                            <p:txEl>
                                              <p:pRg st="5" end="5"/>
                                            </p:txEl>
                                          </p:spTgt>
                                        </p:tgtEl>
                                        <p:attrNameLst>
                                          <p:attrName>style.visibility</p:attrName>
                                        </p:attrNameLst>
                                      </p:cBhvr>
                                      <p:to>
                                        <p:strVal val="visible"/>
                                      </p:to>
                                    </p:set>
                                    <p:anim calcmode="lin" valueType="num">
                                      <p:cBhvr additive="repl">
                                        <p:cTn id="495" dur="5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496" dur="5000" fill="hold"/>
                                        <p:tgtEl>
                                          <p:spTgt spid="102">
                                            <p:txEl>
                                              <p:pRg st="5" end="5"/>
                                            </p:txEl>
                                          </p:spTgt>
                                        </p:tgtEl>
                                        <p:attrNameLst>
                                          <p:attrName>ppt_y</p:attrName>
                                        </p:attrNameLst>
                                      </p:cBhvr>
                                      <p:tavLst>
                                        <p:tav tm="0">
                                          <p:val>
                                            <p:strVal val="#ppt_y+1"/>
                                          </p:val>
                                        </p:tav>
                                        <p:tav tm="100000">
                                          <p:val>
                                            <p:strVal val="#ppt_y-1"/>
                                          </p:val>
                                        </p:tav>
                                      </p:tavLst>
                                    </p:anim>
                                  </p:childTnLst>
                                </p:cTn>
                              </p:par>
                            </p:childTnLst>
                          </p:cTn>
                        </p:par>
                        <p:par>
                          <p:cTn id="497" fill="hold">
                            <p:stCondLst>
                              <p:cond delay="27000"/>
                            </p:stCondLst>
                            <p:childTnLst>
                              <p:par>
                                <p:cTn id="498" nodeType="afterEffect" fill="hold" presetClass="path" presetID="0">
                                  <p:stCondLst>
                                    <p:cond delay="0"/>
                                  </p:stCondLst>
                                  <p:childTnLst>
                                    <p:animMotion origin="layout" path="M -4.72222E-006 -3.7037E-006 C 0.01476 -0.01343 0.03646 -0.01412 0.0533 -0.01574 C 0.12136 -0.01389 0.19705 -0.02523 0.26337 -0.00671 C 0.27778 0.00787 0.26233 -0.00579 0.27656 0.00208 C 0.28281 0.00556 0.28802 0.01157 0.29479 0.01319 C 0.32396 0.02014 0.29722 0.01204 0.31493 0.01759 C 0.32518 0.02454 0.32587 0.02431 0.3382 0.02222 C 0.34688 0.01806 0.35261 0.0081 0.36163 0.0044 C 0.36493 -0.00231 0.36649 -0.0081 0.36823 -0.01574 C 0.36875 -0.03565 0.35955 -0.07384 0.3783 -0.08241 C 0.38906 -0.08056 0.39427 -0.08264 0.4 -0.0713 C 0.40087 -0.04606 0.39861 -0.02014 0.4033 0.0044 C 0.40382 0.00694 0.40521 -0.00046 0.4066 -0.00231 C 0.40799 -0.00417 0.4099 -0.00532 0.41163 -0.00671 C 0.41198 -0.02662 0.41129 -0.04676 0.41337 -0.06667 C 0.41354 -0.06898 0.41667 -0.06806 0.41823 -0.06898 C 0.42535 -0.07338 0.4349 -0.0787 0.44167 -0.08449 C 0.44393 -0.0838 0.44636 -0.08403 0.44827 -0.08241 C 0.45261 -0.07847 0.45521 -0.06597 0.45833 -0.06018 C 0.46163 -0.04606 0.45816 -0.03356 0.45504 -0.02014 C 0.45729 0.01551 0.45434 0.00972 0.48143 0.00648 C 0.48698 -0.00046 0.48924 -0.00625 0.49149 -0.01574 C 0.49219 -0.00069 0.48802 0.01944 0.5 0.02431 C 0.49358 0.01898 0.49219 0.01366 0.48993 0.0044 C 0.48941 -0.00532 0.48698 -0.01505 0.48837 -0.02454 C 0.48889 -0.02824 0.49306 -0.02847 0.49497 -0.03125 C 0.49618 -0.0331 0.49618 -0.03565 0.4967 -0.03796 C 0.49549 -0.03935 0.49149 -0.0419 0.49306 -0.04236 C 0.51354 -0.04745 0.50226 -0.03009 0.4967 -0.02222 C 0.49219 -0.00579 0.49827 -0.0294 0.49306 -0.00231 C 0.49219 0.00232 0.48993 0.01111 0.48993 0.01111 C 0.49149 0.02708 0.48941 0.03171 0.50139 0.02662 C 0.50799 0.02107 0.51667 0.01921 0.5217 0.01111 C 0.52917 -0.00093 0.53021 -0.01806 0.53646 -0.03125 C 0.5349 -0.04884 0.53646 -0.05347 0.52656 -0.06227 C 0.51406 -0.05926 0.51858 -0.0588 0.5132 -0.04444 C 0.51337 -0.04097 0.51424 -0.01111 0.51667 -0.00231 C 0.52031 0.01227 0.5375 0.02847 0.54827 0.03333 C 0.55243 0.02963 0.55747 0.02824 0.56163 0.02431 C 0.56788 0.01806 0.5684 0.01042 0.57639 0.00648 C 0.58212 -0.00069 0.58594 -0.00833 0.5882 -0.01782 C 0.58715 -0.03634 0.59045 -0.04838 0.57986 -0.05787 C 0.55469 -0.05069 0.56094 -0.05995 0.5533 -0.04444 C 0.55469 -0.02824 0.55608 -0.01343 0.5599 0.00208 C 0.56077 0.01042 0.56146 0.0338 0.56806 0.03982 C 0.5717 0.04282 0.59045 0.04954 0.59497 0.05093 C 0.59931 0.05232 0.60833 0.05556 0.60833 0.05556 C 0.61615 0.0544 0.62483 0.05602 0.63143 0.05093 C 0.63351 0.04931 0.63472 0.0463 0.63663 0.04444 C 0.64254 0.03866 0.64774 0.03611 0.65313 0.0287 C 0.65851 0.00903 0.6559 -0.00347 0.65486 -0.02685 C 0.64549 -0.02523 0.63629 -0.02824 0.63316 -0.01574 C 0.63368 0.00347 0.63316 0.02292 0.6349 0.04213 C 0.63507 0.04398 0.64271 0.05069 0.64306 0.05093 C 0.65122 0.05625 0.66024 0.05903 0.66823 0.06435 C 0.68368 0.06157 0.68125 0.06458 0.68472 0.04884 C 0.68351 0.02593 0.68455 0.03056 0.6816 0.01551 C 0.68056 0.01042 0.67952 0.00509 0.6783 -3.7037E-006 C 0.67761 -0.00231 0.67465 -0.00718 0.67639 -0.00671 C 0.68681 -0.00347 0.69636 0.0037 0.70643 0.0088 C 0.7092 0.01019 0.71215 0.01181 0.71493 0.01319 C 0.71771 0.01458 0.72327 0.01759 0.72327 0.01759 C 0.71163 0.02824 0.71563 0.02222 0.70972 0.03333 C 0.70781 0.04421 0.70521 0.04722 0.69809 0.05324 C 0.70122 0.06435 0.70504 0.06111 0.71337 0.06667 C 0.73056 0.06366 0.74827 0.05602 0.76493 0.04884 C 0.76893 0.04699 0.77257 0.04375 0.77656 0.04213 C 0.78125 0.04005 0.78681 0.03958 0.79167 0.03773 C 0.79618 0.03588 0.8007 0.0338 0.80504 0.03102 C 0.81129 0.02708 0.82327 0.01759 0.82327 0.01759 C 0.82952 0.00648 0.83247 -0.00648 0.8349 -0.02014 C 0.83438 -0.03056 0.8342 -0.04097 0.83333 -0.05116 C 0.83195 -0.06806 0.81979 -0.10556 0.81337 -0.12014 C 0.80938 -0.1294 0.80799 -0.13681 0.8 -0.14005 C 0.78958 -0.15694 0.79097 -0.15625 0.775 -0.15347 C 0.77031 -0.15046 0.76528 -0.14907 0.76163 -0.14444 C 0.75174 -0.13171 0.74896 -0.11759 0.7467 -0.1 C 0.74983 -0.06898 0.75087 -0.03333 0.76163 -0.00463 C 0.76215 -0.00023 0.76233 0.0044 0.76337 0.0088 C 0.76719 0.025 0.77344 0.05139 0.78004 0.06667 C 0.7816 0.0706 0.78455 0.07662 0.78837 0.07778 C 0.79427 0.0794 0.80052 0.07917 0.8066 0.07986 C 0.82743 0.09097 0.85469 0.08935 0.87656 0.09097 C 0.88386 0.08958 0.89132 0.08958 0.89827 0.08657 C 0.91077 0.08125 0.91615 0.06366 0.91997 0.04884 C 0.91893 0.02454 0.92031 -0.00185 0.9066 -0.02014 C 0.90347 -0.0338 0.90643 -0.02546 0.89167 -0.04005 C 0.87795 -0.05347 0.86285 -0.06643 0.84653 -0.07338 C 0.84011 -0.07917 0.83281 -0.08218 0.82483 -0.08449 C 0.81945 -0.08611 0.80833 -0.08889 0.80833 -0.08889 C 0.80261 -0.08819 0.79705 -0.08843 0.79167 -0.08681 C 0.78281 -0.08426 0.77847 -0.07268 0.7717 -0.06667 C 0.76858 -0.06389 0.76493 -0.06227 0.76163 -0.06018 C 0.74913 -0.04375 0.73455 -0.03264 0.71823 -0.02454 C 0.69514 -0.00069 0.67847 0.0294 0.66163 0.05995 C 0.65087 0.0794 0.64288 0.10046 0.6283 0.11551 C 0.6224 0.13056 0.62622 0.12153 0.61667 0.14213 C 0.60643 0.16389 0.6 0.18912 0.58976 0.21111 C 0.5842 0.24583 0.57691 0.28264 0.5882 0.31759 C 0.59219 0.32917 0.59896 0.34537 0.60833 0.35093 C 0.6191 0.35741 0.63629 0.35671 0.6467 0.35764 C 0.675 0.36713 0.70417 0.37662 0.73333 0.37986 C 0.74774 0.37917 0.76215 0.37963 0.77656 0.37778 C 0.77952 0.37732 0.78177 0.37431 0.7849 0.37315 C 0.79722 0.36875 0.80938 0.36458 0.8217 0.35995 C 0.82761 0.35509 0.8342 0.35185 0.83993 0.34653 C 0.84774 0.33935 0.85295 0.33009 0.86163 0.32431 C 0.87049 0.3088 0.86441 0.31782 0.8816 0.3 C 0.88577 0.29583 0.88802 0.28912 0.89167 0.28426 C 0.89705 0.26597 0.90139 0.24722 0.9066 0.2287 C 0.91077 0.21343 0.91684 0.20023 0.91997 0.18426 C 0.91945 0.17546 0.91945 0.16644 0.91823 0.15764 C 0.91476 0.13218 0.90174 0.10718 0.89323 0.08426 C 0.88976 0.06597 0.87136 0.03171 0.86337 0.01551 C 0.85295 -0.00532 0.84219 -0.02731 0.8283 -0.04444 C 0.80556 -0.07245 0.78056 -0.08889 0.7533 -0.10671 C 0.73542 -0.11852 0.71893 -0.12917 0.7 -0.13796 C 0.67309 -0.13565 0.64827 -0.13009 0.62309 -0.11574 C 0.61684 -0.11204 0.61111 -0.10625 0.60504 -0.10231 C 0.58368 -0.08935 0.58889 -0.09931 0.56997 -0.08009 C 0.51302 -0.02315 0.56806 -0.07685 0.53646 -0.03796 C 0.50261 0.0037 0.54896 -0.06181 0.5132 -0.01111 C 0.49514 0.01482 0.50208 0.00463 0.48663 0.04653 C 0.48195 0.0588 0.47899 0.07176 0.475 0.08426 C 0.47344 0.08958 0.46979 0.1 0.46979 0.1 C 0.46823 0.11713 0.46476 0.13218 0.46163 0.14884 C 0.46215 0.17338 0.4625 0.19769 0.46337 0.22222 C 0.46406 0.24028 0.47691 0.28009 0.48837 0.28889 C 0.50243 0.29977 0.51962 0.30463 0.53472 0.31111 C 0.57656 0.32917 0.54028 0.31644 0.57813 0.3287 C 0.60226 0.32732 0.62622 0.32685 0.65 0.32431 C 0.65781 0.32338 0.66545 0.31574 0.67327 0.31319 C 0.67535 0.31088 0.67743 0.30833 0.68004 0.30648 C 0.68316 0.30394 0.68681 0.30278 0.68993 0.3 C 0.69254 0.29745 0.69427 0.29352 0.69653 0.29097 C 0.70139 0.28611 0.7066 0.28241 0.71163 0.27778 C 0.7283 0.24097 0.70191 0.29792 0.725 0.25324 C 0.72743 0.24838 0.72882 0.24236 0.7316 0.23773 C 0.7349 0.23194 0.73958 0.22755 0.74323 0.22222 C 0.7467 0.21713 0.75018 0.21204 0.7533 0.20648 C 0.75521 0.20301 0.75625 0.19884 0.75833 0.19537 C 0.77031 0.17546 0.76302 0.19282 0.7717 0.17546 C 0.7809 0.15694 0.7875 0.13727 0.79497 0.11759 C 0.79931 0.10602 0.80347 0.09653 0.8066 0.08426 C 0.80608 0.07315 0.8059 0.06204 0.80504 0.05093 C 0.80452 0.04468 0.80208 0.04306 0.8 0.03773 C 0.79618 0.02778 0.79549 0.01505 0.79323 0.0044 C 0.79184 -0.00185 0.7849 -0.02222 0.7849 -0.02685 E">
                                      <p:cBhvr>
                                        <p:cTn id="499" dur="5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People Became Accus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tarted to become accused when some girls from Salem Village claimed to be tormented by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go around accusing people of being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went to another town and saw a witch at the foot and head of the bed they would stand up and if a person touched them and they stopped screaming out then they were a witch.</a:t>
            </a:r>
            <a:endParaRPr b="0" lang="en-US" sz="2800" spc="-1" strike="noStrike">
              <a:solidFill>
                <a:srgbClr val="000000"/>
              </a:solidFill>
              <a:latin typeface="Arial"/>
            </a:endParaRPr>
          </a:p>
        </p:txBody>
      </p:sp>
      <p:pic>
        <p:nvPicPr>
          <p:cNvPr id="47" name="Picture 4" descr="MCj01160280000[1]"/>
          <p:cNvPicPr/>
          <p:nvPr/>
        </p:nvPicPr>
        <p:blipFill>
          <a:blip r:embed="rId1"/>
          <a:stretch/>
        </p:blipFill>
        <p:spPr>
          <a:xfrm>
            <a:off x="8256600" y="5562720"/>
            <a:ext cx="887400" cy="1295280"/>
          </a:xfrm>
          <a:prstGeom prst="rect">
            <a:avLst/>
          </a:prstGeom>
          <a:ln w="0">
            <a:noFill/>
          </a:ln>
        </p:spPr>
      </p:pic>
    </p:spTree>
  </p:cSld>
  <p:transition>
    <p:push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47"/>
                                        </p:tgtEl>
                                        <p:attrNameLst>
                                          <p:attrName>style.visibility</p:attrName>
                                        </p:attrNameLst>
                                      </p:cBhvr>
                                      <p:to>
                                        <p:strVal val="visible"/>
                                      </p:to>
                                    </p:set>
                                    <p:animEffect filter="fade" transition="in">
                                      <p:cBhvr additive="repl">
                                        <p:cTn id="13" dur="5000"/>
                                        <p:tgtEl>
                                          <p:spTgt spid="47"/>
                                        </p:tgtEl>
                                      </p:cBhvr>
                                    </p:animEffect>
                                    <p:anim calcmode="lin" valueType="num">
                                      <p:cBhvr additive="repl">
                                        <p:cTn id="14" dur="5000" fill="hold"/>
                                        <p:tgtEl>
                                          <p:spTgt spid="47"/>
                                        </p:tgtEl>
                                        <p:attrNameLst>
                                          <p:attrName>r</p:attrName>
                                        </p:attrNameLst>
                                      </p:cBhvr>
                                      <p:tavLst>
                                        <p:tav tm="0">
                                          <p:val>
                                            <p:strVal val="720"/>
                                          </p:val>
                                        </p:tav>
                                        <p:tav tm="100000">
                                          <p:val>
                                            <p:strVal val="0"/>
                                          </p:val>
                                        </p:tav>
                                      </p:tavLst>
                                    </p:anim>
                                    <p:anim calcmode="lin" valueType="num">
                                      <p:cBhvr additive="repl">
                                        <p:cTn id="15" dur="5000" fill="hold"/>
                                        <p:tgtEl>
                                          <p:spTgt spid="47"/>
                                        </p:tgtEl>
                                        <p:attrNameLst>
                                          <p:attrName>ppt_h</p:attrName>
                                        </p:attrNameLst>
                                      </p:cBhvr>
                                      <p:tavLst>
                                        <p:tav tm="0">
                                          <p:val>
                                            <p:fltVal val="0"/>
                                          </p:val>
                                        </p:tav>
                                        <p:tav tm="100000">
                                          <p:val>
                                            <p:strVal val="#ppt_h"/>
                                          </p:val>
                                        </p:tav>
                                      </p:tavLst>
                                    </p:anim>
                                    <p:anim calcmode="lin" valueType="num">
                                      <p:cBhvr additive="repl">
                                        <p:cTn id="16" dur="5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0">
                                  <p:stCondLst>
                                    <p:cond delay="0"/>
                                  </p:stCondLst>
                                  <p:childTnLst>
                                    <p:animMotion origin="layout" path="M -5.55556E-007 -7.03704E-006 C -0.03837 -0.01413 -0.07882 -0.00024 -0.11754 0.00323 C -0.15955 0.00254 -0.19618 0.003 -0.23629 -0.00348 C -0.25434 -0.01274 -0.27135 -0.02732 -0.2901 -0.03334 C -0.30104 -0.04191 -0.31076 -0.05464 -0.32257 -0.06019 C -0.32934 -0.06667 -0.33264 -0.06714 -0.34132 -0.07015 C -0.42205 -0.06806 -0.50347 -0.07917 -0.58385 -0.07177 C -0.59063 -0.06991 -0.59149 -0.06737 -0.59757 -0.06343 C -0.61233 -0.06621 -0.62066 -0.06737 -0.63385 -0.07501 C -0.63785 -0.08357 -0.64566 -0.08334 -0.6526 -0.08843 C -0.66997 -0.1014 -0.68004 -0.12339 -0.7 -0.1301 C -0.71024 -0.12825 -0.71771 -0.12107 -0.7276 -0.11853 C -0.73941 -0.11042 -0.72396 -0.12015 -0.74254 -0.11343 C -0.76181 -0.10649 -0.78004 -0.09677 -0.8 -0.09353 C -0.80174 -0.09005 -0.8059 -0.08728 -0.80504 -0.08334 C -0.80295 -0.07339 -0.79879 -0.05533 -0.79254 -0.04839 C -0.78247 -0.03704 -0.78229 -0.04445 -0.775 -0.03334 C -0.75451 -0.00255 -0.80712 -0.05811 -0.74514 -7.03704E-006 C -0.72587 0.01805 -0.7026 0.02638 -0.68125 0.03819 C -0.67118 0.04374 -0.66181 0.05184 -0.65139 0.05647 C -0.6408 0.06134 -0.62951 0.06272 -0.61875 0.06666 C -0.57674 0.08194 -0.5375 0.09397 -0.49375 0.09652 C -0.47882 0.09421 -0.46337 0.0949 -0.44879 0.08981 C -0.41754 0.0787 -0.3875 0.02175 -0.37014 -0.01019 C -0.36354 -0.04584 -0.35625 -0.07917 -0.35625 -0.11667 C -0.35625 -0.24422 -0.37951 -0.41945 -0.48125 -0.47177 C -0.4908 -0.47061 -0.50069 -0.47177 -0.51007 -0.46853 C -0.52153 -0.46459 -0.53854 -0.44584 -0.54635 -0.43519 C -0.58681 -0.37987 -0.59236 -0.36529 -0.6151 -0.29839 C -0.62188 -0.25186 -0.63385 -0.17941 -0.58629 -0.17177 C -0.57934 -0.17292 -0.56059 -0.17431 -0.55382 -0.18172 C -0.53733 -0.19954 -0.50764 -0.24005 -0.50764 -0.24005 C -0.49774 -0.26945 -0.49063 -0.29607 -0.48889 -0.32848 C -0.49653 -0.37038 -0.50729 -0.3889 -0.53629 -0.40672 C -0.54549 -0.40626 -0.55486 -0.40718 -0.56389 -0.4051 C -0.57135 -0.40348 -0.57778 -0.39677 -0.58507 -0.39353 C -0.58629 -0.38681 -0.58906 -0.38033 -0.58889 -0.37339 C -0.58837 -0.35695 -0.58767 -0.33982 -0.58264 -0.32501 C -0.58004 -0.31737 -0.57274 -0.31482 -0.56754 -0.31019 C -0.55243 -0.297 -0.54288 -0.29839 -0.525 -0.29677 C -0.51997 -0.30001 -0.51441 -0.30209 -0.51007 -0.30672 C -0.49809 -0.31945 -0.50747 -0.36436 -0.51389 -0.3801 C -0.53299 -0.42732 -0.5816 -0.44677 -0.61875 -0.45186 C -0.63351 -0.44329 -0.63594 -0.44654 -0.62257 -0.41019 C -0.6184 -0.39885 -0.60972 -0.39167 -0.60382 -0.38172 C -0.60139 -0.37755 -0.60069 -0.37154 -0.59757 -0.36853 C -0.58333 -0.35464 -0.56649 -0.34584 -0.55139 -0.33334 C -0.54132 -0.33681 -0.53038 -0.33681 -0.52135 -0.34353 C -0.50938 -0.35232 -0.50399 -0.40603 -0.50139 -0.42177 C -0.50052 -0.44075 -0.49722 -0.45973 -0.49879 -0.47848 C -0.50104 -0.50556 -0.51788 -0.54422 -0.5276 -0.56667 C -0.54896 -0.61552 -0.5691 -0.64121 -0.6125 -0.65001 C -0.6401 -0.64769 -0.64323 -0.64376 -0.65885 -0.61343 C -0.67083 -0.54931 -0.67101 -0.47454 -0.65 -0.41343 C -0.64201 -0.38982 -0.62309 -0.34191 -0.60139 -0.3301 C -0.59514 -0.32663 -0.58802 -0.32663 -0.58125 -0.32501 C -0.57465 -0.32941 -0.56701 -0.33195 -0.56129 -0.33843 C -0.55 -0.3514 -0.55226 -0.39677 -0.55139 -0.41505 C -0.55764 -0.45533 -0.56024 -0.49654 -0.59375 -0.51019 C -0.60087 -0.5095 -0.60833 -0.51112 -0.6151 -0.50834 C -0.61736 -0.50741 -0.61771 -0.50302 -0.61875 -0.50001 C -0.62396 -0.48519 -0.62361 -0.4801 -0.62639 -0.46181 C -0.62344 -0.44515 -0.61771 -0.40626 -0.60885 -0.39839 C -0.6026 -0.39283 -0.59618 -0.38751 -0.5901 -0.38172 C -0.56042 -0.35302 -0.5783 -0.36158 -0.55139 -0.35348 C -0.54844 -0.35441 -0.52778 -0.35996 -0.52639 -0.36181 C -0.52379 -0.36529 -0.52552 -0.37177 -0.525 -0.37686 C -0.5283 -0.41297 -0.52934 -0.44931 -0.5401 -0.48334 C -0.56354 -0.55811 -0.62153 -0.64098 -0.68507 -0.65001 C -0.68889 -0.64885 -0.69358 -0.65047 -0.69635 -0.64677 C -0.69879 -0.64353 -0.69722 -0.63774 -0.69757 -0.63334 C -0.69809 -0.62779 -0.69844 -0.62223 -0.69879 -0.61667 C -0.69462 -0.5595 -0.66997 -0.50232 -0.6276 -0.48334 C -0.60156 -0.49723 -0.59288 -0.4963 -0.58385 -0.53172 C -0.58351 -0.54121 -0.58385 -0.5507 -0.58264 -0.56019 C -0.58212 -0.56436 -0.57847 -0.5676 -0.57882 -0.57177 C -0.58021 -0.59376 -0.58524 -0.6051 -0.6 -0.60834 C -0.60434 -0.60695 -0.63924 -0.59677 -0.64635 -0.58843 C -0.65365 -0.57964 -0.65799 -0.56737 -0.66389 -0.55672 C -0.66927 -0.53635 -0.68559 -0.48797 -0.67135 -0.46667 C -0.66597 -0.4588 -0.65955 -0.45209 -0.6526 -0.44677 C -0.64844 -0.44353 -0.6434 -0.44329 -0.63889 -0.44167 C -0.62517 -0.44376 -0.59879 -0.44399 -0.58507 -0.45672 C -0.57813 -0.4632 -0.57344 -0.47339 -0.56754 -0.48172 C -0.55538 -0.52732 -0.5599 -0.57894 -0.59514 -0.60348 C -0.60417 -0.60973 -0.6151 -0.61019 -0.625 -0.61343 C -0.68576 -0.60672 -0.68872 -0.61413 -0.73004 -0.56667 C -0.73177 -0.5507 -0.7349 -0.53473 -0.73507 -0.51853 C -0.73524 -0.50394 -0.73472 -0.4889 -0.73125 -0.47501 C -0.71754 -0.41922 -0.65747 -0.41297 -0.62257 -0.40348 C -0.48524 -0.41366 -0.54271 -0.38913 -0.47379 -0.44677 C -0.46007 -0.49283 -0.46302 -0.47015 -0.47639 -0.54677 C -0.4783 -0.55765 -0.48663 -0.5757 -0.49375 -0.58172 C -0.49861 -0.58589 -0.50469 -0.58612 -0.51007 -0.58843 C -0.5191 -0.58542 -0.52951 -0.58797 -0.5375 -0.58172 C -0.54583 -0.57524 -0.55885 -0.5551 -0.55885 -0.5551 C -0.5625 -0.49862 -0.5724 -0.44306 -0.52135 -0.41853 C -0.51458 -0.41529 -0.50712 -0.41737 -0.5 -0.41667 C -0.4967 -0.42177 -0.49358 -0.42686 -0.4901 -0.43172 C -0.48819 -0.4345 -0.48351 -0.43612 -0.48385 -0.44005 C -0.4875 -0.49098 -0.50938 -0.50741 -0.53507 -0.54677 C -0.54271 -0.55857 -0.55694 -0.55811 -0.56754 -0.56505 C -0.57865 -0.57246 -0.58837 -0.58404 -0.6 -0.59005 C -0.60955 -0.59491 -0.61997 -0.59445 -0.63004 -0.59677 C -0.63333 -0.59584 -0.65156 -0.59237 -0.65382 -0.58681 C -0.65677 -0.57941 -0.65469 -0.57015 -0.65504 -0.56181 C -0.65313 -0.53496 -0.64653 -0.5051 -0.63385 -0.48334 C -0.62257 -0.46366 -0.61441 -0.43404 -0.59635 -0.42848 C -0.57691 -0.42246 -0.58872 -0.42663 -0.56129 -0.41505 C -0.53681 -0.42941 -0.53872 -0.42408 -0.53629 -0.45672 C -0.54809 -0.51529 -0.56267 -0.55047 -0.60625 -0.55672 C -0.61163 -0.55441 -0.61858 -0.55533 -0.62257 -0.55001 C -0.62865 -0.54191 -0.62188 -0.50417 -0.62014 -0.49353 C -0.61215 -0.44746 -0.61233 -0.44839 -0.5875 -0.41019 C -0.53906 -0.33589 -0.49948 -0.30672 -0.4276 -0.30348 C -0.40712 -0.31575 -0.39427 -0.31783 -0.38264 -0.34515 C -0.37795 -0.35626 -0.37674 -0.36945 -0.37379 -0.38172 C -0.37205 -0.40001 -0.36875 -0.41829 -0.36875 -0.43681 C -0.36875 -0.53357 -0.42344 -0.67941 -0.49635 -0.71181 C -0.50087 -0.70904 -0.50694 -0.7088 -0.51007 -0.70348 C -0.51302 -0.69862 -0.5125 -0.69144 -0.5125 -0.68519 C -0.51215 -0.6514 -0.51476 -0.5764 -0.49132 -0.54353 C -0.4783 -0.52524 -0.47292 -0.52547 -0.45764 -0.52015 C -0.45642 -0.52177 -0.45538 -0.52385 -0.45382 -0.52501 C -0.45017 -0.52779 -0.44566 -0.52825 -0.44254 -0.53172 C -0.43889 -0.53566 -0.43681 -0.54167 -0.43385 -0.54677 C -0.43212 -0.55741 -0.42865 -0.5676 -0.42882 -0.57848 C -0.42951 -0.62709 -0.43576 -0.6338 -0.4651 -0.64677 C -0.48229 -0.64029 -0.48715 -0.62177 -0.49514 -0.60186 C -0.4967 -0.59283 -0.5 -0.58427 -0.5 -0.57501 C -0.5 -0.51991 -0.50504 -0.47825 -0.47257 -0.44677 C -0.46111 -0.43566 -0.45035 -0.42316 -0.4375 -0.41505 C -0.42969 -0.41019 -0.38629 -0.40441 -0.38021 -0.40348 C -0.34688 -0.41366 -0.34427 -0.41066 -0.32153 -0.44353 C -0.30521 -0.50626 -0.3092 -0.47802 -0.30504 -0.52686 C -0.30885 -0.56436 -0.31458 -0.61135 -0.34635 -0.62177 C -0.35573 -0.61876 -0.37344 -0.61691 -0.38021 -0.60348 C -0.38333 -0.59677 -0.38333 -0.58797 -0.38507 -0.5801 C -0.38767 -0.54491 -0.39566 -0.49376 -0.37014 -0.46853 C -0.36111 -0.4595 -0.35174 -0.45116 -0.34132 -0.44515 C -0.32813 -0.43728 -0.31215 -0.44005 -0.29757 -0.43843 C -0.2901 -0.44005 -0.28212 -0.43982 -0.275 -0.44353 C -0.23872 -0.46204 -0.22934 -0.48658 -0.21129 -0.5301 C -0.20868 -0.56575 -0.20399 -0.64214 -0.22639 -0.66853 C -0.23472 -0.67848 -0.25556 -0.69121 -0.26632 -0.69839 C -0.27743 -0.69746 -0.31771 -0.69908 -0.32899 -0.68172 C -0.3408 -0.66297 -0.34931 -0.61552 -0.35903 -0.59005 C -0.36354 -0.5639 -0.37899 -0.50579 -0.36007 -0.48334 C -0.35538 -0.47779 -0.34913 -0.4757 -0.34392 -0.47177 C -0.32326 -0.4757 -0.31372 -0.48079 -0.29757 -0.49839 C -0.29462 -0.51598 -0.29358 -0.53311 -0.28889 -0.55001 C -0.29653 -0.57269 -0.29427 -0.57547 -0.31129 -0.56667 C -0.31458 -0.56228 -0.3191 -0.55904 -0.32153 -0.55348 C -0.32674 -0.53982 -0.33073 -0.49978 -0.33264 -0.48334 C -0.33177 -0.46945 -0.33316 -0.45487 -0.33004 -0.44167 C -0.31962 -0.39816 -0.27917 -0.38612 -0.25 -0.38334 C -0.24583 -0.38728 -0.24201 -0.39191 -0.2375 -0.39515 C -0.23073 -0.40024 -0.2224 -0.40186 -0.21632 -0.40834 C -0.21198 -0.41297 -0.21059 -0.42084 -0.20764 -0.42686 C -0.20399 -0.43404 -0.20017 -0.44121 -0.19635 -0.44839 C -0.18802 -0.49538 -0.19722 -0.5507 -0.23889 -0.55834 C -0.24549 -0.55394 -0.25434 -0.55279 -0.25885 -0.54515 C -0.26441 -0.53612 -0.26024 -0.52177 -0.26146 -0.51019 C -0.26024 -0.46853 -0.26319 -0.43519 -0.22882 -0.42339 C -0.22431 -0.42987 -0.22309 -0.44561 -0.22135 -0.45348 C -0.22101 -0.46019 -0.21962 -0.46667 -0.22014 -0.47339 C -0.22083 -0.48033 -0.22344 -0.48681 -0.225 -0.49353 C -0.23004 -0.51621 -0.23247 -0.53959 -0.24132 -0.56019 C -0.25 -0.58033 -0.24549 -0.57616 -0.25625 -0.58172 C -0.25538 -0.57501 -0.25573 -0.56806 -0.25399 -0.56181 C -0.25017 -0.55024 -0.23629 -0.54607 -0.22882 -0.54005 C -0.21597 -0.54167 -0.21528 -0.53982 -0.20764 -0.55001 C -0.20851 -0.55348 -0.20764 -0.55857 -0.21007 -0.56019 C -0.21927 -0.56644 -0.22448 -0.53357 -0.22639 -0.52848 C -0.22813 -0.52362 -0.23056 -0.51945 -0.23264 -0.51505 C -0.23177 -0.4463 -0.24583 -0.42616 -0.21875 -0.39005 C -0.2151 -0.39167 -0.21076 -0.39191 -0.20764 -0.39515 C -0.19583 -0.40695 -0.18611 -0.43589 -0.18004 -0.45348 C -0.17552 -0.4845 -0.16875 -0.51251 -0.1651 -0.54353 C -0.16771 -0.56366 -0.1651 -0.59584 -0.18385 -0.60001 C -0.1901 -0.59515 -0.19618 -0.59144 -0.2 -0.58172 C -0.2026 -0.57524 -0.20226 -0.56737 -0.20382 -0.56019 C -0.20712 -0.54515 -0.21181 -0.53126 -0.21632 -0.51667 C -0.21389 -0.48288 -0.22379 -0.44862 -0.2 -0.43172 C -0.19375 -0.42732 -0.18594 -0.42941 -0.17882 -0.42848 C -0.17031 -0.43334 -0.16042 -0.43357 -0.1526 -0.44005 C -0.14965 -0.44237 -0.14896 -0.44769 -0.14757 -0.45186 C -0.13368 -0.49283 -0.15017 -0.45417 -0.13125 -0.49515 C -0.13004 -0.51112 -0.12778 -0.5257 -0.13385 -0.54167 C -0.13507 -0.54468 -0.13889 -0.54052 -0.14132 -0.54005 C -0.14375 -0.53774 -0.1474 -0.53681 -0.14879 -0.53334 C -0.15104 -0.52732 -0.15 -0.51991 -0.15139 -0.51343 C -0.15451 -0.49978 -0.15885 -0.48681 -0.1625 -0.47339 C -0.16476 -0.46505 -0.16875 -0.44839 -0.16875 -0.44839 C -0.16927 -0.44167 -0.16927 -0.43496 -0.17014 -0.42848 C -0.17135 -0.41991 -0.17934 -0.39052 -0.16875 -0.38519 C -0.16441 -0.38288 -0.15955 -0.38288 -0.15504 -0.38172 C -0.13663 -0.38519 -0.15642 -0.37917 -0.13385 -0.39839 C -0.12934 -0.40232 -0.12379 -0.40394 -0.11875 -0.40672 C -0.10972 -0.43473 -0.07205 -0.49491 -0.10382 -0.52177 C -0.10885 -0.51899 -0.11458 -0.51806 -0.11875 -0.51343 C -0.1217 -0.51019 -0.1224 -0.50464 -0.12379 -0.50001 C -0.13524 -0.46366 -0.12153 -0.49978 -0.13629 -0.46343 C -0.13837 -0.44931 -0.14167 -0.43635 -0.13629 -0.42177 C -0.13438 -0.41691 -0.12969 -0.41505 -0.12639 -0.41181 C -0.12101 -0.41366 -0.10052 -0.41922 -0.09514 -0.42686 C -0.09132 -0.43218 -0.09063 -0.44052 -0.0875 -0.44677 C -0.0809 -0.45996 -0.07292 -0.472 -0.06632 -0.48519 C -0.06215 -0.51968 -0.05938 -0.50695 -0.0651 -0.52501 C -0.06719 -0.52362 -0.0842 -0.51112 -0.08629 -0.50834 C -0.08924 -0.50417 -0.09028 -0.49839 -0.09254 -0.49353 C -0.1 -0.47802 -0.10139 -0.47848 -0.1125 -0.46505 C -0.12066 -0.44329 -0.12292 -0.4463 -0.13507 -0.4301 C -0.13472 -0.42501 -0.13698 -0.41806 -0.13385 -0.41505 C -0.13142 -0.41274 -0.12899 -0.41991 -0.12639 -0.42177 C -0.12188 -0.42501 -0.11719 -0.42732 -0.1125 -0.4301 C -0.10677 -0.44607 -0.10052 -0.45116 -0.09132 -0.46343 C -0.09219 -0.46783 -0.09097 -0.47431 -0.09375 -0.47686 C -0.09566 -0.47871 -0.09705 -0.47223 -0.09879 -0.47015 C -0.10243 -0.46552 -0.1066 -0.46158 -0.11007 -0.45672 C -0.15642 -0.39283 -0.12448 -0.44167 -0.14635 -0.39167 C -0.15035 -0.38241 -0.16007 -0.36505 -0.16007 -0.36505 C -0.16267 -0.34931 -0.16545 -0.34306 -0.1526 -0.35186 C -0.14531 -0.37431 -0.14149 -0.39306 -0.13507 -0.41505 C -0.13802 -0.42501 -0.13611 -0.44191 -0.14375 -0.44515 C -0.18316 -0.46228 -0.19635 -0.4014 -0.2151 -0.37339 C -0.21615 -0.35394 -0.21892 -0.33843 -0.21389 -0.32015 C -0.21007 -0.32246 -0.20556 -0.32292 -0.2026 -0.32686 C -0.20017 -0.3301 -0.19913 -0.34862 -0.19879 -0.35186 C -0.20191 -0.37894 -0.19965 -0.37964 -0.21632 -0.39353 C -0.23507 -0.38774 -0.23594 -0.39098 -0.23889 -0.36667 C -0.23802 -0.36112 -0.24045 -0.3507 -0.23629 -0.35001 C -0.21076 -0.34561 -0.19653 -0.35556 -0.17639 -0.36667 C -0.1599 -0.38496 -0.16406 -0.37547 -0.15885 -0.39005 C -0.16337 -0.40255 -0.16892 -0.40186 -0.17882 -0.4051 C -0.19757 -0.41135 -0.21458 -0.41366 -0.23385 -0.41505 C -0.24566 -0.41066 -0.2559 -0.40556 -0.26632 -0.39677 C -0.27309 -0.36691 -0.26979 -0.38496 -0.275 -0.33843 C -0.27604 -0.33056 -0.2776 -0.31505 -0.2776 -0.31505 C -0.27604 -0.28473 -0.27396 -0.24908 -0.2526 -0.23172 C -0.2283 -0.23797 -0.22604 -0.23612 -0.22135 -0.26853 C -0.22257 -0.3051 -0.22049 -0.34237 -0.225 -0.37848 C -0.22569 -0.38357 -0.23212 -0.37316 -0.23385 -0.36853 C -0.23576 -0.36343 -0.23472 -0.35741 -0.23507 -0.35186 C -0.2342 -0.30857 -0.24149 -0.26274 -0.20764 -0.24005 C -0.2033 -0.23704 -0.19844 -0.23566 -0.19375 -0.23334 C -0.17535 -0.23959 -0.17622 -0.23658 -0.17379 -0.26019 C -0.18976 -0.29816 -0.21285 -0.34561 -0.24757 -0.35672 C -0.25139 -0.3551 -0.25608 -0.35556 -0.25885 -0.35186 C -0.26181 -0.34816 -0.26267 -0.34214 -0.26267 -0.33681 C -0.26267 -0.31459 -0.26302 -0.29167 -0.25885 -0.27015 C -0.2566 -0.25857 -0.24861 -0.25024 -0.24375 -0.24005 C -0.22726 -0.20464 -0.21962 -0.17709 -0.18629 -0.17177 C -0.18142 -0.17871 -0.18177 -0.18589 -0.1776 -0.19353 C -0.18594 -0.21991 -0.18646 -0.23334 -0.20764 -0.24005 C -0.21215 -0.23612 -0.21979 -0.23542 -0.22135 -0.22848 C -0.22917 -0.19144 -0.19479 -0.16274 -0.175 -0.15001 C -0.17326 -0.14885 -0.14809 -0.14353 -0.14757 -0.14353 C -0.14028 -0.14538 -0.13438 -0.14445 -0.12882 -0.15186 C -0.13177 -0.18288 -0.13108 -0.1838 -0.15 -0.19839 C -0.16007 -0.19329 -0.15972 -0.19306 -0.16389 -0.17848 C -0.16424 -0.17524 -0.1651 -0.172 -0.1651 -0.16853 C -0.1651 -0.15348 -0.16076 -0.1595 -0.16754 -0.15348 C -0.17517 -0.13866 -0.17118 -0.11829 -0.17014 -0.10186 C -0.16892 -0.08079 -0.15347 -0.05093 -0.1401 -0.04005 C -0.13629 -0.03311 -0.1309 -0.02941 -0.12639 -0.02339 C -0.12083 -0.01598 -0.12708 -0.02015 -0.12014 -0.01667 C -0.11788 0.00555 -0.11493 0.00694 -0.1 0.01481 C -0.09722 0.01874 -0.09705 0.0236 -0.09375 0.02661 C -0.08767 0.0324 -0.08073 0.03634 -0.07379 0.03981 C -0.07083 0.04421 -0.06806 0.04629 -0.06389 0.04814 C -0.06094 0.05393 -0.05903 0.05786 -0.05382 0.05995 C -0.04931 0.06434 -0.04531 0.06759 -0.0401 0.0699 C -0.02778 0.06458 -0.03524 0.06689 -0.01754 0.06481 C -0.01615 0.05925 -0.01389 0.05647 -0.01129 0.05161 C -0.0092 0.04282 -0.00556 0.02083 -0.00139 0.01481 C 0.00052 0.00833 0.00156 0.00694 -0.00139 -0.00186 C -0.00243 -0.0051 -0.00573 -0.00579 -0.00764 -0.00834 C -0.01493 -0.01806 -0.02813 -0.02547 -0.0375 -0.02848 C -0.0408 -0.02964 -0.04427 -0.03056 -0.04757 -0.03172 C -0.0651 -0.04376 -0.08854 -0.04399 -0.10764 -0.04515 C -0.1217 -0.04399 -0.13629 -0.04584 -0.15 -0.04167 C -0.15347 -0.04052 -0.14583 -0.03357 -0.14254 -0.03172 C -0.09254 -0.00487 -0.12066 -0.01366 -0.06632 -0.00672 C -0.03333 -0.01621 -0.04601 -0.00857 -0.02639 -0.02339 C 0.01163 -0.08103 -0.05677 -0.13103 -0.08889 -0.1551 C -0.09861 -0.16228 -0.10833 -0.16991 -0.11875 -0.17501 C -0.12795 -0.17941 -0.13802 -0.18079 -0.14757 -0.18334 C -0.16042 -0.18681 -0.18629 -0.19353 -0.18629 -0.19353 C -0.19306 -0.1889 -0.20156 -0.18936 -0.20764 -0.18334 C -0.21007 -0.18103 -0.2092 -0.1757 -0.21007 -0.17177 C -0.20747 -0.15741 -0.20104 -0.16204 -0.19132 -0.16343 C -0.18715 -0.17454 -0.18629 -0.18288 -0.18507 -0.19515 C -0.18576 -0.20788 -0.18316 -0.22825 -0.19514 -0.23334 C -0.22517 -0.22941 -0.24167 -0.2301 -0.26632 -0.21019 C -0.26858 -0.19515 -0.27309 -0.18519 -0.26754 -0.17177 C -0.26389 -0.16297 -0.25504 -0.16112 -0.24879 -0.15834 C -0.21597 -0.14376 -0.19306 -0.14515 -0.15885 -0.14167 C -0.14254 -0.14654 -0.12622 -0.14515 -0.11129 -0.1551 C -0.11042 -0.15834 -0.10833 -0.16158 -0.10885 -0.16505 C -0.11059 -0.17616 -0.12691 -0.17755 -0.13264 -0.17848 C -0.13785 -0.17709 -0.15764 -0.17547 -0.1625 -0.16505 C -0.16493 -0.15973 -0.16424 -0.15279 -0.1651 -0.14677 C -0.16267 -0.13241 -0.16285 -0.11667 -0.15764 -0.10348 C -0.14149 -0.06228 -0.1026 -0.04607 -0.07257 -0.03172 C -0.00694 -7.03703999999777E-006 -0.04514 -0.01112 0.00868 -7.03704E-006 C 0.01736 -0.00163 0.02934 0.00393 0.0349 -0.0051 C 0.03906 -0.01181 0.03142 -0.02316 0.02621 -0.02848 C 0.01319 -0.04191 -0.01042 -0.047 -0.02639 -0.05186 C -0.1217 -0.04723 -0.07066 -0.05325 -0.11632 -0.03843 C -0.12153 -0.02501 -0.11979 -0.02964 -0.11754 -0.01667 C -0.11719 -0.01066 -0.11771 -0.00417 -0.11632 0.00161 C -0.1158 0.00346 -0.11354 0.00323 -0.1125 0.00485 C -0.10851 0.0111 -0.10903 0.0155 -0.1026 0.01828 C -0.09549 0.02708 -0.10243 0.0199 -0.08264 0.02314 C -0.07569 0.0243 -0.0684 0.02708 -0.06129 0.02823 C -0.03872 0.02592 -0.02083 0.02476 -5.55556E-007 0.01481 C -0.00139 -0.000699999999999999 -0.00504 -7.03704E-006 -5.55556E-007 -7.03704E-006 Z">
                                      <p:cBhvr>
                                        <p:cTn id="20" dur="5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punishments of being a witch was going to jail where you were chained to the wall and  treated very harsh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punishment was being hung in the gallows till you died.</a:t>
            </a:r>
            <a:endParaRPr b="0" lang="en-US" sz="3200" spc="-1" strike="noStrike">
              <a:solidFill>
                <a:srgbClr val="000000"/>
              </a:solidFill>
              <a:latin typeface="Arial"/>
            </a:endParaRPr>
          </a:p>
        </p:txBody>
      </p:sp>
      <p:pic>
        <p:nvPicPr>
          <p:cNvPr id="50" name="Picture 4" descr="j0290885"/>
          <p:cNvPicPr/>
          <p:nvPr/>
        </p:nvPicPr>
        <p:blipFill>
          <a:blip r:embed="rId1"/>
          <a:stretch/>
        </p:blipFill>
        <p:spPr>
          <a:xfrm>
            <a:off x="6705720" y="4640400"/>
            <a:ext cx="2438280" cy="2217600"/>
          </a:xfrm>
          <a:prstGeom prst="rect">
            <a:avLst/>
          </a:prstGeom>
          <a:ln w="0">
            <a:noFill/>
          </a:ln>
        </p:spPr>
      </p:pic>
      <p:pic>
        <p:nvPicPr>
          <p:cNvPr id="51" name="Picture 8" descr="gallow"/>
          <p:cNvPicPr/>
          <p:nvPr/>
        </p:nvPicPr>
        <p:blipFill>
          <a:blip r:embed="rId2"/>
          <a:stretch/>
        </p:blipFill>
        <p:spPr>
          <a:xfrm>
            <a:off x="0" y="4572000"/>
            <a:ext cx="1752480" cy="228600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path" presetID="0">
                                  <p:stCondLst>
                                    <p:cond delay="0"/>
                                  </p:stCondLst>
                                  <p:childTnLst>
                                    <p:animMotion origin="layout" path="M 1.94444E-006 7.03704E-006 C 0.00486 0.0044 0.01667 0.00788 0.01667 0.00788 C 0.02327 0.0139 0.02847 0.0132 0.03698 0.01436 C 0.04514 0.022 0.07552 0.02362 0.08698 0.02385 C 0.13542 0.02477 0.18368 0.02501 0.23212 0.02547 C 0.24757 0.02663 0.26215 0.0294 0.27743 0.03172 C 0.28924 0.03542 0.2974 0.04329 0.30833 0.04931 C 0.31285 0.05163 0.3217 0.05186 0.325 0.05209 C 0.35434 0.06042 0.32344 0.05209 0.40122 0.05556 C 0.43177 0.05672 0.46736 0.06181 0.49531 0.0632 C 0.51528 0.06135 0.5349 0.05857 0.55486 0.05718 C 0.56354 0.04908 0.57014 0.0514 0.58212 0.04769 C 0.60469 0.04075 0.62327 0.02292 0.64531 0.01436 C 0.66302 -0.00277 0.65625 0.00325 0.66545 -0.00462 C 0.66632 -0.00833 0.66771 -0.0118 0.66788 -0.01573 C 0.66823 -0.02939 0.66875 -0.06388 0.65955 -0.07615 C 0.65139 -0.08726 0.63299 -0.09837 0.62153 -0.10161 C 0.61528 -0.10694 0.60955 -0.11018 0.60243 -0.11273 C 0.57292 -0.13587 0.51997 -0.1236 0.49653 -0.12384 C 0.45712 -0.12731 0.47118 -0.12175 0.45243 -0.13032 C 0.44653 -0.14212 0.45399 -0.16666 0.45955 -0.17777 C 0.46163 -0.19328 0.46649 -0.2074 0.47865 -0.2111 C 0.4882 -0.21782 0.49896 -0.21898 0.50955 -0.22083 C 0.52101 -0.22592 0.53281 -0.22916 0.5441 -0.23518 C 0.55347 -0.24004 0.56493 -0.25231 0.575 -0.25416 C 0.58281 -0.25555 0.5908 -0.25532 0.59879 -0.25555 C 0.61597 -0.25972 0.60729 -0.26041 0.63212 -0.25902 C 0.63889 -0.25416 0.64531 -0.25069 0.65243 -0.24768 C 0.65729 -0.2456 0.66667 -0.2412 0.66667 -0.2412 C 0.6849 -0.24259 0.69167 -0.23518 0.7 -0.25069 C 0.70104 -0.25532 0.70261 -0.25925 0.70365 -0.26342 C 0.70608 -0.27384 0.70573 -0.28495 0.70833 -0.29536 C 0.70729 -0.32638 0.70434 -0.35648 0.7 -0.38726 C 0.69792 -0.4405 0.70104 -0.39768 0.69531 -0.43495 C 0.69462 -0.43911 0.69427 -0.44583 0.69167 -0.44907 C 0.68629 -0.45624 0.67656 -0.45185 0.6691 -0.45254 C 0.63802 -0.4611 0.59705 -0.45208 0.56424 -0.45069 C 0.53212 -0.44768 0.54427 -0.44999 0.52743 -0.44629 C 0.52257 -0.43958 0.51875 -0.43865 0.51198 -0.43495 C 0.50781 -0.42754 0.50608 -0.42754 0.5 -0.42384 C 0.49236 -0.40948 0.49063 -0.39166 0.48455 -0.37615 C 0.48281 -0.35856 0.48143 -0.34536 0.48333 -0.32685 C 0.48698 -0.29235 0.52309 -0.26782 0.54288 -0.25416 C 0.55903 -0.21226 0.54809 -0.23333 0.6309 -0.25069 C 0.64097 -0.253 0.64913 -0.26273 0.65833 -0.26828 C 0.66979 -0.27523 0.68212 -0.27893 0.69288 -0.28749 C 0.72153 -0.31018 0.72448 -0.32569 0.74757 -0.35578 C 0.78924 -0.40995 0.76372 -0.36134 0.79288 -0.42847 C 0.80018 -0.46967 0.80938 -0.51458 0.80122 -0.5574 C 0.79323 -0.5986 0.78108 -0.61712 0.76667 -0.65254 C 0.75799 -0.67314 0.75226 -0.69652 0.74167 -0.71573 C 0.6974 -0.79652 0.6684 -0.82823 0.61424 -0.89212 C 0.58958 -0.92129 0.55972 -0.9655 0.52865 -0.98101 C 0.51285 -0.98888 0.47986 -0.99837 0.47986 -0.99837 C 0.47153 -0.99583 0.46268 -0.99536 0.45486 -0.9905 C 0.45174 -0.98865 0.4507 -0.98333 0.44879 -0.97939 C 0.4375 -0.95648 0.43195 -0.93402 0.42622 -0.90786 C 0.42413 -0.85439 0.42205 -0.82036 0.42986 -0.75717 C 0.43108 -0.74698 0.4382 -0.73981 0.44288 -0.73171 C 0.45 -0.71944 0.45521 -0.70277 0.46545 -0.69536 C 0.4809 -0.68356 0.49653 -0.67198 0.51198 -0.66018 C 0.51615 -0.65717 0.52153 -0.65972 0.52622 -0.65902 C 0.55052 -0.65532 0.55695 -0.6537 0.57986 -0.64907 C 0.62049 -0.6655 0.60399 -0.65717 0.62986 -0.67129 C 0.63177 -0.67476 0.64618 -0.69907 0.64653 -0.70648 C 0.65087 -0.79513 0.57396 -0.86226 0.51545 -0.87129 C 0.50643 -0.87036 0.49618 -0.87384 0.4882 -0.86828 C 0.48056 -0.86319 0.47778 -0.85023 0.47257 -0.84143 C 0.47014 -0.83703 0.4658 -0.83541 0.4632 -0.83171 C 0.45955 -0.82638 0.45677 -0.82036 0.45365 -0.81435 C 0.45139 -0.79467 0.44722 -0.778 0.44288 -0.75879 C 0.44445 -0.7111 0.45261 -0.63101 0.47379 -0.59073 C 0.48108 -0.57685 0.49184 -0.56689 0.5 -0.55393 C 0.51893 -0.52453 0.49375 -0.54073 0.53577 -0.51573 C 0.56215 -0.49999 0.57604 -0.50323 0.60712 -0.49999 C 0.62708 -0.50555 0.62934 -0.50972 0.6441 -0.52685 C 0.64531 -0.56689 0.64688 -0.60509 0.625 -0.63657 C 0.61979 -0.64421 0.61302 -0.64907 0.60712 -0.65555 C 0.6007 -0.66273 0.59583 -0.67198 0.58698 -0.67476 C 0.58264 -0.67569 0.53889 -0.68078 0.53698 -0.68124 C 0.5191 -0.67569 0.50347 -0.66458 0.48698 -0.65416 C 0.48038 -0.63865 0.47118 -0.62546 0.46545 -0.60972 C 0.46198 -0.60023 0.46077 -0.58935 0.45833 -0.57962 C 0.45938 -0.55277 0.45382 -0.50925 0.47153 -0.48587 C 0.47726 -0.478 0.48438 -0.47222 0.49045 -0.46504 C 0.49236 -0.46296 0.49288 -0.4581 0.49531 -0.4574 C 0.50573 -0.4537 0.51667 -0.45393 0.52743 -0.45254 C 0.54705 -0.45555 0.56615 -0.45439 0.58333 -0.46666 C 0.58889 -0.50624 0.58733 -0.48981 0.58924 -0.51573 C 0.58507 -0.53518 0.57986 -0.56157 0.56545 -0.57314 C 0.56042 -0.57708 0.55434 -0.57731 0.54879 -0.57962 C 0.52691 -0.57823 0.50504 -0.57893 0.48333 -0.57615 C 0.44844 -0.57152 0.43403 -0.52893 0.425 -0.4905 C 0.42535 -0.47661 0.42344 -0.46249 0.42622 -0.44907 C 0.42813 -0.43981 0.43403 -0.4331 0.4382 -0.42546 C 0.4566 -0.39212 0.48333 -0.35856 0.5132 -0.34467 C 0.54531 -0.34722 0.57031 -0.3368 0.5882 -0.37129 C 0.60208 -0.43587 0.57049 -0.5074 0.5191 -0.51273 C 0.51042 -0.5111 0.50122 -0.5118 0.49288 -0.50786 C 0.47743 -0.50046 0.4842 -0.49513 0.4809 -0.48101 C 0.47917 -0.47337 0.47622 -0.4662 0.47379 -0.45879 C 0.47309 -0.44259 0.47118 -0.40948 0.47379 -0.39351 C 0.48056 -0.35393 0.5099 -0.34097 0.53577 -0.33356 C 0.58021 -0.33865 0.57083 -0.32754 0.5882 -0.36828 C 0.58889 -0.37453 0.58993 -0.38101 0.59045 -0.38726 C 0.59149 -0.40161 0.59288 -0.43032 0.59288 -0.43032 C 0.58958 -0.44814 0.58733 -0.4655 0.57743 -0.47939 C 0.57222 -0.4868 0.56719 -0.49745 0.55955 -0.49837 C 0.55122 -0.49953 0.53455 -0.50161 0.53455 -0.50161 C 0.5217 -0.49884 0.50208 -0.50161 0.49288 -0.48402 C 0.4882 -0.47499 0.48212 -0.45393 0.48212 -0.45393 C 0.47761 -0.42685 0.47396 -0.39837 0.48212 -0.37129 C 0.48924 -0.34791 0.50903 -0.32985 0.525 -0.31898 C 0.54202 -0.32083 0.56042 -0.31481 0.57622 -0.32384 C 0.58889 -0.33124 0.59063 -0.35532 0.59879 -0.3699 C 0.60139 -0.39536 0.60625 -0.41435 0.59879 -0.43958 C 0.59462 -0.4537 0.57153 -0.46666 0.57153 -0.46666 C 0.55729 -0.46481 0.54254 -0.46504 0.52865 -0.46018 C 0.51476 -0.45555 0.49531 -0.4118 0.4882 -0.39675 C 0.48507 -0.36828 0.47743 -0.3368 0.49167 -0.3111 C 0.49375 -0.3074 0.49479 -0.30277 0.49757 -0.29999 C 0.5007 -0.29722 0.52118 -0.28865 0.52379 -0.28749 C 0.54115 -0.2912 0.55521 -0.29606 0.57153 -0.30462 C 0.58559 -0.32638 0.59219 -0.33124 0.5809 -0.36504 C 0.57969 -0.36874 0.57535 -0.36712 0.57257 -0.36828 C 0.54288 -0.36504 0.51268 -0.3662 0.48333 -0.35902 C 0.46129 -0.35347 0.44531 -0.32453 0.43212 -0.30347 C 0.43038 -0.29259 0.42552 -0.28217 0.42622 -0.27152 C 0.42795 -0.23935 0.4474 -0.23101 0.46667 -0.22407 C 0.47934 -0.21365 0.49497 -0.21411 0.50955 -0.21296 C 0.5257 -0.21597 0.54115 -0.21782 0.55712 -0.22222 C 0.5592 -0.22708 0.56059 -0.23263 0.5632 -0.23657 C 0.58004 -0.26458 0.56719 -0.23379 0.57622 -0.2574 C 0.57656 -0.26157 0.57813 -0.26597 0.57743 -0.27013 C 0.57257 -0.29606 0.56893 -0.30046 0.55122 -0.30347 C 0.53004 -0.30092 0.51233 -0.30347 0.4941 -0.28888 C 0.48941 -0.28518 0.48577 -0.28009 0.48212 -0.27453 C 0.47604 -0.2655 0.46545 -0.24629 0.46545 -0.24629 C 0.46511 -0.24073 0.46511 -0.23564 0.46424 -0.23009 C 0.46354 -0.22638 0.46077 -0.22291 0.46077 -0.21921 C 0.46077 -0.18888 0.46875 -0.18518 0.48698 -0.18101 C 0.49497 -0.18217 0.50295 -0.18217 0.51077 -0.18402 C 0.51702 -0.18587 0.51702 -0.19097 0.52031 -0.19698 C 0.52726 -0.20856 0.53368 -0.21851 0.53924 -0.23194 C 0.54063 -0.2412 0.53976 -0.24884 0.53212 -0.25231 C 0.52639 -0.25115 0.50556 -0.24698 0.50122 -0.24305 C 0.48958 -0.23194 0.48212 -0.21435 0.47153 -0.20185 C 0.46667 -0.18634 0.46476 -0.17777 0.4632 -0.1618 C 0.46945 -0.128 0.4724 -0.13171 0.49757 -0.11759 C 0.50452 -0.11365 0.52031 -0.11435 0.52031 -0.11435 C 0.56181 -0.1162 0.55226 -0.11435 0.58212 -0.13032 C 0.58802 -0.14097 0.59445 -0.15069 0.6 -0.1618 C 0.59879 -0.16759 0.59879 -0.17407 0.59653 -0.17962 C 0.5934 -0.18703 0.57413 -0.18773 0.56788 -0.18888 C 0.55087 -0.18448 0.54705 -0.17731 0.53333 -0.16504 C 0.53177 -0.15925 0.5309 -0.15323 0.52865 -0.14768 C 0.52691 -0.14398 0.52309 -0.14212 0.52153 -0.13796 C 0.51927 -0.13217 0.5191 -0.12546 0.51788 -0.11921 C 0.5191 -0.10948 0.51962 -0.09976 0.52153 -0.0905 C 0.52604 -0.06874 0.5434 -0.05948 0.5559 -0.04768 C 0.56077 -0.0486 0.56545 -0.04976 0.57031 -0.05092 C 0.57344 -0.05161 0.57726 -0.04999 0.57986 -0.05231 C 0.58247 -0.05462 0.58229 -0.06064 0.58455 -0.06342 C 0.58715 -0.06689 0.59097 -0.06874 0.5941 -0.07129 C 0.60643 -0.09351 0.60434 -0.10763 0.60833 -0.13356 C 0.60799 -0.14212 0.60886 -0.15069 0.60712 -0.15879 C 0.60382 -0.17407 0.59184 -0.17777 0.58212 -0.17962 C 0.55504 -0.17661 0.55018 -0.178 0.5309 -0.16018 C 0.52188 -0.15208 0.50486 -0.13356 0.50486 -0.13356 C 0.50278 -0.11944 0.50122 -0.10624 0.5 -0.09212 C 0.50087 -0.08356 0.50174 -0.06898 0.50486 -0.06203 C 0.50764 -0.05532 0.52865 -0.05277 0.53455 -0.05092 C 0.54011 -0.05208 0.54583 -0.05161 0.55122 -0.05416 C 0.55486 -0.05578 0.55747 -0.05948 0.56077 -0.06203 C 0.56858 -0.06712 0.57309 -0.06643 0.57865 -0.07453 C 0.58073 -0.07754 0.58698 -0.09212 0.5882 -0.09536 C 0.58698 -0.10323 0.5875 -0.11203 0.58455 -0.11921 C 0.58247 -0.12384 0.57743 -0.12546 0.57379 -0.12847 C 0.56163 -0.13842 0.55226 -0.13842 0.5382 -0.14143 C 0.52257 -0.13541 0.51893 -0.13333 0.50712 -0.11759 C 0.47361 -0.02615 0.56962 0.04723 0.62622 0.05209 C 0.65677 0.04653 0.66684 0.05325 0.68333 0.02547 C 0.68663 0.00093 0.6882 -0.0162 0.68333 -0.0412 C 0.68038 -0.05601 0.67049 -0.06759 0.6632 -0.078 C 0.65035 -0.09606 0.65139 -0.09606 0.63333 -0.10161 C 0.62969 -0.10069 0.60208 -0.09606 0.59531 -0.08564 C 0.59011 -0.07754 0.58872 -0.06643 0.58455 -0.05717 C 0.58212 -0.03842 0.57899 -0.02152 0.58333 -0.00161 C 0.58455 0.00371 0.59132 0.00024 0.59531 0.00163 C 0.61077 -0.0074 0.6191 -0.03009 0.6309 -0.04606 C 0.63906 -0.07569 0.64462 -0.10578 0.65 -0.13657 C 0.64722 -0.18703 0.65781 -0.22592 0.62622 -0.25069 C 0.60139 -0.23935 0.59948 -0.23842 0.58333 -0.21435 C 0.57691 -0.18472 0.57014 -0.12198 0.58455 -0.09837 C 0.59323 -0.08425 0.59774 -0.08541 0.60955 -0.08124 C 0.61702 -0.08286 0.62483 -0.0831 0.63212 -0.08564 C 0.64549 -0.09097 0.65556 -0.11018 0.6632 -0.12384 C 0.66771 -0.14652 0.67136 -0.16735 0.67257 -0.19073 C 0.66927 -0.22453 0.6684 -0.28124 0.6441 -0.30648 C 0.6382 -0.31226 0.62622 -0.31643 0.6191 -0.31898 C 0.59983 -0.31759 0.59045 -0.31898 0.57622 -0.30347 C 0.5658 -0.2574 0.5809 -0.31458 0.56424 -0.27638 C 0.56181 -0.27036 0.56111 -0.26342 0.55955 -0.2574 C 0.55729 -0.22523 0.55191 -0.17916 0.57986 -0.16666 C 0.60764 -0.17731 0.61337 -0.17731 0.62986 -0.20485 C 0.63177 -0.24444 0.63577 -0.27638 0.63212 -0.31759 C 0.63004 -0.33981 0.62309 -0.35786 0.60712 -0.36504 C 0.60313 -0.36319 0.59844 -0.36249 0.59531 -0.35902 C 0.58941 -0.35208 0.58212 -0.32453 0.57865 -0.31458 C 0.57952 -0.27523 0.57344 -0.22152 0.61198 -0.21296 C 0.62049 -0.21597 0.64531 -0.21735 0.65 -0.23657 C 0.65486 -0.25601 0.65955 -0.29675 0.65955 -0.29675 C 0.65816 -0.32268 0.66094 -0.38472 0.64288 -0.40948 C 0.63733 -0.41735 0.62917 -0.42106 0.62257 -0.42685 C 0.61684 -0.43217 0.61233 -0.43958 0.6059 -0.44282 C 0.59688 -0.44722 0.57743 -0.44907 0.57743 -0.44907 C 0.56389 -0.44768 0.54948 -0.44999 0.53698 -0.44282 C 0.5184 -0.4324 0.51233 -0.42499 0.49879 -0.41134 C 0.49479 -0.39768 0.49063 -0.38911 0.48924 -0.37453 C 0.49011 -0.36874 0.48958 -0.36226 0.49167 -0.35717 C 0.49688 -0.34421 0.50347 -0.34421 0.51198 -0.33981 C 0.5257 -0.34351 0.53143 -0.34606 0.54045 -0.36018 C 0.54288 -0.3706 0.54861 -0.37985 0.54879 -0.3905 C 0.54913 -0.40509 0.54757 -0.41921 0.54531 -0.43333 C 0.53889 -0.47222 0.50261 -0.47847 0.47865 -0.48101 C 0.46788 -0.47939 0.4566 -0.48124 0.44653 -0.47615 C 0.42934 -0.46759 0.4184 -0.44768 0.41077 -0.42685 C 0.41059 -0.42476 0.40729 -0.39675 0.41198 -0.39536 C 0.41476 -0.39421 0.42309 -0.41874 0.42379 -0.4206 C 0.42518 -0.44328 0.43299 -0.47453 0.42031 -0.49235 C 0.41268 -0.49097 0.40434 -0.49351 0.39757 -0.48888 C 0.36806 -0.46874 0.37153 -0.4574 0.35486 -0.42685 C 0.33247 -0.3861 0.3099 -0.34976 0.29167 -0.30462 C 0.28837 -0.27893 0.27952 -0.23472 0.2941 -0.2111 C 0.29792 -0.20485 0.30764 -0.19999 0.3132 -0.19698 C 0.32708 -0.20115 0.34219 -0.20069 0.35486 -0.20972 C 0.36094 -0.21411 0.36181 -0.22546 0.36545 -0.23333 C 0.37014 -0.24305 0.375 -0.25231 0.37986 -0.2618 C 0.38611 -0.30185 0.38524 -0.36689 0.36545 -0.40323 C 0.35643 -0.4199 0.34792 -0.44073 0.33333 -0.44768 C 0.30643 -0.46064 0.32014 -0.45555 0.29167 -0.4618 C 0.26372 -0.45254 0.25538 -0.44629 0.24167 -0.41273 C 0.23872 -0.39351 0.23594 -0.38171 0.24045 -0.35902 C 0.24219 -0.35023 0.24757 -0.34374 0.25122 -0.3368 C 0.26597 -0.30786 0.27778 -0.29374 0.29757 -0.27152 C 0.29913 -0.26967 0.29948 -0.26643 0.30122 -0.26527 C 0.35399 -0.22847 0.30382 -0.26921 0.32622 -0.25069 C 0.33368 -0.25416 0.33958 -0.25671 0.34653 -0.2618 C 0.35139 -0.27708 0.35365 -0.28819 0.35486 -0.30462 C 0.35365 -0.31087 0.34913 -0.33726 0.34653 -0.34282 C 0.33611 -0.36643 0.31163 -0.38564 0.29288 -0.39351 C 0.28281 -0.39768 0.26198 -0.40161 0.26198 -0.40161 C 0.25156 -0.40023 0.24097 -0.40046 0.2309 -0.39675 C 0.2224 -0.39351 0.21511 -0.36527 0.21077 -0.35578 C 0.21163 -0.31828 0.2066 -0.30555 0.22031 -0.27777 C 0.22309 -0.27222 0.22674 -0.26712 0.2309 -0.26342 C 0.23715 -0.25786 0.25122 -0.25069 0.25122 -0.25069 C 0.27535 -0.25902 0.26597 -0.25115 0.25486 -0.31759 C 0.2533 -0.32638 0.23698 -0.33495 0.23212 -0.33796 C 0.22066 -0.3361 0.20868 -0.3361 0.19757 -0.33171 C 0.19462 -0.33055 0.19393 -0.32523 0.19167 -0.32222 C 0.18316 -0.31087 0.18559 -0.31851 0.17865 -0.30462 C 0.17309 -0.29374 0.17743 -0.29675 0.17031 -0.28749 C 0.16094 -0.27476 0.14931 -0.26782 0.1382 -0.25902 C 0.12726 -0.24999 0.12327 -0.23634 0.11545 -0.22407 C 0.11215 -0.21898 0.1059 -0.2081 0.1059 -0.2081 C 0.10399 -0.19698 0.1066 -0.18634 0.1 -0.17777 C 0.09722 -0.16666 0.08611 -0.1662 0.07865 -0.16365 C 0.07049 -0.15624 0.07431 -0.15833 0.06788 -0.15578 C 0.06094 -0.14837 0.05399 -0.14513 0.04531 -0.14282 C 0.04097 -0.13726 0.03802 -0.13703 0.03212 -0.13518 C 0.02292 -0.1287 0.03125 -0.13356 0.01545 -0.13032 C 0.01129 -0.12916 0.00781 -0.12546 0.00365 -0.12384 C -0.00573 -0.1206 -0.01389 -0.11874 -0.02378 -0.11759 C -0.02778 -0.11435 -0.03055 -0.10995 -0.03455 -0.10648 C -0.03732 -0.09583 -0.03351 -0.10879 -0.03923 -0.09536 C -0.04288 -0.08657 -0.04045 -0.0831 -0.04757 -0.07615 C -0.05017 -0.07083 -0.05312 -0.06805 -0.05469 -0.06203 C -0.05434 -0.04745 -0.05417 -0.03356 -0.05347 -0.01898 C -0.05347 -0.01735 -0.0533 -0.0155 -0.05243 -0.01435 C -0.04982 -0.01087 -0.04288 -0.00995 -0.03923 -0.00786 C -0.03576 -0.00578 -0.03316 -0.00208 -0.02969 7.03704E-006 C -0.02448 0.00278 -0.01736 0.00278 -0.0118 0.00464 C -0.0066 0.0044 -0.00121 0.00579 0.00365 0.00325 C 0.00504 0.00255 1.94444E-006 -0.00185 1.94444E-006 7.03704E-006 Z">
                                      <p:cBhvr>
                                        <p:cTn id="26" dur="5000" fill="hold"/>
                                        <p:tgtEl>
                                          <p:spTgt spid="51"/>
                                        </p:tgtEl>
                                      </p:cBhvr>
                                    </p:animMotion>
                                  </p:childTnLst>
                                </p:cTn>
                              </p:par>
                            </p:childTnLst>
                          </p:cTn>
                        </p:par>
                        <p:par>
                          <p:cTn id="27" fill="hold">
                            <p:stCondLst>
                              <p:cond delay="5000"/>
                            </p:stCondLst>
                            <p:childTnLst>
                              <p:par>
                                <p:cTn id="28" nodeType="afterEffect" fill="hold" presetClass="entr" presetID="35">
                                  <p:stCondLst>
                                    <p:cond delay="0"/>
                                  </p:stCondLst>
                                  <p:childTnLst>
                                    <p:set>
                                      <p:cBhvr>
                                        <p:cTn id="29" dur="1" fill="hold">
                                          <p:stCondLst>
                                            <p:cond delay="0"/>
                                          </p:stCondLst>
                                        </p:cTn>
                                        <p:tgtEl>
                                          <p:spTgt spid="50"/>
                                        </p:tgtEl>
                                        <p:attrNameLst>
                                          <p:attrName>style.visibility</p:attrName>
                                        </p:attrNameLst>
                                      </p:cBhvr>
                                      <p:to>
                                        <p:strVal val="visible"/>
                                      </p:to>
                                    </p:set>
                                    <p:animEffect filter="fade" transition="in">
                                      <p:cBhvr additive="repl">
                                        <p:cTn id="30" dur="2000"/>
                                        <p:tgtEl>
                                          <p:spTgt spid="50"/>
                                        </p:tgtEl>
                                      </p:cBhvr>
                                    </p:animEffect>
                                    <p:anim calcmode="lin" valueType="num">
                                      <p:cBhvr additive="repl">
                                        <p:cTn id="31" dur="2000" fill="hold"/>
                                        <p:tgtEl>
                                          <p:spTgt spid="50"/>
                                        </p:tgtEl>
                                        <p:attrNameLst>
                                          <p:attrName>r</p:attrName>
                                        </p:attrNameLst>
                                      </p:cBhvr>
                                      <p:tavLst>
                                        <p:tav tm="0">
                                          <p:val>
                                            <p:strVal val="720"/>
                                          </p:val>
                                        </p:tav>
                                        <p:tav tm="100000">
                                          <p:val>
                                            <p:strVal val="0"/>
                                          </p:val>
                                        </p:tav>
                                      </p:tavLst>
                                    </p:anim>
                                    <p:anim calcmode="lin" valueType="num">
                                      <p:cBhvr additive="repl">
                                        <p:cTn id="32" dur="2000" fill="hold"/>
                                        <p:tgtEl>
                                          <p:spTgt spid="50"/>
                                        </p:tgtEl>
                                        <p:attrNameLst>
                                          <p:attrName>ppt_h</p:attrName>
                                        </p:attrNameLst>
                                      </p:cBhvr>
                                      <p:tavLst>
                                        <p:tav tm="0">
                                          <p:val>
                                            <p:fltVal val="0"/>
                                          </p:val>
                                        </p:tav>
                                        <p:tav tm="100000">
                                          <p:val>
                                            <p:strVal val="#ppt_h"/>
                                          </p:val>
                                        </p:tav>
                                      </p:tavLst>
                                    </p:anim>
                                    <p:anim calcmode="lin" valueType="num">
                                      <p:cBhvr additive="repl">
                                        <p:cTn id="33"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s</a:t>
            </a:r>
            <a:endParaRPr b="0" lang="en-US" sz="4400" spc="-1" strike="noStrike">
              <a:solidFill>
                <a:srgbClr val="000000"/>
              </a:solidFill>
              <a:latin typeface="Arial"/>
            </a:endParaRPr>
          </a:p>
        </p:txBody>
      </p:sp>
      <p:sp>
        <p:nvSpPr>
          <p:cNvPr id="53" name="PlaceHolder 2"/>
          <p:cNvSpPr>
            <a:spLocks noGrp="1"/>
          </p:cNvSpPr>
          <p:nvPr>
            <p:ph/>
          </p:nvPr>
        </p:nvSpPr>
        <p:spPr>
          <a:xfrm>
            <a:off x="228240" y="1599840"/>
            <a:ext cx="8915400" cy="4876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accused of being witches where held in jail until their tri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went to the trial they were asked if they were guilty or not-guil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eaded not-guilty then you were likely to die but if you pleaded guilty then you were thrown in jai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als were unfairly judg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istrates and the people afflicted were the jurors.</a:t>
            </a:r>
            <a:endParaRPr b="0" lang="en-US" sz="32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i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jail in Salem Town was not very pleasant if you wanted room then you had to pay extr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normally had to pay for your foo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ere chained to the wall so you could not fly over the town and posses them.</a:t>
            </a:r>
            <a:endParaRPr b="0" lang="en-US" sz="3600" spc="-1" strike="noStrike">
              <a:solidFill>
                <a:srgbClr val="000000"/>
              </a:solidFill>
              <a:latin typeface="Arial"/>
            </a:endParaRPr>
          </a:p>
        </p:txBody>
      </p:sp>
      <p:pic>
        <p:nvPicPr>
          <p:cNvPr id="56" name="Picture 10" descr="j0290885"/>
          <p:cNvPicPr/>
          <p:nvPr/>
        </p:nvPicPr>
        <p:blipFill>
          <a:blip r:embed="rId1"/>
          <a:stretch/>
        </p:blipFill>
        <p:spPr>
          <a:xfrm>
            <a:off x="7315200" y="5194440"/>
            <a:ext cx="1828800" cy="1663560"/>
          </a:xfrm>
          <a:prstGeom prst="rect">
            <a:avLst/>
          </a:prstGeom>
          <a:ln w="0">
            <a:noFill/>
          </a:ln>
        </p:spPr>
      </p:pic>
    </p:spTree>
  </p:cSld>
  <p:transition>
    <p:push dir="r"/>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path" presetID="0">
                                  <p:stCondLst>
                                    <p:cond delay="0"/>
                                  </p:stCondLst>
                                  <p:childTnLst>
                                    <p:animMotion origin="layout" path="M -0.00868 0.06613 C -0.03056 0.04902 -0.05469 0.03861 -0.07847 0.02821 C -0.08715 0.02034 -0.09323 0.02196 -0.10399 0.01965 C -0.10937 0.01849 -0.11979 0.01549 -0.11979 0.01572 C -0.14375 -0.00093 -0.16962 -0.00116 -0.19601 -0.00601 C -0.23906 -0.02821 -0.28351 -0.04786 -0.32622 -0.07122 C -0.33437 -0.07584 -0.3526 -0.08925 -0.35955 -0.09665 C -0.36302 -0.10035 -0.3651 -0.10659 -0.3691 -0.10937 C -0.39271 -0.12532 -0.41806 -0.13665 -0.44201 -0.15145 C -0.44809 -0.15515 -0.45347 -0.1607 -0.45955 -0.16416 C -0.46354 -0.16648 -0.46806 -0.16694 -0.47222 -0.16856 C -0.47951 -0.17156 -0.48437 -0.17757 -0.49132 -0.18104 C -0.5033 -0.18705 -0.5158 -0.19214 -0.52778 -0.19815 C -0.53524 -0.20208 -0.54045 -0.20994 -0.54687 -0.21503 C -0.56319 -0.22844 -0.58142 -0.23861 -0.59757 -0.25295 C -0.60295 -0.27561 -0.5967 -0.30104 -0.59132 -0.32278 C -0.59097 -0.32416 -0.58628 -0.33272 -0.5849 -0.33341 C -0.58194 -0.33549 -0.57535 -0.33781 -0.57535 -0.33757 C -0.56615 -0.34567 -0.5559 -0.3496 -0.54514 -0.35237 C -0.54757 -0.3348 -0.55278 -0.31746 -0.55955 -0.30174 C -0.56319 -0.29341 -0.56163 -0.29387 -0.5658 -0.28694 C -0.56615 -0.28648 -0.57326 -0.27792 -0.57222 -0.2763 C -0.57066 -0.27445 -0.56788 -0.27792 -0.5658 -0.27838 C -0.55399 -0.28786 -0.54358 -0.29318 -0.53733 -0.31006 C -0.53299 -0.33411 -0.5191 -0.33526 -0.50399 -0.34174 C -0.50295 -0.34058 -0.50069 -0.33966 -0.50069 -0.33781 C -0.50069 -0.33549 -0.50312 -0.33526 -0.50399 -0.33341 C -0.50486 -0.33179 -0.50486 -0.32925 -0.50556 -0.32694 C -0.50799 -0.31931 -0.51076 -0.31561 -0.5151 -0.31006 C -0.51944 -0.29272 -0.51337 -0.31399 -0.51979 -0.29942 C -0.52292 -0.29249 -0.52257 -0.28532 -0.52622 -0.27838 C -0.53038 -0.24971 -0.52187 -0.26174 -0.49444 -0.26359 C -0.48837 -0.26937 -0.48229 -0.27376 -0.47691 -0.2807 C -0.47535 -0.28671 -0.47326 -0.29295 -0.47222 -0.29942 C -0.4717 -0.30312 -0.46875 -0.30752 -0.47066 -0.31006 C -0.47222 -0.31237 -0.47396 -0.30636 -0.47535 -0.30382 C -0.47951 -0.29734 -0.48281 -0.28671 -0.4849 -0.27838 C -0.48264 -0.24994 -0.4842 -0.2548 -0.46111 -0.25757 C -0.44774 -0.26335 -0.44149 -0.27075 -0.43247 -0.28463 C -0.42153 -0.30151 -0.4125 -0.31838 -0.40712 -0.33966 C -0.41233 -0.35075 -0.41528 -0.34983 -0.42292 -0.35653 C -0.43889 -0.35145 -0.43681 -0.33226 -0.44201 -0.31445 C -0.44497 -0.28301 -0.45712 -0.24255 -0.42622 -0.23422 C -0.41667 -0.23538 -0.40712 -0.2363 -0.39757 -0.23815 C -0.39323 -0.23908 -0.3849 -0.24278 -0.3849 -0.24255 C -0.37326 -0.25272 -0.36128 -0.26081 -0.35156 -0.27445 C -0.34722 -0.29156 -0.34132 -0.29781 -0.35156 -0.31861 C -0.35434 -0.33318 -0.35052 -0.3348 -0.36267 -0.33133 C -0.3684 -0.32347 -0.37465 -0.30636 -0.37691 -0.29526 C -0.38108 -0.27515 -0.3776 -0.2837 -0.38333 -0.27214 C -0.38594 -0.26197 -0.38802 -0.25295 -0.38958 -0.24278 C -0.38906 -0.23908 -0.38941 -0.23515 -0.38802 -0.23191 C -0.38437 -0.22335 -0.36979 -0.22243 -0.36424 -0.22127 C -0.34948 -0.21387 -0.34167 -0.21549 -0.32465 -0.21734 C -0.32309 -0.2185 -0.32153 -0.22035 -0.31979 -0.22127 C -0.31788 -0.22266 -0.31545 -0.2222 -0.31354 -0.22335 C -0.30642 -0.22844 -0.30139 -0.23954 -0.29601 -0.24671 C -0.2934 -0.25711 -0.29497 -0.25827 -0.30243 -0.26151 C -0.31319 -0.27122 -0.30816 -0.27168 -0.31667 -0.26775 C -0.31823 -0.26497 -0.31997 -0.26266 -0.32135 -0.25966 C -0.32378 -0.25411 -0.32778 -0.24278 -0.32778 -0.24255 C -0.33125 -0.22335 -0.32951 -0.23122 -0.33247 -0.21942 C -0.33194 -0.21503 -0.33281 -0.20994 -0.3309 -0.20648 C -0.32517 -0.19584 -0.31111 -0.19168 -0.30243 -0.18775 C -0.2934 -0.18914 -0.28837 -0.19214 -0.28021 -0.19584 C -0.27674 -0.19931 -0.27222 -0.20046 -0.2691 -0.2044 C -0.26788 -0.20601 -0.26823 -0.20902 -0.26736 -0.21087 C -0.26615 -0.21318 -0.26389 -0.21457 -0.26267 -0.21734 C -0.25903 -0.22405 -0.25937 -0.23029 -0.25469 -0.23607 C -0.25312 -0.24301 -0.24705 -0.25411 -0.24201 -0.25757 C -0.23906 -0.25966 -0.23247 -0.26151 -0.23247 -0.26127 C -0.23038 -0.26081 -0.22778 -0.26151 -0.22622 -0.25966 C -0.22465 -0.25757 -0.225 -0.25411 -0.22465 -0.2511 C -0.22396 -0.24463 -0.22344 -0.23815 -0.22292 -0.23191 C -0.22812 -0.2296 -0.23403 -0.23122 -0.23889 -0.22798 C -0.24045 -0.22682 -0.23976 -0.22335 -0.24045 -0.22127 C -0.24132 -0.21896 -0.24253 -0.21734 -0.24358 -0.21503 C -0.24618 -0.2044 -0.24931 -0.18983 -0.24514 -0.17919 C -0.24444 -0.17734 -0.24201 -0.17757 -0.24045 -0.17711 C -0.23403 -0.17757 -0.2276 -0.17781 -0.22135 -0.17919 C -0.21615 -0.18012 -0.21215 -0.18544 -0.20712 -0.18775 C -0.19427 -0.2 -0.20052 -0.197 -0.18958 -0.20023 C -0.18229 -0.2148 -0.17917 -0.23237 -0.17535 -0.24902 C -0.17639 -0.26867 -0.17674 -0.28856 -0.17847 -0.30798 C -0.18038 -0.33018 -0.18958 -0.34937 -0.19601 -0.36948 C -0.20312 -0.39145 -0.20868 -0.41249 -0.22135 -0.43052 C -0.23247 -0.44671 -0.24722 -0.45041 -0.26111 -0.46012 C -0.27899 -0.47283 -0.29497 -0.48925 -0.3151 -0.49434 C -0.34531 -0.49041 -0.35885 -0.47584 -0.38021 -0.4474 C -0.39184 -0.40694 -0.39497 -0.38405 -0.38646 -0.33781 C -0.3842 -0.32486 -0.37535 -0.30428 -0.36424 -0.29942 C -0.35712 -0.29619 -0.34948 -0.29665 -0.34201 -0.29526 C -0.28472 -0.30289 -0.20017 -0.32278 -0.15799 -0.37989 C -0.1533 -0.39422 -0.15035 -0.40694 -0.14844 -0.4222 C -0.15122 -0.46659 -0.14618 -0.43561 -0.15312 -0.45387 C -0.15382 -0.45596 -0.1533 -0.45873 -0.15469 -0.46012 C -0.15747 -0.46289 -0.16111 -0.46312 -0.16424 -0.46451 C -0.18542 -0.48463 -0.21059 -0.49873 -0.23576 -0.50659 C -0.25052 -0.50613 -0.26562 -0.50844 -0.28021 -0.50474 C -0.29913 -0.49989 -0.3158 -0.48116 -0.3309 -0.46659 C -0.33872 -0.44786 -0.34167 -0.43653 -0.34358 -0.41572 C -0.34149 -0.36948 -0.33767 -0.35792 -0.30556 -0.33341 C -0.23611 -0.28046 -0.2 -0.27052 -0.12135 -0.26775 C -0.09427 -0.27307 -0.08663 -0.26636 -0.07066 -0.29526 C -0.06667 -0.30289 -0.06528 -0.31237 -0.06267 -0.32093 C -0.05556 -0.38266 -0.06701 -0.46151 -0.11823 -0.47931 C -0.19618 -0.45619 -0.26319 -0.40578 -0.32292 -0.33549 C -0.32448 -0.33064 -0.33056 -0.32463 -0.32778 -0.32093 C -0.32448 -0.31607 -0.31753 -0.31954 -0.31354 -0.32278 C -0.30174 -0.33272 -0.29045 -0.34405 -0.28177 -0.35861 C -0.26944 -0.37942 -0.26163 -0.40393 -0.25156 -0.42636 C -0.24687 -0.45133 -0.23837 -0.47492 -0.23733 -0.50035 C -0.23281 -0.60694 -0.24844 -0.65411 -0.28802 -0.7496 C -0.33142 -0.8548 -0.36719 -0.91492 -0.45469 -0.94428 C -0.46736 -0.92208 -0.47118 -0.92023 -0.47066 -0.88301 C -0.4691 -0.7785 -0.47448 -0.69156 -0.40069 -0.64 C -0.38594 -0.6296 -0.36892 -0.62567 -0.35312 -0.61873 C -0.29115 -0.63769 -0.27622 -0.61734 -0.25469 -0.68856 C -0.25069 -0.70174 -0.25156 -0.71677 -0.25 -0.7311 C -0.25556 -0.76093 -0.25226 -0.76324 -0.28021 -0.7096 C -0.32535 -0.62312 -0.34306 -0.56694 -0.37847 -0.47307 C -0.38628 -0.40416 -0.40382 -0.32116 -0.38958 -0.24902 C -0.38247 -0.21249 -0.37934 -0.21364 -0.36424 -0.20879 C -0.34948 -0.24139 -0.32882 -0.28532 -0.32135 -0.31861 C -0.31372 -0.35283 -0.31285 -0.38937 -0.30868 -0.42428 C -0.31285 -0.47445 -0.31528 -0.52486 -0.32135 -0.57434 C -0.32187 -0.57942 -0.32986 -0.58729 -0.34844 -0.55353 C -0.38264 -0.49064 -0.38108 -0.47445 -0.39913 -0.39885 C -0.39861 -0.38405 -0.40399 -0.34729 -0.38802 -0.33549 C -0.38559 -0.33364 -0.38281 -0.3385 -0.38021 -0.33966 C -0.36354 -0.3785 -0.34566 -0.41249 -0.34358 -0.46012 C -0.34201 -0.4948 -0.35 -0.52925 -0.35312 -0.5637 C -0.37083 -0.46636 -0.3658 -0.51237 -0.37066 -0.42636 C -0.36615 -0.40971 -0.36337 -0.38266 -0.34844 -0.37364 C -0.34497 -0.37133 -0.34097 -0.37526 -0.33733 -0.37572 C -0.33142 -0.38127 -0.32396 -0.38474 -0.31979 -0.3926 C -0.30642 -0.41781 -0.30677 -0.43653 -0.30399 -0.46451 C -0.30608 -0.4807 -0.30399 -0.48601 -0.31823 -0.4622 C -0.33698 -0.43052 -0.33576 -0.42682 -0.34514 -0.39052 C -0.34462 -0.3822 -0.34427 -0.37364 -0.34358 -0.36509 C -0.34323 -0.36231 -0.3441 -0.3563 -0.34201 -0.35653 C -0.33872 -0.35769 -0.33785 -0.3637 -0.33576 -0.36717 C -0.33385 -0.40624 -0.33333 -0.4689 -0.36267 -0.49434 C -0.37205 -0.5022 -0.3849 -0.49711 -0.39601 -0.4985 C -0.4092 -0.49341 -0.42413 -0.49318 -0.43576 -0.48347 C -0.46458 -0.45966 -0.46927 -0.43353 -0.48177 -0.39677 C -0.48125 -0.38359 -0.48611 -0.3674 -0.48021 -0.35653 C -0.47708 -0.35075 -0.47031 -0.36301 -0.4658 -0.36717 C -0.44028 -0.39168 -0.4276 -0.42174 -0.40868 -0.45387 C -0.41198 -0.43561 -0.4158 -0.41966 -0.40399 -0.39885 C -0.40069 -0.39307 -0.39444 -0.40601 -0.38958 -0.40971 C -0.36424 -0.44948 -0.35139 -0.46012 -0.34358 -0.51746 C -0.34184 -0.53018 -0.34687 -0.54266 -0.34844 -0.55538 C -0.37448 -0.5207 -0.39809 -0.46867 -0.4151 -0.42636 C -0.42049 -0.41295 -0.42691 -0.39954 -0.42778 -0.38405 C -0.42812 -0.37781 -0.42031 -0.3926 -0.41667 -0.39677 C -0.41354 -0.4074 -0.40955 -0.41757 -0.40712 -0.42844 C -0.4059 -0.43376 -0.40312 -0.4407 -0.40556 -0.44555 C -0.40729 -0.44856 -0.41024 -0.44023 -0.41181 -0.437 C -0.41719 -0.42544 -0.42101 -0.41272 -0.42622 -0.40116 C -0.45816 -0.32902 -0.43993 -0.38174 -0.45955 -0.31861 C -0.45903 -0.30729 -0.46267 -0.29434 -0.45799 -0.28463 C -0.45556 -0.28 -0.45017 -0.28948 -0.44687 -0.29318 C -0.44201 -0.29873 -0.43837 -0.30613 -0.43403 -0.31237 C -0.43403 -0.3126 -0.42066 -0.34613 -0.42465 -0.35237 C -0.42674 -0.35584 -0.4309 -0.3496 -0.43403 -0.34821 C -0.4526 -0.32116 -0.45347 -0.31769 -0.45625 -0.28278 C -0.45347 -0.27168 -0.45573 -0.27445 -0.44514 -0.28694 C -0.43715 -0.29665 -0.4283 -0.30544 -0.42135 -0.31653 C -0.41354 -0.32902 -0.40712 -0.34289 -0.40069 -0.35653 C -0.39913 -0.35977 -0.39757 -0.36717 -0.39757 -0.36694 C -0.4 -0.33642 -0.40764 -0.30451 -0.38958 -0.2807 C -0.35885 -0.33203 -0.35521 -0.35931 -0.35 -0.42428 C -0.35104 -0.43422 -0.34601 -0.45087 -0.35312 -0.45387 C -0.36024 -0.45711 -0.36476 -0.44093 -0.3691 -0.43283 C -0.37812 -0.41549 -0.3849 -0.39607 -0.39288 -0.37804 C -0.39809 -0.35353 -0.40174 -0.32833 -0.40712 -0.30382 C -0.41406 -0.27214 -0.42257 -0.24347 -0.42778 -0.21087 C -0.42726 -0.20301 -0.42865 -0.18382 -0.41979 -0.17919 C -0.41684 -0.17734 -0.41337 -0.18035 -0.41024 -0.18104 C -0.38733 -0.20046 -0.37865 -0.21757 -0.3658 -0.24902 C -0.36528 -0.25457 -0.36007 -0.26659 -0.36424 -0.2659 C -0.37187 -0.26405 -0.38177 -0.22613 -0.38333 -0.22127 C -0.38385 -0.21572 -0.3849 -0.21018 -0.3849 -0.2044 C -0.3849 -0.20255 -0.3849 -0.19815 -0.38333 -0.19815 C -0.38073 -0.19815 -0.37917 -0.20278 -0.37691 -0.2044 C -0.33819 -0.237 -0.36319 -0.20925 -0.32292 -0.2659 C -0.31875 -0.27838 -0.31267 -0.29018 -0.31024 -0.30382 C -0.3033 -0.34335 -0.31024 -0.33087 -0.31667 -0.32278 C -0.32569 -0.28624 -0.32431 -0.25781 -0.32135 -0.21942 C -0.28976 -0.22867 -0.28229 -0.24971 -0.26736 -0.28463 C -0.26667 -0.29295 -0.26146 -0.31584 -0.27378 -0.29318 C -0.29583 -0.25249 -0.29687 -0.24139 -0.31181 -0.19399 C -0.31337 -0.17989 -0.31632 -0.16578 -0.31667 -0.15145 C -0.31684 -0.14636 -0.31736 -0.13757 -0.31354 -0.13688 C -0.30816 -0.13526 -0.30365 -0.14335 -0.29913 -0.14752 C -0.28681 -0.15815 -0.27396 -0.16856 -0.26267 -0.18104 C -0.2158 -0.23376 -0.22413 -0.2259 -0.19757 -0.28925 C -0.19653 -0.29827 -0.18767 -0.31838 -0.19444 -0.31653 C -0.2026 -0.31468 -0.2026 -0.29734 -0.20556 -0.28694 C -0.21042 -0.27029 -0.21406 -0.25295 -0.21823 -0.23607 C -0.21771 -0.22127 -0.22274 -0.20416 -0.21667 -0.19168 C -0.21372 -0.18567 -0.20729 -0.20046 -0.20399 -0.20648 C -0.19983 -0.21434 -0.19757 -0.22335 -0.19444 -0.23191 C -0.1934 -0.24185 -0.19167 -0.25179 -0.19132 -0.26151 C -0.19115 -0.26544 -0.1908 -0.27468 -0.19288 -0.27214 C -0.20382 -0.26081 -0.21753 -0.21503 -0.22135 -0.20255 C -0.22344 -0.19538 -0.23177 -0.18104 -0.22622 -0.18104 C -0.21979 -0.18104 -0.2184 -0.19492 -0.2151 -0.20255 C -0.21094 -0.21179 -0.20764 -0.2222 -0.20399 -0.23191 C -0.20312 -0.24 -0.19722 -0.27885 -0.20243 -0.28925 C -0.20417 -0.29249 -0.20764 -0.28463 -0.21024 -0.28278 C -0.23038 -0.2407 -0.24792 -0.2037 -0.25312 -0.15399 C -0.25052 -0.1533 -0.24722 -0.14914 -0.24514 -0.15145 C -0.23542 -0.16255 -0.22378 -0.20324 -0.21979 -0.21503 C -0.21927 -0.22335 -0.21562 -0.2326 -0.21823 -0.24046 C -0.21962 -0.2444 -0.22326 -0.23422 -0.22465 -0.22983 C -0.22917 -0.21642 -0.23212 -0.20162 -0.23576 -0.18775 C -0.23628 -0.17711 -0.23958 -0.16601 -0.23733 -0.15607 C -0.23663 -0.15237 -0.23194 -0.15677 -0.22934 -0.15792 C -0.16233 -0.19376 -0.17812 -0.18428 -0.12465 -0.22567 C -0.12031 -0.2333 -0.11406 -0.23977 -0.11181 -0.24902 C -0.10486 -0.27792 -0.12118 -0.26266 -0.12465 -0.25757 C -0.14896 -0.22174 -0.16962 -0.17804 -0.1849 -0.13457 C -0.19462 -0.10729 -0.19635 -0.11052 -0.18177 -0.11376 C -0.16649 -0.13942 -0.14167 -0.17757 -0.13403 -0.20879 C -0.13021 -0.22405 -0.13299 -0.24116 -0.13247 -0.25757 C -0.13299 -0.26151 -0.13125 -0.27191 -0.13403 -0.26983 C -0.14583 -0.26197 -0.14497 -0.20902 -0.14514 -0.20648 C -0.14306 -0.19168 -0.14271 -0.17642 -0.13889 -0.16231 C -0.13819 -0.15954 -0.13437 -0.15885 -0.13247 -0.16 C -0.1191 -0.16948 -0.10712 -0.18266 -0.09444 -0.19399 C -0.06406 -0.22081 -0.05365 -0.25503 -0.03576 -0.29526 C -0.03264 -0.31237 -0.02726 -0.32902 -0.02622 -0.34636 C -0.02569 -0.35492 -0.02552 -0.36648 -0.0309 -0.37133 C -0.03472 -0.37457 -0.03767 -0.36347 -0.04045 -0.35861 C -0.04931 -0.34428 -0.05833 -0.32994 -0.0658 -0.31445 C -0.0809 -0.28324 -0.10052 -0.23515 -0.11024 -0.19815 C -0.11285 -0.18867 -0.12274 -0.16856 -0.1151 -0.16856 C -0.10625 -0.16856 -0.10451 -0.18775 -0.10069 -0.19815 C -0.09323 -0.21966 -0.08802 -0.24185 -0.08177 -0.26359 C -0.075 -0.3133 -0.05937 -0.3889 -0.07691 -0.43908 C -0.08073 -0.45018 -0.08889 -0.42035 -0.09288 -0.40971 C -0.11684 -0.34359 -0.11719 -0.32093 -0.12934 -0.24902 C -0.13038 -0.22914 -0.13247 -0.20948 -0.13247 -0.1896 C -0.13247 -0.18197 -0.13524 -0.16509 -0.12934 -0.16624 C -0.12118 -0.16856 -0.11927 -0.18405 -0.1151 -0.19399 C -0.07309 -0.28948 -0.0849 -0.26151 -0.05799 -0.37133 C -0.05694 -0.39468 -0.05399 -0.41781 -0.05469 -0.44139 C -0.05503 -0.45018 -0.05434 -0.4659 -0.06111 -0.46659 C -0.06927 -0.46729 -0.07396 -0.45226 -0.07847 -0.44324 C -0.10295 -0.39468 -0.11476 -0.35283 -0.13247 -0.29942 C -0.1349 -0.27283 -0.14566 -0.22174 -0.13403 -0.19168 C -0.11424 -0.21873 -0.11372 -0.25179 -0.11024 -0.28694 C -0.11146 -0.30012 -0.11007 -0.33041 -0.11979 -0.33549 C -0.12205 -0.33665 -0.12413 -0.33272 -0.12622 -0.33133 C -0.14149 -0.30174 -0.15347 -0.27445 -0.16267 -0.24046 C -0.16059 -0.237 -0.15955 -0.22867 -0.15625 -0.22983 C -0.13906 -0.23723 -0.11667 -0.29203 -0.11181 -0.30174 C -0.10538 -0.3385 -0.07986 -0.4363 -0.12778 -0.44555 C -0.14462 -0.42289 -0.14913 -0.39954 -0.15469 -0.36948 C -0.15365 -0.35861 -0.15937 -0.33526 -0.15156 -0.33781 C -0.13559 -0.34266 -0.1184 -0.40717 -0.11354 -0.4222 C -0.11111 -0.47399 -0.10833 -0.49757 -0.15469 -0.4474 C -0.19705 -0.40185 -0.20556 -0.37665 -0.23576 -0.31861 C -0.23681 -0.3096 -0.24288 -0.2837 -0.23889 -0.2911 C -0.2191 -0.32856 -0.22396 -0.36648 -0.22292 -0.40971 C -0.22656 -0.42983 -0.2276 -0.45156 -0.23403 -0.47098 C -0.2375 -0.48162 -0.24306 -0.49781 -0.25156 -0.49619 C -0.26788 -0.49318 -0.27917 -0.47237 -0.29288 -0.46012 C -0.32569 -0.40185 -0.3342 -0.3963 -0.35156 -0.32278 C -0.36441 -0.26844 -0.3559 -0.28347 -0.34687 -0.29526 C -0.34045 -0.3163 -0.33142 -0.33642 -0.32778 -0.35861 C -0.32309 -0.38705 -0.32014 -0.49203 -0.32622 -0.52162 C -0.32969 -0.53804 -0.34097 -0.5496 -0.34844 -0.5637 C -0.40208 -0.53041 -0.41111 -0.53781 -0.44201 -0.46867 C -0.4474 -0.45665 -0.4474 -0.44185 -0.45 -0.42844 C -0.44687 -0.42567 -0.4434 -0.41688 -0.44045 -0.42012 C -0.42986 -0.43122 -0.39896 -0.50705 -0.39444 -0.51746 C -0.39236 -0.53203 -0.38854 -0.54659 -0.38802 -0.56185 C -0.38802 -0.56416 -0.39184 -0.56809 -0.39288 -0.56578 C -0.40035 -0.55191 -0.40486 -0.53503 -0.41024 -0.51931 C -0.41858 -0.49457 -0.42604 -0.46867 -0.43403 -0.44324 C -0.43559 -0.41919 -0.43976 -0.39538 -0.43889 -0.37133 C -0.43854 -0.36278 -0.43698 -0.34544 -0.4309 -0.34821 C -0.41354 -0.35653 -0.40226 -0.37942 -0.38802 -0.39468 C -0.3783 -0.42798 -0.35226 -0.48902 -0.36424 -0.53018 C -0.40486 -0.48925 -0.43611 -0.4333 -0.47691 -0.3926 C -0.49167 -0.37804 -0.50677 -0.3637 -0.52135 -0.34821 C -0.52378 -0.34567 -0.5283 -0.33572 -0.52778 -0.33966 C -0.52587 -0.35214 -0.49253 -0.40555 -0.52135 -0.38613 C -0.53142 -0.37087 -0.54097 -0.35492 -0.55156 -0.33966 C -0.56649 -0.31861 -0.58281 -0.29966 -0.59757 -0.27838 C -0.60191 -0.27214 -0.61319 -0.25156 -0.60868 -0.25757 C -0.59601 -0.27445 -0.58264 -0.29018 -0.57066 -0.30798 C -0.56875 -0.31075 -0.5066 -0.42497 -0.53247 -0.36093 C -0.5375 -0.34867 -0.5434 -0.33711 -0.54844 -0.32486 C -0.55087 -0.31885 -0.55243 -0.31237 -0.55469 -0.30613 C -0.5559 -0.30243 -0.55312 -0.3133 -0.55156 -0.31653 C -0.54566 -0.32902 -0.53924 -0.34104 -0.53247 -0.35237 C -0.52691 -0.36208 -0.51997 -0.36971 -0.5151 -0.37989 C -0.51389 -0.38243 -0.52309 -0.37364 -0.52135 -0.37572 C -0.50851 -0.39122 -0.49497 -0.40532 -0.48177 -0.42012 C -0.48056 -0.42151 -0.47708 -0.42544 -0.47847 -0.42428 C -0.49288 -0.41341 -0.50694 -0.40162 -0.52135 -0.39052 C -0.53507 -0.37989 -0.54844 -0.36786 -0.56267 -0.35861 C -0.56476 -0.35723 -0.5691 -0.35122 -0.5691 -0.35445 C -0.5691 -0.35792 -0.56476 -0.35861 -0.56267 -0.36093 C -0.53872 -0.3889 -0.55226 -0.37827 -0.53403 -0.39052 C -0.54375 -0.37526 -0.54236 -0.37873 -0.55 -0.35861 C -0.55069 -0.35677 -0.55069 -0.35422 -0.55156 -0.35237 C -0.55278 -0.34983 -0.55816 -0.34497 -0.55625 -0.34636 C -0.5316 -0.36231 -0.50764 -0.37989 -0.48333 -0.39677 C -0.47639 -0.40162 -0.46267 -0.41156 -0.46267 -0.41133 C -0.4901 -0.42405 -0.46528 -0.41457 -0.52934 -0.36509 C -0.54462 -0.35353 -0.56684 -0.33272 -0.5849 -0.32694 C -0.61059 -0.31861 -0.53646 -0.35492 -0.51181 -0.36717 C -0.50608 -0.36994 -0.50035 -0.37318 -0.49444 -0.37572 C -0.49236 -0.37665 -0.48594 -0.37873 -0.48802 -0.37804 C -0.49861 -0.37364 -0.5092 -0.36948 -0.51979 -0.36509 C -0.51302 -0.3711 -0.46684 -0.42266 -0.55469 -0.33341 C -0.57483 -0.31307 -0.59601 -0.29457 -0.6151 -0.27214 C -0.65486 -0.22613 -0.68472 -0.18312 -0.70868 -0.11977 C -0.7191 -0.09249 -0.72448 -0.0622 -0.73247 -0.0333 C -0.7342 -0.00393 -0.74167 0.06266 -0.73403 0.0978 C -0.72656 0.13271 -0.68559 0.13688 -0.66424 0.15075 C -0.60156 0.19075 -0.53733 0.23468 -0.4691 0.25641 C -0.45712 0.26011 -0.44462 0.25873 -0.43247 0.26034 C -0.4033 0.25665 -0.37431 0.25549 -0.34514 0.25202 C -0.33576 0.24254 -0.32708 0.23283 -0.31667 0.22474 C -0.30486 0.21549 -0.29427 0.20855 -0.28646 0.19306 C -0.28924 0.15884 -0.30521 0.12647 -0.32778 0.10844 C -0.33889 0.09942 -0.35156 0.09364 -0.36267 0.08508 C -0.36667 0.08208 -0.36979 0.07769 -0.37378 0.07468 C -0.40486 0.05225 -0.39201 0.06404 -0.41667 0.04925 C -0.43073 0.04069 -0.44097 0.03283 -0.45625 0.03006 C -0.47135 0.02381 -0.48715 0.0215 -0.50243 0.01549 C -0.5099 0.01248 -0.52465 0.00693 -0.52465 0.00717 C -0.51111 -0.00023 -0.49983 -0.00023 -0.4849 -0.00162 C -0.4408 -0.0007 -0.39184 -0.01318 -0.35156 0.01757 C -0.34028 0.02613 -0.32934 0.03584 -0.31823 0.04508 C -0.30278 0.05826 -0.30694 0.0541 -0.29601 0.06821 C -0.29549 0.07098 -0.29358 0.07399 -0.29444 0.07676 C -0.29497 0.07884 -0.29757 0.07792 -0.29913 0.07884 C -0.31076 0.08647 -0.29497 0.08115 -0.3151 0.08508 C -0.34479 0.08115 -0.37448 0.07861 -0.40399 0.0726 C -0.43646 0.06613 -0.46649 0.04185 -0.49757 0.02821 C -0.4901 0.0178 -0.49948 0.02936 -0.48958 0.0215 C -0.48576 0.01849 -0.48247 0.0141 -0.47847 0.01133 C -0.46233 -0.000229999999999999 -0.4441 -0.00278 -0.42622 -0.00601 C -0.40556 -0.00509 -0.3849 -0.00601 -0.36424 -0.0037 C -0.35503 -0.00231 -0.3434 0.00601 -0.33403 0.00902 C -0.32396 0.02266 -0.31233 0.03006 -0.30069 0.04092 C -0.26684 0.07237 -0.23056 0.09271 -0.18958 0.10196 C -0.15625 0.1015 -0.12292 0.10196 -0.08958 0.10011 C -0.08455 0.09988 -0.08038 0.09456 -0.07535 0.09341 C -0.06476 0.09156 -0.04861 0.0904 -0.03889 0.08948 C -0.02135 0.0837 -0.0316 0.08763 -0.01667 0.08092 C -0.01354 0.0793 -0.00712 0.07676 -0.00712 0.07699 C -0.00503 0.06867 -0.00434 0.07214 -0.00868 0.06613 Z">
                                      <p:cBhvr>
                                        <p:cTn id="39" dur="5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th Penalties and Guilty Pleaded Penalty</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death penalties were being hung on the gallows till you died, being squished between a pile of rocks and the ground, and drowning with a big stone tided  to your ne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uilty pleaded penalty was to go to jail and stay there the rest of your life.</a:t>
            </a:r>
            <a:endParaRPr b="0" lang="en-US" sz="32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To go to jail till you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people become accus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Some Girls claimed to be tormented by wit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not-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Death Pena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trials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unfair judgment </a:t>
            </a:r>
            <a:endParaRPr b="0" lang="en-US" sz="32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05:48Z</dcterms:created>
  <dc:creator>ath</dc:creator>
  <dc:description/>
  <dc:language>en-US</dc:language>
  <cp:lastModifiedBy>Mark Pazol</cp:lastModifiedBy>
  <dcterms:modified xsi:type="dcterms:W3CDTF">2008-11-25T12:36:21Z</dcterms:modified>
  <cp:revision>56</cp:revision>
  <dc:subject/>
  <dc:title>Salem Witch Trials</dc:title>
</cp:coreProperties>
</file>